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camera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F3D75-8C39-497D-98EF-8B0064A19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C89CA-FB77-4FA0-8CE0-67442CC9B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A5D50-8949-42CF-B7B9-3FC20BB3F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64A1E-ABC4-4923-B274-C645722F3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E6BE4-6681-4A9D-B652-ACE4FA33E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84761-869A-4CC2-871A-CAA6668A8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C27C8-A10B-420D-A734-ACAB2B52D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16340-D352-4BC5-B839-8FB50F12C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1D9F2-56DF-4422-854B-A9399C1BB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5B658-5400-4293-A7FC-51095736E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6BE62-E2B7-4504-92FB-84C912214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FD527-9558-4960-A610-DC7D48722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0A505-FF7A-4D8E-B418-9ED069644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4BC4B-D6D1-4F2F-ACA3-E766514EF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CE3DC-D4FE-46D9-AE7A-1EA399616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14FDB-F03D-4E91-8113-DCFE85DD0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3914E-5CF0-4D5D-A341-AA26AE3BC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15772-C749-4199-82C0-FB4E8D90D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B822B-048C-4ECD-B1AB-A59ABE675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0AF7D-8C93-45E4-9499-6D49D3905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86F26-E04E-4F65-8484-2C9AB771E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E0959-2A99-4EE3-9F1F-76D38ACD9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265D2-E6E9-4C29-817F-97AC84A96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36B55-3894-4977-AEBD-316C76C02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DF620-B9B7-4DC4-AF4C-A698C2F0156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2ECD5-DC84-4DB9-B4CC-80BDA941C8E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3348000" y="2133720"/>
            <a:ext cx="287964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География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2771640" y="3789360"/>
            <a:ext cx="3468960" cy="63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Население мира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852160" y="5877000"/>
            <a:ext cx="305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gency FB"/>
              </a:rPr>
              <a:t>Выполнила Выходцева 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6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16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6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6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3000"/>
                            </p:stCondLst>
                            <p:childTnLst>
                              <p:par>
                                <p:cTn id="2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324000" y="26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3600" spc="-1" strike="noStrike">
                <a:solidFill>
                  <a:srgbClr val="c2310a"/>
                </a:solidFill>
                <a:latin typeface="Arial"/>
              </a:rPr>
              <a:t>Средний мировой показатель естественного прироста составляет 17 </a:t>
            </a:r>
            <a:r>
              <a:rPr b="0" i="1" lang="en-US" sz="3600" spc="-1" strike="noStrike">
                <a:solidFill>
                  <a:srgbClr val="c2310a"/>
                </a:solidFill>
                <a:latin typeface="Arial"/>
                <a:ea typeface="Arial"/>
              </a:rPr>
              <a:t>‰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24000" y="333360"/>
            <a:ext cx="8300880" cy="62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Таблица естественного прирост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1187280" y="1341360"/>
          <a:ext cx="6504120" cy="4213440"/>
        </p:xfrm>
        <a:graphic>
          <a:graphicData uri="http://schemas.openxmlformats.org/drawingml/2006/table">
            <a:tbl>
              <a:tblPr/>
              <a:tblGrid>
                <a:gridCol w="1248120"/>
                <a:gridCol w="1368360"/>
                <a:gridCol w="1295280"/>
                <a:gridCol w="1224000"/>
                <a:gridCol w="1368360"/>
              </a:tblGrid>
              <a:tr h="101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чень высокий ЕП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ысокий ЕП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редний ЕП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изкий ЕП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чень низкий ЕП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-30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-20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-10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енее 2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фрик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фрика, Запад. Аз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апад. Азия, Латинс кая Америк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арубежная Европа, Сев. Америк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арубеж ная Европа, страны СНГ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игер, Кения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Эфиопия, Египет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итай, Индия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ения, США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Германия Россия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План: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)Численность населения</a:t>
            </a:r>
            <a:r>
              <a:rPr b="0" lang="kk-KZ" sz="2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)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селение мира</a:t>
            </a:r>
            <a:r>
              <a:rPr b="0" lang="kk-KZ" sz="2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3)Естественный прирост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2000"/>
                            </p:stCondLst>
                            <p:childTnLst>
                              <p:par>
                                <p:cTn id="39" nodeType="afterEffect" fill="hold" presetClass="entr" presetID="39">
                                  <p:stCondLst>
                                    <p:cond delay="0"/>
                                  </p:stCondLst>
                                  <p:iterate type="lt">
                                    <p:tmAbs val="17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6740"/>
                            </p:stCondLst>
                            <p:childTnLst>
                              <p:par>
                                <p:cTn id="46" nodeType="afterEffect" fill="hold" presetClass="entr" presetID="39">
                                  <p:stCondLst>
                                    <p:cond delay="0"/>
                                  </p:stCondLst>
                                  <p:iterate type="lt">
                                    <p:tmAbs val="17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0290"/>
                            </p:stCondLst>
                            <p:childTnLst>
                              <p:par>
                                <p:cTn id="53" nodeType="afterEffect" fill="hold" presetClass="entr" presetID="39">
                                  <p:stCondLst>
                                    <p:cond delay="0"/>
                                  </p:stCondLst>
                                  <p:iterate type="lt">
                                    <p:tmAbs val="17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324000" y="90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 1930 г. - общая численность населения земного шара составила 2 млрд. человек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 1962 г. – 3млрд., в 1976 г. – 4 млрд., то в 1999 г. достигла 6 млрд. человек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539640" y="981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Такое резкое увеличение численности называется </a:t>
            </a:r>
            <a:r>
              <a:rPr b="0" i="1" lang="en-US" sz="3200" spc="-1" strike="noStrike" u="sng">
                <a:solidFill>
                  <a:srgbClr val="ff00ff"/>
                </a:solidFill>
                <a:uFillTx/>
                <a:latin typeface="Arial"/>
              </a:rPr>
              <a:t>демографическим взрывом</a:t>
            </a:r>
            <a:r>
              <a:rPr b="0" lang="en-US" sz="3200" spc="-1" strike="noStrike" u="sng">
                <a:solidFill>
                  <a:srgbClr val="ff00ff"/>
                </a:solidFill>
                <a:uFillTx/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9" dur="2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Гиганты по численност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rot="18109800">
            <a:off x="1279080" y="2627640"/>
            <a:ext cx="1757160" cy="720720"/>
          </a:xfrm>
          <a:prstGeom prst="leftArrow">
            <a:avLst>
              <a:gd name="adj1" fmla="val 51843"/>
              <a:gd name="adj2" fmla="val 29686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851280" y="2205000"/>
            <a:ext cx="720720" cy="1655640"/>
          </a:xfrm>
          <a:prstGeom prst="downArrow">
            <a:avLst>
              <a:gd name="adj1" fmla="val 50000"/>
              <a:gd name="adj2" fmla="val 5743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rot="3535200">
            <a:off x="5644080" y="2656800"/>
            <a:ext cx="1765080" cy="649080"/>
          </a:xfrm>
          <a:prstGeom prst="rightArrow">
            <a:avLst>
              <a:gd name="adj1" fmla="val 50000"/>
              <a:gd name="adj2" fmla="val 67984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20200" y="4024440"/>
            <a:ext cx="8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Кита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635280" y="422100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Инд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516720" y="407664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Ш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26920" y="4508640"/>
            <a:ext cx="0" cy="936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59480" y="5465880"/>
            <a:ext cx="204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 млрд. 220 млн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челове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995640" y="4581360"/>
            <a:ext cx="0" cy="792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44560" y="5465880"/>
            <a:ext cx="190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 млрд. челове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877080" y="4508640"/>
            <a:ext cx="0" cy="865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426720" y="5392800"/>
            <a:ext cx="202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70 млн. челове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77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7" dur="77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9" dur="77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1" dur="77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2000"/>
                            </p:stCondLst>
                            <p:childTnLst>
                              <p:par>
                                <p:cTn id="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3000"/>
                            </p:stCondLst>
                            <p:childTnLst>
                              <p:par>
                                <p:cTn id="9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0"/>
                            </p:stCondLst>
                            <p:childTnLst>
                              <p:par>
                                <p:cTn id="10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6000"/>
                            </p:stCondLst>
                            <p:childTnLst>
                              <p:par>
                                <p:cTn id="10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8000"/>
                            </p:stCondLst>
                            <p:childTnLst>
                              <p:par>
                                <p:cTn id="11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9000"/>
                            </p:stCondLst>
                            <p:childTnLst>
                              <p:par>
                                <p:cTn id="11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2000"/>
                            </p:stCondLst>
                            <p:childTnLst>
                              <p:par>
                                <p:cTn id="12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4000"/>
                            </p:stCondLst>
                            <p:childTnLst>
                              <p:par>
                                <p:cTn id="1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5000"/>
                            </p:stCondLst>
                            <p:childTnLst>
                              <p:par>
                                <p:cTn id="13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5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7000"/>
                            </p:stCondLst>
                            <p:childTnLst>
                              <p:par>
                                <p:cTn id="1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9000"/>
                            </p:stCondLst>
                            <p:childTnLst>
                              <p:par>
                                <p:cTn id="14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3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324000" y="33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сновными параметрами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 характеристи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селения являетс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Рождаемость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Смертность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Естественный прирост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Воспроизводство населения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Младенческая смертност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000"/>
                            </p:stCondLst>
                            <p:childTnLst>
                              <p:par>
                                <p:cTn id="1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2000"/>
                            </p:stCondLst>
                            <p:childTnLst>
                              <p:par>
                                <p:cTn id="15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3000"/>
                            </p:stCondLst>
                            <p:childTnLst>
                              <p:par>
                                <p:cTn id="16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4000"/>
                            </p:stCondLst>
                            <p:childTnLst>
                              <p:par>
                                <p:cTn id="1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5000"/>
                            </p:stCondLst>
                            <p:childTnLst>
                              <p:par>
                                <p:cTn id="1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10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6000"/>
                            </p:stCondLst>
                            <p:childTnLst>
                              <p:par>
                                <p:cTn id="17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10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10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395280" y="476280"/>
            <a:ext cx="8462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Измеряется в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‰ (промилях) на 100 человек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ЕП – Р – С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Среди них часто применяется коэффициент рождаемости, коэффициент смертности, коэффициент младенческой смертност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6005520" y="2571840"/>
                <a:ext cx="1481040" cy="263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7e7ff"/>
                </a:solidFill>
                <a:latin typeface="Arial"/>
              </a:rPr>
              <a:t>Факторы естественного прироста</a:t>
            </a:r>
            <a:endParaRPr b="0" lang="en-US" sz="32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Уровень жизни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Материальные условия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Уровень здравоохранения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Питание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Условие труда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Условие быта люде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Структура населения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Половозрастная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Брачная 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324000" y="33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браз жизни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Городской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ельски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анятость женщин в общественном производств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циональные и религиозные традици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23T05:57:25Z</dcterms:created>
  <dc:creator>Учащийся 1</dc:creator>
  <dc:description/>
  <dc:language>en-US</dc:language>
  <cp:lastModifiedBy>User</cp:lastModifiedBy>
  <dcterms:modified xsi:type="dcterms:W3CDTF">2009-11-25T06:39:45Z</dcterms:modified>
  <cp:revision>10</cp:revision>
  <dc:subject/>
  <dc:title>Слайд 1</dc:title>
</cp:coreProperties>
</file>