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applause.wav" ContentType="audio/x-wav"/>
  <Override PartName="/ppt/media/image10.png" ContentType="image/png"/>
  <Override PartName="/ppt/media/image5.png" ContentType="image/png"/>
  <Override PartName="/ppt/media/whoosh.wav" ContentType="audio/x-wav"/>
  <Override PartName="/ppt/media/image4.png" ContentType="image/png"/>
  <Override PartName="/ppt/media/image3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1CC-A9DA-4901-9321-44FA0E3A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094-B516-4BFC-B490-CFE9E7E4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A18-8EC5-483C-863E-44BBCAA7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4A9-44A2-4A7A-BD96-128E1A2F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4213-913C-4554-A424-08984167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1340-5F62-417E-906D-D4349EC2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E792-D968-46BF-AFC8-F6A3881A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C0F3-F5EB-4ADB-8389-C956F4E7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A4E2-94BE-4998-ABED-9AEC18BA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974E-61B7-41F4-8D13-FA91CF73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9666-F177-4277-A6DD-00E22A6A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2FA-5CC2-4ACB-81E4-F71F5C74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ED5B-34D9-41F9-A1E5-C39B9CF3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6995-9CC8-4F9F-944E-028F420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3DD0-0BE0-4EBD-B807-DAD0F2AC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97ED-C14D-435D-B32D-A7EAE18C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95B9-5310-4C38-95B3-CF1B2AE7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19D4-CF9F-486C-87DE-4F16F013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AB38-7742-48AD-8803-5D002F61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EC1A2-2CE9-47FD-8BCC-1B35A742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DAD1-46EC-4F29-8E28-962473C6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8642-1607-4058-A49C-499C8745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1CD-764D-4374-B172-F726873E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AAE83-D3F6-4F7F-87D9-F9478FF6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8E97-3514-4721-8500-46EE27F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7FA3-83EC-4169-84E0-59638473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3474-32CE-4E5D-BBEF-89009090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A0B4-ED92-429F-99DD-221B9A35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A8AD-B014-40D8-BADA-4E6F74F3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FE35-5575-4D9A-BADB-0B085DB0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60B2-2FC4-4FE0-99A8-B2D04F1E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0076-77DF-4196-B52C-DF745CC8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9E8C-5A53-4A5C-9779-6BFC3379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764-35E7-4AB6-A6C6-FD114F9C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C2F6-FA98-4041-9956-9DE0C149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B096-B692-4B34-B413-1FD39F30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7D5F-7FF2-4DB4-B6FC-47DCA54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367A9-B5A0-40D5-8A90-4341707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D651-B8CB-41A2-9A43-301E16C2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531BD-5B7C-44B9-AB98-75B0CF4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9F70-B080-49A9-B936-0BA8CC9A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5B1E-C57D-43D1-8E9A-C9EDE496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1277E-F288-48B6-A0E5-73A81FB1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D25B0-BCC1-418E-946D-26D27610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7EB-D0D7-4E64-914C-B3520936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B048F-2223-4B9C-966E-FCCBFA19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A1EDE-39BF-4F41-8FB5-A32C9607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AFDD1-F664-4FAF-B05C-52F3A3CD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D08DE-192B-46E2-BE23-94AC6B0D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C0549-700F-4D73-B3A4-375147CE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63C94-924F-4981-B823-25A674BC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51C60-C4F2-4D4E-B035-513E073C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5F353-3D57-4E99-9927-367C061A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9CE6-372E-4DEE-A3E8-29152D7B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5172C-875A-41E1-8F86-7CFBBD40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BAD-50BC-410A-96C3-4E0E65AA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2AE0D-6F63-4B47-919A-C06DF78A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47269-7475-48C1-9683-6B7050D0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BB47-D456-4005-BB08-1FA65FEB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03D06-1EEE-4DB4-9057-578B29A2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FC8B8-E230-4C72-BEC0-80B4C1E6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E177D-8C96-4EC7-9C60-9F00D6D5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EA9E2-6C91-4B40-9BBC-C1D2C04F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A4BD1-40F6-4C34-BADB-B6DF6B3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B856D-C3E2-453F-9613-5FE439B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ED16E-0211-44F1-8AB9-2732173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6B2-0CB1-4943-A85B-82D89D8D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21309-3506-4BC0-83D2-71314C51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31598-1A56-4E5B-90F1-BA4729A3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0AB5-9BD6-439B-ACA0-24CDE82E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6A0-70DC-460F-97C6-3F77956C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F16-7337-4BD5-B48B-A361E42E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426F-AF2C-479F-A23D-74A94B1B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E131-D19F-4964-B491-39A79CFE1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6E10-6C38-4892-8835-BC112D0AC5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28F0-4F62-43FA-B805-B3DFE13671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7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9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1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5AF0-0AC8-42CB-A564-F6074B600A5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9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1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7DF-DB24-403C-9BF5-9AE2EF8319F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6676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252360" y="836640"/>
            <a:ext cx="8209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ий язы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9520" y="5943600"/>
            <a:ext cx="37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а: Снегирева Ольг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55640" y="404640"/>
            <a:ext cx="784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а дей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50920" y="1844640"/>
            <a:ext cx="324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2708280"/>
            <a:ext cx="820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? каким образом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50920" y="4005360"/>
            <a:ext cx="597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юзы и союзные слова: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79280" y="4941720"/>
            <a:ext cx="8353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, что, чтобы, будто, словно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5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6676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252360" y="549360"/>
            <a:ext cx="828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авн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24000" y="2276640"/>
            <a:ext cx="381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0" y="3213000"/>
            <a:ext cx="867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? подобно чему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24000" y="4437000"/>
            <a:ext cx="72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юзы и союзные слова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50920" y="5373720"/>
            <a:ext cx="8713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, чем, будто, точно,словно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7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6676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541440" y="476280"/>
            <a:ext cx="914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лов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95280" y="2133720"/>
            <a:ext cx="417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0" y="3068640"/>
            <a:ext cx="820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 каком условии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0" y="4292640"/>
            <a:ext cx="741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юзы и союзные слова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181080" y="5516640"/>
            <a:ext cx="828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сли, когда, раз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9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16676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24000" y="476280"/>
            <a:ext cx="828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ТУП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79280" y="1989000"/>
            <a:ext cx="460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0" y="4221000"/>
            <a:ext cx="813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юзы и союзные слова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0" y="5157720"/>
            <a:ext cx="914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ускай, несмотря на то, хотя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0920" y="2997360"/>
            <a:ext cx="8713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смотря на что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1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11280" y="1197000"/>
            <a:ext cx="259236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676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2997360"/>
            <a:ext cx="816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С.П.П. с придаточными обстоятельствами</a:t>
            </a:r>
            <a:endParaRPr b="1" i="1" lang="en-US" sz="1800" spc="1" strike="noStrike"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4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549360"/>
            <a:ext cx="9144000" cy="59446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Относятся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ко всему главному </a:t>
            </a: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предложению или к указательному слову .Отвечает на вопросы  обстоятельств. Могут стоять </a:t>
            </a: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еред</a:t>
            </a: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 главного,</a:t>
            </a: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 внутри </a:t>
            </a: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главного и </a:t>
            </a: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после</a:t>
            </a: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 главного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189000"/>
            <a:ext cx="8604360" cy="1942920"/>
          </a:xfrm>
          <a:custGeom>
            <a:avLst/>
            <a:gdLst>
              <a:gd name="textAreaLeft" fmla="*/ 2151000 w 8604360"/>
              <a:gd name="textAreaRight" fmla="*/ 6453360 w 8604360"/>
              <a:gd name="textAreaTop" fmla="*/ 242640 h 1942920"/>
              <a:gd name="textAreaBottom" fmla="*/ 194328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402920" y="25653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403280" y="981000"/>
            <a:ext cx="6343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П с предат-ми обстоят-ми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39280" y="1844640"/>
            <a:ext cx="863640" cy="720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76360" y="1916280"/>
            <a:ext cx="719280" cy="22334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64360" y="3141720"/>
            <a:ext cx="2009520" cy="642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43280" y="2205000"/>
            <a:ext cx="0" cy="863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77080" y="1989000"/>
            <a:ext cx="1440000" cy="792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28720" y="2781360"/>
            <a:ext cx="2014200" cy="642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ч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300720" y="2205000"/>
            <a:ext cx="863640" cy="1944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590160" y="4149720"/>
            <a:ext cx="2379960" cy="642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ледст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35640" y="2205000"/>
            <a:ext cx="73080" cy="1152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90160" y="3500280"/>
            <a:ext cx="1840320" cy="642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ступ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3635280" y="2205000"/>
            <a:ext cx="649440" cy="244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26000" y="4836960"/>
            <a:ext cx="15692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ло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03640" y="4005360"/>
            <a:ext cx="0" cy="1079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63480" y="4140360"/>
            <a:ext cx="117288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2349360"/>
            <a:ext cx="1508040" cy="642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е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27640" y="2205000"/>
            <a:ext cx="0" cy="576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04200" y="2722680"/>
            <a:ext cx="2526120" cy="642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ав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5640" y="5084640"/>
            <a:ext cx="345132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раза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68360" y="404640"/>
            <a:ext cx="755964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ста</a:t>
            </a:r>
            <a:endParaRPr b="1" i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95280" y="314172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ДЕ? КУДА? ОТКУДА?</a:t>
            </a:r>
            <a:endParaRPr b="0" lang="en-US" sz="1800" spc="1" strike="noStrike">
              <a:ln w="12600">
                <a:solidFill>
                  <a:srgbClr val="ff66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68360" y="2349360"/>
            <a:ext cx="237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95280" y="5013360"/>
            <a:ext cx="77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де, куда, откуда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24000" y="4076640"/>
            <a:ext cx="676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юзы и союзные слова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68360" y="549360"/>
            <a:ext cx="8137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РЕМЕНИ</a:t>
            </a:r>
            <a:endParaRPr b="1" i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79280" y="2060640"/>
            <a:ext cx="3097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79280" y="2997360"/>
            <a:ext cx="763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гда? как долго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79280" y="4149720"/>
            <a:ext cx="806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юзы и союзные слова: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50920" y="5373720"/>
            <a:ext cx="856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ff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66ff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гда,пока, едва, как только.</a:t>
            </a:r>
            <a:endParaRPr b="0" lang="en-US" sz="1800" spc="1" strike="noStrike">
              <a:ln w="12600">
                <a:solidFill>
                  <a:srgbClr val="ff66ff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0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6676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826920" y="476280"/>
            <a:ext cx="799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79280" y="2133720"/>
            <a:ext cx="316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2852640"/>
            <a:ext cx="8569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? отчего? по какой причине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4076640"/>
            <a:ext cx="817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юзы и союзные слова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5157720"/>
            <a:ext cx="860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тому что,как,так,так как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2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50920" y="18900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И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95280" y="2060640"/>
            <a:ext cx="396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2852640"/>
            <a:ext cx="914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чем? для чего?с какой целью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4221000"/>
            <a:ext cx="752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юзы и союзные слова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5229360"/>
            <a:ext cx="84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бы, для того чтобы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3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5610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476280"/>
            <a:ext cx="896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79280" y="1989000"/>
            <a:ext cx="352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ы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2781360"/>
            <a:ext cx="785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из этого следует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50920" y="4076640"/>
            <a:ext cx="655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юзы и союзные слова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95280" y="5373720"/>
            <a:ext cx="432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ак что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4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8101080" y="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3794"/>
                </a:moveTo>
                <a:lnTo>
                  <a:pt x="20437" y="10800"/>
                </a:lnTo>
                <a:lnTo>
                  <a:pt x="642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previousslide"/>
          </p:cNvPr>
          <p:cNvSpPr/>
          <p:nvPr/>
        </p:nvSpPr>
        <p:spPr>
          <a:xfrm>
            <a:off x="752472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7020000" y="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>
            <a:hlinkClick r:id="" action="ppaction://hlinkshowjump?jump=firstslide"/>
          </p:cNvPr>
          <p:cNvSpPr/>
          <p:nvPr/>
        </p:nvSpPr>
        <p:spPr>
          <a:xfrm>
            <a:off x="6443640" y="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15379" y="3837"/>
                </a:moveTo>
                <a:lnTo>
                  <a:pt x="17955" y="6448"/>
                </a:ln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lnTo>
                  <a:pt x="22342" y="10800"/>
                </a:lnTo>
                <a:lnTo>
                  <a:pt x="20688" y="10800"/>
                </a:lnTo>
                <a:lnTo>
                  <a:pt x="20688" y="17989"/>
                </a:lnTo>
                <a:lnTo>
                  <a:pt x="10070" y="17989"/>
                </a:lnTo>
                <a:lnTo>
                  <a:pt x="10070" y="10800"/>
                </a:lnTo>
                <a:lnTo>
                  <a:pt x="8416" y="10800"/>
                </a:lnTo>
                <a:close/>
              </a:path>
              <a:path fill="darkenLess" w="30758" h="21600">
                <a:moveTo>
                  <a:pt x="17955" y="6448"/>
                </a:moveTo>
                <a:lnTo>
                  <a:pt x="17955" y="4707"/>
                </a:lnTo>
                <a:lnTo>
                  <a:pt x="19731" y="4707"/>
                </a:lnTo>
                <a:lnTo>
                  <a:pt x="19731" y="8224"/>
                </a:lnTo>
                <a:close/>
              </a:path>
              <a:path fill="darkenLess" w="30758" h="21600">
                <a:moveTo>
                  <a:pt x="14457" y="14299"/>
                </a:moveTo>
                <a:lnTo>
                  <a:pt x="16302" y="14299"/>
                </a:lnTo>
                <a:lnTo>
                  <a:pt x="16302" y="17989"/>
                </a:lnTo>
                <a:lnTo>
                  <a:pt x="20688" y="17989"/>
                </a:lnTo>
                <a:lnTo>
                  <a:pt x="20688" y="10800"/>
                </a:lnTo>
                <a:lnTo>
                  <a:pt x="10070" y="10800"/>
                </a:lnTo>
                <a:lnTo>
                  <a:pt x="10070" y="17989"/>
                </a:lnTo>
                <a:lnTo>
                  <a:pt x="1445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5:42:35Z</dcterms:created>
  <dc:creator>Сорокин</dc:creator>
  <dc:description/>
  <dc:language>en-US</dc:language>
  <cp:lastModifiedBy>Пользователь</cp:lastModifiedBy>
  <dcterms:modified xsi:type="dcterms:W3CDTF">2009-11-27T15:37:37Z</dcterms:modified>
  <cp:revision>27</cp:revision>
  <dc:subject/>
  <dc:title>Слайд 1</dc:title>
</cp:coreProperties>
</file>