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1CBD-17F0-4C5F-968F-3B10CD777A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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AA56-F2E7-4283-A267-6D9B6CB85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B795-A425-41AD-91F5-BF36FB7C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946E-D2D3-45C3-ACCD-01108BFA2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EB89-ED12-456F-9E2A-7B192F45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9EC4B-FCA4-4264-93AA-ADDF58513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BBF58-2390-4EDE-B1C6-DDD23458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8CDE4-4233-4A27-AE81-38969255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B79A6-44C6-42EC-80FC-22291C24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04C3E-E4E8-481E-B596-C912FA2A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CAE5C-2CE1-4018-901C-0F78AB02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6117B-D443-4373-8AED-F36FE031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F6DE-F18B-4814-9CD0-43457656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27206-C631-4901-AE1A-A1FC4C0A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7268C-B162-4016-83C1-5CAA9E83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64878-8CB9-49B7-800A-3747CE24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060C9-C9F6-413D-81B8-DA7735B23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BD027-FE93-4D37-8EBB-DF84CBFA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6E64-D10C-4CD2-BFFB-A8365A50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5084-914D-45E0-870B-3DC3982E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56D5-96D3-448F-A3B6-CB059F7E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0B8A-F42D-45AB-91FD-2F798356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35B3-CCCE-49AB-BE8E-FF6D471F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D34A-379E-4B0E-B018-BC060BC9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A011-82F0-4C9E-B394-CDC4EA8F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363E-468D-4C96-A0A1-E30BD7BC32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8FBE-07DA-42A6-8086-1E1E361190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2924280"/>
            <a:ext cx="794232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ff"/>
                </a:solidFill>
                <a:latin typeface="Arial"/>
              </a:rPr>
              <a:t>По предмету</a:t>
            </a: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66ffff"/>
                </a:solidFill>
                <a:latin typeface="Arial"/>
              </a:rPr>
              <a:t>: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Географ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ff"/>
                </a:solidFill>
                <a:latin typeface="Arial"/>
              </a:rPr>
              <a:t>На тему :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Расовый и национальный состав населения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0"/>
            <a:ext cx="8964720" cy="328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Электронный мини-учебн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0840" y="6033960"/>
            <a:ext cx="785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ff"/>
                </a:solidFill>
                <a:latin typeface="Arial"/>
              </a:rPr>
              <a:t>Автор :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Скоснягина Ирин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8101080" y="544500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3794"/>
                </a:moveTo>
                <a:lnTo>
                  <a:pt x="27503" y="10800"/>
                </a:lnTo>
                <a:lnTo>
                  <a:pt x="13490" y="17806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34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10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98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39640" y="404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упнейшие этносы ми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79280" y="765000"/>
          <a:ext cx="8713800" cy="59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765000"/>
                    <a:ext cx="871380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8280360" y="6308640"/>
            <a:ext cx="863640" cy="549360"/>
          </a:xfrm>
          <a:custGeom>
            <a:avLst/>
            <a:gdLst>
              <a:gd name="textAreaLeft" fmla="*/ 18720 w 863640"/>
              <a:gd name="textAreaRight" fmla="*/ 844920 w 863640"/>
              <a:gd name="textAreaTop" fmla="*/ 18720 h 549360"/>
              <a:gd name="textAreaBottom" fmla="*/ 530640 h 549360"/>
            </a:gdLst>
            <a:ahLst/>
            <a:rect l="textAreaLeft" t="textAreaTop" r="textAreaRight" b="textAreaBottom"/>
            <a:pathLst>
              <a:path w="33949" h="21600">
                <a:moveTo>
                  <a:pt x="0" y="0"/>
                </a:moveTo>
                <a:lnTo>
                  <a:pt x="33949" y="0"/>
                </a:lnTo>
                <a:lnTo>
                  <a:pt x="33949" y="21600"/>
                </a:lnTo>
                <a:lnTo>
                  <a:pt x="0" y="21600"/>
                </a:lnTo>
                <a:close/>
              </a:path>
              <a:path fill="lightenLess" w="33949" h="21600">
                <a:moveTo>
                  <a:pt x="0" y="0"/>
                </a:moveTo>
                <a:lnTo>
                  <a:pt x="33949" y="0"/>
                </a:lnTo>
                <a:lnTo>
                  <a:pt x="33200" y="749"/>
                </a:lnTo>
                <a:lnTo>
                  <a:pt x="749" y="749"/>
                </a:lnTo>
                <a:close/>
              </a:path>
              <a:path fill="darken" w="33949" h="21600">
                <a:moveTo>
                  <a:pt x="33949" y="0"/>
                </a:moveTo>
                <a:lnTo>
                  <a:pt x="33949" y="21600"/>
                </a:lnTo>
                <a:lnTo>
                  <a:pt x="33200" y="20851"/>
                </a:lnTo>
                <a:lnTo>
                  <a:pt x="33200" y="749"/>
                </a:lnTo>
                <a:close/>
              </a:path>
              <a:path fill="darkenLess" w="33949" h="21600">
                <a:moveTo>
                  <a:pt x="33949" y="21600"/>
                </a:moveTo>
                <a:lnTo>
                  <a:pt x="0" y="21600"/>
                </a:lnTo>
                <a:lnTo>
                  <a:pt x="749" y="20851"/>
                </a:lnTo>
                <a:lnTo>
                  <a:pt x="33200" y="20851"/>
                </a:lnTo>
                <a:close/>
              </a:path>
              <a:path fill="lighten" w="33949" h="21600">
                <a:moveTo>
                  <a:pt x="0" y="21600"/>
                </a:moveTo>
                <a:lnTo>
                  <a:pt x="0" y="0"/>
                </a:lnTo>
                <a:lnTo>
                  <a:pt x="749" y="749"/>
                </a:lnTo>
                <a:lnTo>
                  <a:pt x="749" y="20851"/>
                </a:lnTo>
                <a:close/>
              </a:path>
              <a:path fill="darken" w="33949" h="21600">
                <a:moveTo>
                  <a:pt x="9483" y="10800"/>
                </a:moveTo>
                <a:lnTo>
                  <a:pt x="24466" y="3308"/>
                </a:lnTo>
                <a:lnTo>
                  <a:pt x="24466" y="18292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7596360" y="6308640"/>
            <a:ext cx="720720" cy="549360"/>
          </a:xfrm>
          <a:custGeom>
            <a:avLst/>
            <a:gdLst>
              <a:gd name="textAreaLeft" fmla="*/ 35280 w 720720"/>
              <a:gd name="textAreaRight" fmla="*/ 685440 w 7207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8333" h="21600">
                <a:moveTo>
                  <a:pt x="0" y="0"/>
                </a:moveTo>
                <a:lnTo>
                  <a:pt x="28333" y="0"/>
                </a:lnTo>
                <a:lnTo>
                  <a:pt x="28333" y="21600"/>
                </a:lnTo>
                <a:lnTo>
                  <a:pt x="0" y="21600"/>
                </a:lnTo>
                <a:close/>
              </a:path>
              <a:path fill="lightenLess" w="28333" h="21600">
                <a:moveTo>
                  <a:pt x="0" y="0"/>
                </a:moveTo>
                <a:lnTo>
                  <a:pt x="28333" y="0"/>
                </a:lnTo>
                <a:lnTo>
                  <a:pt x="26933" y="1400"/>
                </a:lnTo>
                <a:lnTo>
                  <a:pt x="1400" y="1400"/>
                </a:lnTo>
                <a:close/>
              </a:path>
              <a:path fill="darken" w="28333" h="21600">
                <a:moveTo>
                  <a:pt x="28333" y="0"/>
                </a:moveTo>
                <a:lnTo>
                  <a:pt x="28333" y="21600"/>
                </a:lnTo>
                <a:lnTo>
                  <a:pt x="26933" y="20200"/>
                </a:lnTo>
                <a:lnTo>
                  <a:pt x="26933" y="1400"/>
                </a:lnTo>
                <a:close/>
              </a:path>
              <a:path fill="darkenLess" w="28333" h="21600">
                <a:moveTo>
                  <a:pt x="283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33" y="20200"/>
                </a:lnTo>
                <a:close/>
              </a:path>
              <a:path fill="lighten" w="283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33" h="21600">
                <a:moveTo>
                  <a:pt x="7160" y="3794"/>
                </a:moveTo>
                <a:lnTo>
                  <a:pt x="21173" y="10800"/>
                </a:lnTo>
                <a:lnTo>
                  <a:pt x="7160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u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6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6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500"/>
                            </p:stCondLst>
                            <p:childTnLst>
                              <p:par>
                                <p:cTn id="2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68360" y="69228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GFriquer"/>
              </a:rPr>
              <a:t>Национальный состав мир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00360" y="1484280"/>
            <a:ext cx="360360" cy="1582920"/>
          </a:xfrm>
          <a:prstGeom prst="downArrow">
            <a:avLst>
              <a:gd name="adj1" fmla="val 50000"/>
              <a:gd name="adj2" fmla="val 10981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40360" y="1484280"/>
            <a:ext cx="360360" cy="1582920"/>
          </a:xfrm>
          <a:prstGeom prst="downArrow">
            <a:avLst>
              <a:gd name="adj1" fmla="val 50000"/>
              <a:gd name="adj2" fmla="val 10981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997360"/>
            <a:ext cx="47880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Однонациональные государ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(т.е. более 90% населения составляют люди одной национальност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Пример: Дания, Швеция, Япония, Коре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32360" y="2997360"/>
            <a:ext cx="4211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Многонациональные государ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(проживает более 100 национальносте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Пример: США, Казахстан, Индия, 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previousslide"/>
          </p:cNvPr>
          <p:cNvSpPr/>
          <p:nvPr/>
        </p:nvSpPr>
        <p:spPr>
          <a:xfrm>
            <a:off x="8280360" y="6308640"/>
            <a:ext cx="863640" cy="549360"/>
          </a:xfrm>
          <a:custGeom>
            <a:avLst/>
            <a:gdLst>
              <a:gd name="textAreaLeft" fmla="*/ 18720 w 863640"/>
              <a:gd name="textAreaRight" fmla="*/ 844920 w 863640"/>
              <a:gd name="textAreaTop" fmla="*/ 18720 h 549360"/>
              <a:gd name="textAreaBottom" fmla="*/ 530640 h 549360"/>
            </a:gdLst>
            <a:ahLst/>
            <a:rect l="textAreaLeft" t="textAreaTop" r="textAreaRight" b="textAreaBottom"/>
            <a:pathLst>
              <a:path w="33949" h="21600">
                <a:moveTo>
                  <a:pt x="0" y="0"/>
                </a:moveTo>
                <a:lnTo>
                  <a:pt x="33949" y="0"/>
                </a:lnTo>
                <a:lnTo>
                  <a:pt x="33949" y="21600"/>
                </a:lnTo>
                <a:lnTo>
                  <a:pt x="0" y="21600"/>
                </a:lnTo>
                <a:close/>
              </a:path>
              <a:path fill="lightenLess" w="33949" h="21600">
                <a:moveTo>
                  <a:pt x="0" y="0"/>
                </a:moveTo>
                <a:lnTo>
                  <a:pt x="33949" y="0"/>
                </a:lnTo>
                <a:lnTo>
                  <a:pt x="33200" y="749"/>
                </a:lnTo>
                <a:lnTo>
                  <a:pt x="749" y="749"/>
                </a:lnTo>
                <a:close/>
              </a:path>
              <a:path fill="darken" w="33949" h="21600">
                <a:moveTo>
                  <a:pt x="33949" y="0"/>
                </a:moveTo>
                <a:lnTo>
                  <a:pt x="33949" y="21600"/>
                </a:lnTo>
                <a:lnTo>
                  <a:pt x="33200" y="20851"/>
                </a:lnTo>
                <a:lnTo>
                  <a:pt x="33200" y="749"/>
                </a:lnTo>
                <a:close/>
              </a:path>
              <a:path fill="darkenLess" w="33949" h="21600">
                <a:moveTo>
                  <a:pt x="33949" y="21600"/>
                </a:moveTo>
                <a:lnTo>
                  <a:pt x="0" y="21600"/>
                </a:lnTo>
                <a:lnTo>
                  <a:pt x="749" y="20851"/>
                </a:lnTo>
                <a:lnTo>
                  <a:pt x="33200" y="20851"/>
                </a:lnTo>
                <a:close/>
              </a:path>
              <a:path fill="lighten" w="33949" h="21600">
                <a:moveTo>
                  <a:pt x="0" y="21600"/>
                </a:moveTo>
                <a:lnTo>
                  <a:pt x="0" y="0"/>
                </a:lnTo>
                <a:lnTo>
                  <a:pt x="749" y="749"/>
                </a:lnTo>
                <a:lnTo>
                  <a:pt x="749" y="20851"/>
                </a:lnTo>
                <a:close/>
              </a:path>
              <a:path fill="darken" w="33949" h="21600">
                <a:moveTo>
                  <a:pt x="9483" y="10800"/>
                </a:moveTo>
                <a:lnTo>
                  <a:pt x="24466" y="3308"/>
                </a:lnTo>
                <a:lnTo>
                  <a:pt x="24466" y="18292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>
            <a:hlinkClick r:id="" action="ppaction://hlinkshowjump?jump=nextslide"/>
          </p:cNvPr>
          <p:cNvSpPr/>
          <p:nvPr/>
        </p:nvSpPr>
        <p:spPr>
          <a:xfrm>
            <a:off x="7596360" y="6308640"/>
            <a:ext cx="720720" cy="549360"/>
          </a:xfrm>
          <a:custGeom>
            <a:avLst/>
            <a:gdLst>
              <a:gd name="textAreaLeft" fmla="*/ 35280 w 720720"/>
              <a:gd name="textAreaRight" fmla="*/ 685440 w 7207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8333" h="21600">
                <a:moveTo>
                  <a:pt x="0" y="0"/>
                </a:moveTo>
                <a:lnTo>
                  <a:pt x="28333" y="0"/>
                </a:lnTo>
                <a:lnTo>
                  <a:pt x="28333" y="21600"/>
                </a:lnTo>
                <a:lnTo>
                  <a:pt x="0" y="21600"/>
                </a:lnTo>
                <a:close/>
              </a:path>
              <a:path fill="lightenLess" w="28333" h="21600">
                <a:moveTo>
                  <a:pt x="0" y="0"/>
                </a:moveTo>
                <a:lnTo>
                  <a:pt x="28333" y="0"/>
                </a:lnTo>
                <a:lnTo>
                  <a:pt x="26933" y="1400"/>
                </a:lnTo>
                <a:lnTo>
                  <a:pt x="1400" y="1400"/>
                </a:lnTo>
                <a:close/>
              </a:path>
              <a:path fill="darken" w="28333" h="21600">
                <a:moveTo>
                  <a:pt x="28333" y="0"/>
                </a:moveTo>
                <a:lnTo>
                  <a:pt x="28333" y="21600"/>
                </a:lnTo>
                <a:lnTo>
                  <a:pt x="26933" y="20200"/>
                </a:lnTo>
                <a:lnTo>
                  <a:pt x="26933" y="1400"/>
                </a:lnTo>
                <a:close/>
              </a:path>
              <a:path fill="darkenLess" w="28333" h="21600">
                <a:moveTo>
                  <a:pt x="283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33" y="20200"/>
                </a:lnTo>
                <a:close/>
              </a:path>
              <a:path fill="lighten" w="283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33" h="21600">
                <a:moveTo>
                  <a:pt x="7160" y="3794"/>
                </a:moveTo>
                <a:lnTo>
                  <a:pt x="21173" y="10800"/>
                </a:lnTo>
                <a:lnTo>
                  <a:pt x="7160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u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7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620"/>
                            </p:stCondLst>
                            <p:childTnLst>
                              <p:par>
                                <p:cTn id="3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620"/>
                            </p:stCondLst>
                            <p:childTnLst>
                              <p:par>
                                <p:cTn id="3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200"/>
                            </p:stCondLst>
                            <p:childTnLst>
                              <p:par>
                                <p:cTn id="3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333360"/>
            <a:ext cx="9325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"/>
              </a:rPr>
              <a:t>Национальный вопрос, особенно в развивающихся странах, относится к числу непростых, потому что здесь этнические конфликты проходят интенсивно. На почве межнациональных отношений в некоторых случаях возникают трудно решаемые проблемы. Взаимное непонимание на национальной основе может возникнуть не только в развивающихся странах, но и в странах с высоким уровнем развития. Например: Канада – государство имеет представителей двух национальностей канадских англичан и канадских французов. У них постоянные конфликты, а это «расшатывает» государство изнутр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>
            <a:hlinkClick r:id="" action="ppaction://hlinkshowjump?jump=previousslide"/>
          </p:cNvPr>
          <p:cNvSpPr/>
          <p:nvPr/>
        </p:nvSpPr>
        <p:spPr>
          <a:xfrm>
            <a:off x="8280360" y="6308640"/>
            <a:ext cx="863640" cy="549360"/>
          </a:xfrm>
          <a:custGeom>
            <a:avLst/>
            <a:gdLst>
              <a:gd name="textAreaLeft" fmla="*/ 18720 w 863640"/>
              <a:gd name="textAreaRight" fmla="*/ 844920 w 863640"/>
              <a:gd name="textAreaTop" fmla="*/ 18720 h 549360"/>
              <a:gd name="textAreaBottom" fmla="*/ 530640 h 549360"/>
            </a:gdLst>
            <a:ahLst/>
            <a:rect l="textAreaLeft" t="textAreaTop" r="textAreaRight" b="textAreaBottom"/>
            <a:pathLst>
              <a:path w="33949" h="21600">
                <a:moveTo>
                  <a:pt x="0" y="0"/>
                </a:moveTo>
                <a:lnTo>
                  <a:pt x="33949" y="0"/>
                </a:lnTo>
                <a:lnTo>
                  <a:pt x="33949" y="21600"/>
                </a:lnTo>
                <a:lnTo>
                  <a:pt x="0" y="21600"/>
                </a:lnTo>
                <a:close/>
              </a:path>
              <a:path fill="lightenLess" w="33949" h="21600">
                <a:moveTo>
                  <a:pt x="0" y="0"/>
                </a:moveTo>
                <a:lnTo>
                  <a:pt x="33949" y="0"/>
                </a:lnTo>
                <a:lnTo>
                  <a:pt x="33200" y="749"/>
                </a:lnTo>
                <a:lnTo>
                  <a:pt x="749" y="749"/>
                </a:lnTo>
                <a:close/>
              </a:path>
              <a:path fill="darken" w="33949" h="21600">
                <a:moveTo>
                  <a:pt x="33949" y="0"/>
                </a:moveTo>
                <a:lnTo>
                  <a:pt x="33949" y="21600"/>
                </a:lnTo>
                <a:lnTo>
                  <a:pt x="33200" y="20851"/>
                </a:lnTo>
                <a:lnTo>
                  <a:pt x="33200" y="749"/>
                </a:lnTo>
                <a:close/>
              </a:path>
              <a:path fill="darkenLess" w="33949" h="21600">
                <a:moveTo>
                  <a:pt x="33949" y="21600"/>
                </a:moveTo>
                <a:lnTo>
                  <a:pt x="0" y="21600"/>
                </a:lnTo>
                <a:lnTo>
                  <a:pt x="749" y="20851"/>
                </a:lnTo>
                <a:lnTo>
                  <a:pt x="33200" y="20851"/>
                </a:lnTo>
                <a:close/>
              </a:path>
              <a:path fill="lighten" w="33949" h="21600">
                <a:moveTo>
                  <a:pt x="0" y="21600"/>
                </a:moveTo>
                <a:lnTo>
                  <a:pt x="0" y="0"/>
                </a:lnTo>
                <a:lnTo>
                  <a:pt x="749" y="749"/>
                </a:lnTo>
                <a:lnTo>
                  <a:pt x="749" y="20851"/>
                </a:lnTo>
                <a:close/>
              </a:path>
              <a:path fill="darken" w="33949" h="21600">
                <a:moveTo>
                  <a:pt x="9483" y="10800"/>
                </a:moveTo>
                <a:lnTo>
                  <a:pt x="24466" y="3308"/>
                </a:lnTo>
                <a:lnTo>
                  <a:pt x="24466" y="18292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7596360" y="6308640"/>
            <a:ext cx="720720" cy="549360"/>
          </a:xfrm>
          <a:custGeom>
            <a:avLst/>
            <a:gdLst>
              <a:gd name="textAreaLeft" fmla="*/ 35280 w 720720"/>
              <a:gd name="textAreaRight" fmla="*/ 685440 w 7207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8333" h="21600">
                <a:moveTo>
                  <a:pt x="0" y="0"/>
                </a:moveTo>
                <a:lnTo>
                  <a:pt x="28333" y="0"/>
                </a:lnTo>
                <a:lnTo>
                  <a:pt x="28333" y="21600"/>
                </a:lnTo>
                <a:lnTo>
                  <a:pt x="0" y="21600"/>
                </a:lnTo>
                <a:close/>
              </a:path>
              <a:path fill="lightenLess" w="28333" h="21600">
                <a:moveTo>
                  <a:pt x="0" y="0"/>
                </a:moveTo>
                <a:lnTo>
                  <a:pt x="28333" y="0"/>
                </a:lnTo>
                <a:lnTo>
                  <a:pt x="26933" y="1400"/>
                </a:lnTo>
                <a:lnTo>
                  <a:pt x="1400" y="1400"/>
                </a:lnTo>
                <a:close/>
              </a:path>
              <a:path fill="darken" w="28333" h="21600">
                <a:moveTo>
                  <a:pt x="28333" y="0"/>
                </a:moveTo>
                <a:lnTo>
                  <a:pt x="28333" y="21600"/>
                </a:lnTo>
                <a:lnTo>
                  <a:pt x="26933" y="20200"/>
                </a:lnTo>
                <a:lnTo>
                  <a:pt x="26933" y="1400"/>
                </a:lnTo>
                <a:close/>
              </a:path>
              <a:path fill="darkenLess" w="28333" h="21600">
                <a:moveTo>
                  <a:pt x="283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33" y="20200"/>
                </a:lnTo>
                <a:close/>
              </a:path>
              <a:path fill="lighten" w="283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33" h="21600">
                <a:moveTo>
                  <a:pt x="7160" y="3794"/>
                </a:moveTo>
                <a:lnTo>
                  <a:pt x="21173" y="10800"/>
                </a:lnTo>
                <a:lnTo>
                  <a:pt x="7160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u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260280"/>
            <a:ext cx="8964720" cy="64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Этногене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процессы формирования и развития этносов  со времен происхождения национальности и до их исчезновения. Большой вклад в изучение этногенеза  внес русский ученый Гумиле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Этнические процессы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66ffff"/>
              </a:buClr>
              <a:buFont typeface="Wingdings 2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нсолидация этносов (объединение) – создание несколькими этносами единого сообщества в связи с историко – географическими причинами. Пример: Швейцары – нация, сформировавшаяся в результате объединения немцев, французов ,итальянцев и ретророманце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66ffff"/>
              </a:buClr>
              <a:buFont typeface="Wingdings 2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ъединение этносов. Пример: во время распада Британской Индии оставшаяся часть в Бангладеш часть бенгальского населения, являвшегося до этого единым этносом, стала основой формирования новой нации – бангладешце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66ffff"/>
              </a:buClr>
              <a:buFont typeface="Wingdings 2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мешивание этносов (ассимиляция) наблюдается в  странах, где в составе населения высок удельный вес людей, переселившихся из других стран. Пример: Бразильц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>
            <a:hlinkClick r:id="" action="ppaction://hlinkshowjump?jump=previousslide"/>
          </p:cNvPr>
          <p:cNvSpPr/>
          <p:nvPr/>
        </p:nvSpPr>
        <p:spPr>
          <a:xfrm>
            <a:off x="8280360" y="6308640"/>
            <a:ext cx="863640" cy="549360"/>
          </a:xfrm>
          <a:custGeom>
            <a:avLst/>
            <a:gdLst>
              <a:gd name="textAreaLeft" fmla="*/ 18720 w 863640"/>
              <a:gd name="textAreaRight" fmla="*/ 844920 w 863640"/>
              <a:gd name="textAreaTop" fmla="*/ 18720 h 549360"/>
              <a:gd name="textAreaBottom" fmla="*/ 530640 h 549360"/>
            </a:gdLst>
            <a:ahLst/>
            <a:rect l="textAreaLeft" t="textAreaTop" r="textAreaRight" b="textAreaBottom"/>
            <a:pathLst>
              <a:path w="33949" h="21600">
                <a:moveTo>
                  <a:pt x="0" y="0"/>
                </a:moveTo>
                <a:lnTo>
                  <a:pt x="33949" y="0"/>
                </a:lnTo>
                <a:lnTo>
                  <a:pt x="33949" y="21600"/>
                </a:lnTo>
                <a:lnTo>
                  <a:pt x="0" y="21600"/>
                </a:lnTo>
                <a:close/>
              </a:path>
              <a:path fill="lightenLess" w="33949" h="21600">
                <a:moveTo>
                  <a:pt x="0" y="0"/>
                </a:moveTo>
                <a:lnTo>
                  <a:pt x="33949" y="0"/>
                </a:lnTo>
                <a:lnTo>
                  <a:pt x="33200" y="749"/>
                </a:lnTo>
                <a:lnTo>
                  <a:pt x="749" y="749"/>
                </a:lnTo>
                <a:close/>
              </a:path>
              <a:path fill="darken" w="33949" h="21600">
                <a:moveTo>
                  <a:pt x="33949" y="0"/>
                </a:moveTo>
                <a:lnTo>
                  <a:pt x="33949" y="21600"/>
                </a:lnTo>
                <a:lnTo>
                  <a:pt x="33200" y="20851"/>
                </a:lnTo>
                <a:lnTo>
                  <a:pt x="33200" y="749"/>
                </a:lnTo>
                <a:close/>
              </a:path>
              <a:path fill="darkenLess" w="33949" h="21600">
                <a:moveTo>
                  <a:pt x="33949" y="21600"/>
                </a:moveTo>
                <a:lnTo>
                  <a:pt x="0" y="21600"/>
                </a:lnTo>
                <a:lnTo>
                  <a:pt x="749" y="20851"/>
                </a:lnTo>
                <a:lnTo>
                  <a:pt x="33200" y="20851"/>
                </a:lnTo>
                <a:close/>
              </a:path>
              <a:path fill="lighten" w="33949" h="21600">
                <a:moveTo>
                  <a:pt x="0" y="21600"/>
                </a:moveTo>
                <a:lnTo>
                  <a:pt x="0" y="0"/>
                </a:lnTo>
                <a:lnTo>
                  <a:pt x="749" y="749"/>
                </a:lnTo>
                <a:lnTo>
                  <a:pt x="749" y="20851"/>
                </a:lnTo>
                <a:close/>
              </a:path>
              <a:path fill="darken" w="33949" h="21600">
                <a:moveTo>
                  <a:pt x="9483" y="10800"/>
                </a:moveTo>
                <a:lnTo>
                  <a:pt x="24466" y="3308"/>
                </a:lnTo>
                <a:lnTo>
                  <a:pt x="24466" y="18292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nextslide"/>
          </p:cNvPr>
          <p:cNvSpPr/>
          <p:nvPr/>
        </p:nvSpPr>
        <p:spPr>
          <a:xfrm>
            <a:off x="7596360" y="6308640"/>
            <a:ext cx="720720" cy="549360"/>
          </a:xfrm>
          <a:custGeom>
            <a:avLst/>
            <a:gdLst>
              <a:gd name="textAreaLeft" fmla="*/ 35280 w 720720"/>
              <a:gd name="textAreaRight" fmla="*/ 685440 w 7207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8333" h="21600">
                <a:moveTo>
                  <a:pt x="0" y="0"/>
                </a:moveTo>
                <a:lnTo>
                  <a:pt x="28333" y="0"/>
                </a:lnTo>
                <a:lnTo>
                  <a:pt x="28333" y="21600"/>
                </a:lnTo>
                <a:lnTo>
                  <a:pt x="0" y="21600"/>
                </a:lnTo>
                <a:close/>
              </a:path>
              <a:path fill="lightenLess" w="28333" h="21600">
                <a:moveTo>
                  <a:pt x="0" y="0"/>
                </a:moveTo>
                <a:lnTo>
                  <a:pt x="28333" y="0"/>
                </a:lnTo>
                <a:lnTo>
                  <a:pt x="26933" y="1400"/>
                </a:lnTo>
                <a:lnTo>
                  <a:pt x="1400" y="1400"/>
                </a:lnTo>
                <a:close/>
              </a:path>
              <a:path fill="darken" w="28333" h="21600">
                <a:moveTo>
                  <a:pt x="28333" y="0"/>
                </a:moveTo>
                <a:lnTo>
                  <a:pt x="28333" y="21600"/>
                </a:lnTo>
                <a:lnTo>
                  <a:pt x="26933" y="20200"/>
                </a:lnTo>
                <a:lnTo>
                  <a:pt x="26933" y="1400"/>
                </a:lnTo>
                <a:close/>
              </a:path>
              <a:path fill="darkenLess" w="28333" h="21600">
                <a:moveTo>
                  <a:pt x="283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33" y="20200"/>
                </a:lnTo>
                <a:close/>
              </a:path>
              <a:path fill="lighten" w="283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33" h="21600">
                <a:moveTo>
                  <a:pt x="7160" y="3794"/>
                </a:moveTo>
                <a:lnTo>
                  <a:pt x="21173" y="10800"/>
                </a:lnTo>
                <a:lnTo>
                  <a:pt x="7160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u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500"/>
                            </p:stCondLst>
                            <p:childTnLst>
                              <p:par>
                                <p:cTn id="4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500"/>
                            </p:stCondLst>
                            <p:childTnLst>
                              <p:par>
                                <p:cTn id="4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1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500"/>
                            </p:stCondLst>
                            <p:childTnLst>
                              <p:par>
                                <p:cTn id="4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1341360"/>
            <a:ext cx="9144000" cy="53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Назови примеры переходных и смешанных ра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Какие крупные этносы мира ты знаеш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3)Дать расовую и национальную характеристику своей страны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66"/>
                </a:solidFill>
                <a:latin typeface="Arial"/>
              </a:rPr>
              <a:t>Желаю удачи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previousslide"/>
          </p:cNvPr>
          <p:cNvSpPr/>
          <p:nvPr/>
        </p:nvSpPr>
        <p:spPr>
          <a:xfrm>
            <a:off x="8280360" y="6308640"/>
            <a:ext cx="863640" cy="549360"/>
          </a:xfrm>
          <a:custGeom>
            <a:avLst/>
            <a:gdLst>
              <a:gd name="textAreaLeft" fmla="*/ 18720 w 863640"/>
              <a:gd name="textAreaRight" fmla="*/ 844920 w 863640"/>
              <a:gd name="textAreaTop" fmla="*/ 18720 h 549360"/>
              <a:gd name="textAreaBottom" fmla="*/ 530640 h 549360"/>
            </a:gdLst>
            <a:ahLst/>
            <a:rect l="textAreaLeft" t="textAreaTop" r="textAreaRight" b="textAreaBottom"/>
            <a:pathLst>
              <a:path w="33949" h="21600">
                <a:moveTo>
                  <a:pt x="0" y="0"/>
                </a:moveTo>
                <a:lnTo>
                  <a:pt x="33949" y="0"/>
                </a:lnTo>
                <a:lnTo>
                  <a:pt x="33949" y="21600"/>
                </a:lnTo>
                <a:lnTo>
                  <a:pt x="0" y="21600"/>
                </a:lnTo>
                <a:close/>
              </a:path>
              <a:path fill="lightenLess" w="33949" h="21600">
                <a:moveTo>
                  <a:pt x="0" y="0"/>
                </a:moveTo>
                <a:lnTo>
                  <a:pt x="33949" y="0"/>
                </a:lnTo>
                <a:lnTo>
                  <a:pt x="33200" y="749"/>
                </a:lnTo>
                <a:lnTo>
                  <a:pt x="749" y="749"/>
                </a:lnTo>
                <a:close/>
              </a:path>
              <a:path fill="darken" w="33949" h="21600">
                <a:moveTo>
                  <a:pt x="33949" y="0"/>
                </a:moveTo>
                <a:lnTo>
                  <a:pt x="33949" y="21600"/>
                </a:lnTo>
                <a:lnTo>
                  <a:pt x="33200" y="20851"/>
                </a:lnTo>
                <a:lnTo>
                  <a:pt x="33200" y="749"/>
                </a:lnTo>
                <a:close/>
              </a:path>
              <a:path fill="darkenLess" w="33949" h="21600">
                <a:moveTo>
                  <a:pt x="33949" y="21600"/>
                </a:moveTo>
                <a:lnTo>
                  <a:pt x="0" y="21600"/>
                </a:lnTo>
                <a:lnTo>
                  <a:pt x="749" y="20851"/>
                </a:lnTo>
                <a:lnTo>
                  <a:pt x="33200" y="20851"/>
                </a:lnTo>
                <a:close/>
              </a:path>
              <a:path fill="lighten" w="33949" h="21600">
                <a:moveTo>
                  <a:pt x="0" y="21600"/>
                </a:moveTo>
                <a:lnTo>
                  <a:pt x="0" y="0"/>
                </a:lnTo>
                <a:lnTo>
                  <a:pt x="749" y="749"/>
                </a:lnTo>
                <a:lnTo>
                  <a:pt x="749" y="20851"/>
                </a:lnTo>
                <a:close/>
              </a:path>
              <a:path fill="darken" w="33949" h="21600">
                <a:moveTo>
                  <a:pt x="9483" y="10800"/>
                </a:moveTo>
                <a:lnTo>
                  <a:pt x="24466" y="3308"/>
                </a:lnTo>
                <a:lnTo>
                  <a:pt x="24466" y="18292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endshow"/>
          </p:cNvPr>
          <p:cNvSpPr/>
          <p:nvPr/>
        </p:nvSpPr>
        <p:spPr>
          <a:xfrm>
            <a:off x="766764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87280" y="333360"/>
            <a:ext cx="63597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оверь себя! 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 advTm="5000">
    <p:pull dir="u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755640" y="260280"/>
            <a:ext cx="7848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лан изучения те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92160" y="2152800"/>
            <a:ext cx="768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27664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Arial"/>
              </a:rPr>
              <a:t>1)Расовый состав насел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Arial"/>
              </a:rPr>
              <a:t>2)Национальный состав насел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Arial"/>
              </a:rPr>
              <a:t>3)Этнические процесс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8317080" y="6308640"/>
            <a:ext cx="826920" cy="549360"/>
          </a:xfrm>
          <a:custGeom>
            <a:avLst/>
            <a:gdLst>
              <a:gd name="textAreaLeft" fmla="*/ 35280 w 826920"/>
              <a:gd name="textAreaRight" fmla="*/ 791640 w 826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2506" h="21600">
                <a:moveTo>
                  <a:pt x="0" y="0"/>
                </a:moveTo>
                <a:lnTo>
                  <a:pt x="32506" y="0"/>
                </a:lnTo>
                <a:lnTo>
                  <a:pt x="32506" y="21600"/>
                </a:lnTo>
                <a:lnTo>
                  <a:pt x="0" y="21600"/>
                </a:lnTo>
                <a:close/>
              </a:path>
              <a:path fill="lightenLess" w="32506" h="21600">
                <a:moveTo>
                  <a:pt x="0" y="0"/>
                </a:moveTo>
                <a:lnTo>
                  <a:pt x="32506" y="0"/>
                </a:lnTo>
                <a:lnTo>
                  <a:pt x="31106" y="1400"/>
                </a:lnTo>
                <a:lnTo>
                  <a:pt x="1400" y="1400"/>
                </a:lnTo>
                <a:close/>
              </a:path>
              <a:path fill="darken" w="32506" h="21600">
                <a:moveTo>
                  <a:pt x="32506" y="0"/>
                </a:moveTo>
                <a:lnTo>
                  <a:pt x="32506" y="21600"/>
                </a:lnTo>
                <a:lnTo>
                  <a:pt x="31106" y="20200"/>
                </a:lnTo>
                <a:lnTo>
                  <a:pt x="31106" y="1400"/>
                </a:lnTo>
                <a:close/>
              </a:path>
              <a:path fill="darkenLess" w="32506" h="21600">
                <a:moveTo>
                  <a:pt x="32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6" y="20200"/>
                </a:lnTo>
                <a:close/>
              </a:path>
              <a:path fill="lighten" w="32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6" h="21600">
                <a:moveTo>
                  <a:pt x="16253" y="3837"/>
                </a:moveTo>
                <a:lnTo>
                  <a:pt x="18829" y="6448"/>
                </a:lnTo>
                <a:lnTo>
                  <a:pt x="18829" y="4707"/>
                </a:lnTo>
                <a:lnTo>
                  <a:pt x="20605" y="4707"/>
                </a:lnTo>
                <a:lnTo>
                  <a:pt x="20605" y="8224"/>
                </a:lnTo>
                <a:lnTo>
                  <a:pt x="23216" y="10800"/>
                </a:lnTo>
                <a:lnTo>
                  <a:pt x="21562" y="10800"/>
                </a:lnTo>
                <a:lnTo>
                  <a:pt x="21562" y="17989"/>
                </a:lnTo>
                <a:lnTo>
                  <a:pt x="10944" y="17989"/>
                </a:lnTo>
                <a:lnTo>
                  <a:pt x="10944" y="10800"/>
                </a:lnTo>
                <a:lnTo>
                  <a:pt x="9290" y="10800"/>
                </a:lnTo>
                <a:close/>
              </a:path>
              <a:path fill="darkenLess" w="32506" h="21600">
                <a:moveTo>
                  <a:pt x="18829" y="6448"/>
                </a:moveTo>
                <a:lnTo>
                  <a:pt x="18829" y="4707"/>
                </a:lnTo>
                <a:lnTo>
                  <a:pt x="20605" y="4707"/>
                </a:lnTo>
                <a:lnTo>
                  <a:pt x="20605" y="8224"/>
                </a:lnTo>
                <a:close/>
              </a:path>
              <a:path fill="darkenLess" w="32506" h="21600">
                <a:moveTo>
                  <a:pt x="15330" y="14299"/>
                </a:moveTo>
                <a:lnTo>
                  <a:pt x="17176" y="14299"/>
                </a:lnTo>
                <a:lnTo>
                  <a:pt x="17176" y="17989"/>
                </a:lnTo>
                <a:lnTo>
                  <a:pt x="21562" y="17989"/>
                </a:lnTo>
                <a:lnTo>
                  <a:pt x="21562" y="10800"/>
                </a:lnTo>
                <a:lnTo>
                  <a:pt x="10944" y="10800"/>
                </a:lnTo>
                <a:lnTo>
                  <a:pt x="10944" y="17989"/>
                </a:lnTo>
                <a:lnTo>
                  <a:pt x="1533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7596360" y="6308640"/>
            <a:ext cx="720720" cy="549360"/>
          </a:xfrm>
          <a:custGeom>
            <a:avLst/>
            <a:gdLst>
              <a:gd name="textAreaLeft" fmla="*/ 35280 w 720720"/>
              <a:gd name="textAreaRight" fmla="*/ 685440 w 7207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8333" h="21600">
                <a:moveTo>
                  <a:pt x="0" y="0"/>
                </a:moveTo>
                <a:lnTo>
                  <a:pt x="28333" y="0"/>
                </a:lnTo>
                <a:lnTo>
                  <a:pt x="28333" y="21600"/>
                </a:lnTo>
                <a:lnTo>
                  <a:pt x="0" y="21600"/>
                </a:lnTo>
                <a:close/>
              </a:path>
              <a:path fill="lightenLess" w="28333" h="21600">
                <a:moveTo>
                  <a:pt x="0" y="0"/>
                </a:moveTo>
                <a:lnTo>
                  <a:pt x="28333" y="0"/>
                </a:lnTo>
                <a:lnTo>
                  <a:pt x="26933" y="1400"/>
                </a:lnTo>
                <a:lnTo>
                  <a:pt x="1400" y="1400"/>
                </a:lnTo>
                <a:close/>
              </a:path>
              <a:path fill="darken" w="28333" h="21600">
                <a:moveTo>
                  <a:pt x="28333" y="0"/>
                </a:moveTo>
                <a:lnTo>
                  <a:pt x="28333" y="21600"/>
                </a:lnTo>
                <a:lnTo>
                  <a:pt x="26933" y="20200"/>
                </a:lnTo>
                <a:lnTo>
                  <a:pt x="26933" y="1400"/>
                </a:lnTo>
                <a:close/>
              </a:path>
              <a:path fill="darkenLess" w="28333" h="21600">
                <a:moveTo>
                  <a:pt x="283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33" y="20200"/>
                </a:lnTo>
                <a:close/>
              </a:path>
              <a:path fill="lighten" w="283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33" h="21600">
                <a:moveTo>
                  <a:pt x="7160" y="3794"/>
                </a:moveTo>
                <a:lnTo>
                  <a:pt x="21173" y="10800"/>
                </a:lnTo>
                <a:lnTo>
                  <a:pt x="7160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6732720" y="6308640"/>
            <a:ext cx="863640" cy="549360"/>
          </a:xfrm>
          <a:custGeom>
            <a:avLst/>
            <a:gdLst>
              <a:gd name="textAreaLeft" fmla="*/ 35280 w 863640"/>
              <a:gd name="textAreaRight" fmla="*/ 828360 w 863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3949" h="21600">
                <a:moveTo>
                  <a:pt x="0" y="0"/>
                </a:moveTo>
                <a:lnTo>
                  <a:pt x="33949" y="0"/>
                </a:lnTo>
                <a:lnTo>
                  <a:pt x="33949" y="21600"/>
                </a:lnTo>
                <a:lnTo>
                  <a:pt x="0" y="21600"/>
                </a:lnTo>
                <a:close/>
              </a:path>
              <a:path fill="lightenLess" w="33949" h="21600">
                <a:moveTo>
                  <a:pt x="0" y="0"/>
                </a:moveTo>
                <a:lnTo>
                  <a:pt x="33949" y="0"/>
                </a:lnTo>
                <a:lnTo>
                  <a:pt x="32549" y="1400"/>
                </a:lnTo>
                <a:lnTo>
                  <a:pt x="1400" y="1400"/>
                </a:lnTo>
                <a:close/>
              </a:path>
              <a:path fill="darken" w="33949" h="21600">
                <a:moveTo>
                  <a:pt x="33949" y="0"/>
                </a:moveTo>
                <a:lnTo>
                  <a:pt x="33949" y="21600"/>
                </a:lnTo>
                <a:lnTo>
                  <a:pt x="32549" y="20200"/>
                </a:lnTo>
                <a:lnTo>
                  <a:pt x="32549" y="1400"/>
                </a:lnTo>
                <a:close/>
              </a:path>
              <a:path fill="darkenLess" w="33949" h="21600">
                <a:moveTo>
                  <a:pt x="3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9" y="20200"/>
                </a:lnTo>
                <a:close/>
              </a:path>
              <a:path fill="lighten" w="3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49" h="21600">
                <a:moveTo>
                  <a:pt x="9968" y="10800"/>
                </a:moveTo>
                <a:lnTo>
                  <a:pt x="23981" y="3794"/>
                </a:lnTo>
                <a:lnTo>
                  <a:pt x="23981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7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40"/>
                            </p:stCondLst>
                            <p:childTnLst>
                              <p:par>
                                <p:cTn id="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540"/>
                            </p:stCondLst>
                            <p:childTnLst>
                              <p:par>
                                <p:cTn id="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540"/>
                            </p:stCondLst>
                            <p:childTnLst>
                              <p:par>
                                <p:cTn id="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796000" y="1052640"/>
            <a:ext cx="2614680" cy="2841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68360" y="551664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Европеоидная ра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72360" y="551664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Монголоидная ра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3640" y="551664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Экваториальная ра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4000" y="285264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Население мир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8317080" y="6308640"/>
            <a:ext cx="826920" cy="549360"/>
          </a:xfrm>
          <a:custGeom>
            <a:avLst/>
            <a:gdLst>
              <a:gd name="textAreaLeft" fmla="*/ 35280 w 826920"/>
              <a:gd name="textAreaRight" fmla="*/ 791640 w 826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2506" h="21600">
                <a:moveTo>
                  <a:pt x="0" y="0"/>
                </a:moveTo>
                <a:lnTo>
                  <a:pt x="32506" y="0"/>
                </a:lnTo>
                <a:lnTo>
                  <a:pt x="32506" y="21600"/>
                </a:lnTo>
                <a:lnTo>
                  <a:pt x="0" y="21600"/>
                </a:lnTo>
                <a:close/>
              </a:path>
              <a:path fill="lightenLess" w="32506" h="21600">
                <a:moveTo>
                  <a:pt x="0" y="0"/>
                </a:moveTo>
                <a:lnTo>
                  <a:pt x="32506" y="0"/>
                </a:lnTo>
                <a:lnTo>
                  <a:pt x="31106" y="1400"/>
                </a:lnTo>
                <a:lnTo>
                  <a:pt x="1400" y="1400"/>
                </a:lnTo>
                <a:close/>
              </a:path>
              <a:path fill="darken" w="32506" h="21600">
                <a:moveTo>
                  <a:pt x="32506" y="0"/>
                </a:moveTo>
                <a:lnTo>
                  <a:pt x="32506" y="21600"/>
                </a:lnTo>
                <a:lnTo>
                  <a:pt x="31106" y="20200"/>
                </a:lnTo>
                <a:lnTo>
                  <a:pt x="31106" y="1400"/>
                </a:lnTo>
                <a:close/>
              </a:path>
              <a:path fill="darkenLess" w="32506" h="21600">
                <a:moveTo>
                  <a:pt x="32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6" y="20200"/>
                </a:lnTo>
                <a:close/>
              </a:path>
              <a:path fill="lighten" w="32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6" h="21600">
                <a:moveTo>
                  <a:pt x="16253" y="3837"/>
                </a:moveTo>
                <a:lnTo>
                  <a:pt x="18829" y="6448"/>
                </a:lnTo>
                <a:lnTo>
                  <a:pt x="18829" y="4707"/>
                </a:lnTo>
                <a:lnTo>
                  <a:pt x="20605" y="4707"/>
                </a:lnTo>
                <a:lnTo>
                  <a:pt x="20605" y="8224"/>
                </a:lnTo>
                <a:lnTo>
                  <a:pt x="23216" y="10800"/>
                </a:lnTo>
                <a:lnTo>
                  <a:pt x="21562" y="10800"/>
                </a:lnTo>
                <a:lnTo>
                  <a:pt x="21562" y="17989"/>
                </a:lnTo>
                <a:lnTo>
                  <a:pt x="10944" y="17989"/>
                </a:lnTo>
                <a:lnTo>
                  <a:pt x="10944" y="10800"/>
                </a:lnTo>
                <a:lnTo>
                  <a:pt x="9290" y="10800"/>
                </a:lnTo>
                <a:close/>
              </a:path>
              <a:path fill="darkenLess" w="32506" h="21600">
                <a:moveTo>
                  <a:pt x="18829" y="6448"/>
                </a:moveTo>
                <a:lnTo>
                  <a:pt x="18829" y="4707"/>
                </a:lnTo>
                <a:lnTo>
                  <a:pt x="20605" y="4707"/>
                </a:lnTo>
                <a:lnTo>
                  <a:pt x="20605" y="8224"/>
                </a:lnTo>
                <a:close/>
              </a:path>
              <a:path fill="darkenLess" w="32506" h="21600">
                <a:moveTo>
                  <a:pt x="15330" y="14299"/>
                </a:moveTo>
                <a:lnTo>
                  <a:pt x="17176" y="14299"/>
                </a:lnTo>
                <a:lnTo>
                  <a:pt x="17176" y="17989"/>
                </a:lnTo>
                <a:lnTo>
                  <a:pt x="21562" y="17989"/>
                </a:lnTo>
                <a:lnTo>
                  <a:pt x="21562" y="10800"/>
                </a:lnTo>
                <a:lnTo>
                  <a:pt x="10944" y="10800"/>
                </a:lnTo>
                <a:lnTo>
                  <a:pt x="10944" y="17989"/>
                </a:lnTo>
                <a:lnTo>
                  <a:pt x="1533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7596360" y="6308640"/>
            <a:ext cx="720720" cy="549360"/>
          </a:xfrm>
          <a:custGeom>
            <a:avLst/>
            <a:gdLst>
              <a:gd name="textAreaLeft" fmla="*/ 35280 w 720720"/>
              <a:gd name="textAreaRight" fmla="*/ 685440 w 7207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8333" h="21600">
                <a:moveTo>
                  <a:pt x="0" y="0"/>
                </a:moveTo>
                <a:lnTo>
                  <a:pt x="28333" y="0"/>
                </a:lnTo>
                <a:lnTo>
                  <a:pt x="28333" y="21600"/>
                </a:lnTo>
                <a:lnTo>
                  <a:pt x="0" y="21600"/>
                </a:lnTo>
                <a:close/>
              </a:path>
              <a:path fill="lightenLess" w="28333" h="21600">
                <a:moveTo>
                  <a:pt x="0" y="0"/>
                </a:moveTo>
                <a:lnTo>
                  <a:pt x="28333" y="0"/>
                </a:lnTo>
                <a:lnTo>
                  <a:pt x="26933" y="1400"/>
                </a:lnTo>
                <a:lnTo>
                  <a:pt x="1400" y="1400"/>
                </a:lnTo>
                <a:close/>
              </a:path>
              <a:path fill="darken" w="28333" h="21600">
                <a:moveTo>
                  <a:pt x="28333" y="0"/>
                </a:moveTo>
                <a:lnTo>
                  <a:pt x="28333" y="21600"/>
                </a:lnTo>
                <a:lnTo>
                  <a:pt x="26933" y="20200"/>
                </a:lnTo>
                <a:lnTo>
                  <a:pt x="26933" y="1400"/>
                </a:lnTo>
                <a:close/>
              </a:path>
              <a:path fill="darkenLess" w="28333" h="21600">
                <a:moveTo>
                  <a:pt x="283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33" y="20200"/>
                </a:lnTo>
                <a:close/>
              </a:path>
              <a:path fill="lighten" w="283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33" h="21600">
                <a:moveTo>
                  <a:pt x="7160" y="3794"/>
                </a:moveTo>
                <a:lnTo>
                  <a:pt x="21173" y="10800"/>
                </a:lnTo>
                <a:lnTo>
                  <a:pt x="7160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6732720" y="6308640"/>
            <a:ext cx="863640" cy="549360"/>
          </a:xfrm>
          <a:custGeom>
            <a:avLst/>
            <a:gdLst>
              <a:gd name="textAreaLeft" fmla="*/ 18720 w 863640"/>
              <a:gd name="textAreaRight" fmla="*/ 844920 w 863640"/>
              <a:gd name="textAreaTop" fmla="*/ 18720 h 549360"/>
              <a:gd name="textAreaBottom" fmla="*/ 530640 h 549360"/>
            </a:gdLst>
            <a:ahLst/>
            <a:rect l="textAreaLeft" t="textAreaTop" r="textAreaRight" b="textAreaBottom"/>
            <a:pathLst>
              <a:path w="33949" h="21600">
                <a:moveTo>
                  <a:pt x="0" y="0"/>
                </a:moveTo>
                <a:lnTo>
                  <a:pt x="33949" y="0"/>
                </a:lnTo>
                <a:lnTo>
                  <a:pt x="33949" y="21600"/>
                </a:lnTo>
                <a:lnTo>
                  <a:pt x="0" y="21600"/>
                </a:lnTo>
                <a:close/>
              </a:path>
              <a:path fill="lightenLess" w="33949" h="21600">
                <a:moveTo>
                  <a:pt x="0" y="0"/>
                </a:moveTo>
                <a:lnTo>
                  <a:pt x="33949" y="0"/>
                </a:lnTo>
                <a:lnTo>
                  <a:pt x="33200" y="749"/>
                </a:lnTo>
                <a:lnTo>
                  <a:pt x="749" y="749"/>
                </a:lnTo>
                <a:close/>
              </a:path>
              <a:path fill="darken" w="33949" h="21600">
                <a:moveTo>
                  <a:pt x="33949" y="0"/>
                </a:moveTo>
                <a:lnTo>
                  <a:pt x="33949" y="21600"/>
                </a:lnTo>
                <a:lnTo>
                  <a:pt x="33200" y="20851"/>
                </a:lnTo>
                <a:lnTo>
                  <a:pt x="33200" y="749"/>
                </a:lnTo>
                <a:close/>
              </a:path>
              <a:path fill="darkenLess" w="33949" h="21600">
                <a:moveTo>
                  <a:pt x="33949" y="21600"/>
                </a:moveTo>
                <a:lnTo>
                  <a:pt x="0" y="21600"/>
                </a:lnTo>
                <a:lnTo>
                  <a:pt x="749" y="20851"/>
                </a:lnTo>
                <a:lnTo>
                  <a:pt x="33200" y="20851"/>
                </a:lnTo>
                <a:close/>
              </a:path>
              <a:path fill="lighten" w="33949" h="21600">
                <a:moveTo>
                  <a:pt x="0" y="21600"/>
                </a:moveTo>
                <a:lnTo>
                  <a:pt x="0" y="0"/>
                </a:lnTo>
                <a:lnTo>
                  <a:pt x="749" y="749"/>
                </a:lnTo>
                <a:lnTo>
                  <a:pt x="749" y="20851"/>
                </a:lnTo>
                <a:close/>
              </a:path>
              <a:path fill="darken" w="33949" h="21600">
                <a:moveTo>
                  <a:pt x="9483" y="10800"/>
                </a:moveTo>
                <a:lnTo>
                  <a:pt x="24466" y="3308"/>
                </a:lnTo>
                <a:lnTo>
                  <a:pt x="24466" y="18292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9720" y="620640"/>
            <a:ext cx="833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Расы – это исторически сложившиеся группы людей, объединён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о определённым признака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95640" y="3716280"/>
            <a:ext cx="789120" cy="1800360"/>
          </a:xfrm>
          <a:prstGeom prst="downArrow">
            <a:avLst>
              <a:gd name="adj1" fmla="val 50000"/>
              <a:gd name="adj2" fmla="val 57037"/>
            </a:avLst>
          </a:prstGeom>
          <a:gradFill rotWithShape="0">
            <a:gsLst>
              <a:gs pos="0">
                <a:srgbClr val="66ff33"/>
              </a:gs>
              <a:gs pos="50000">
                <a:srgbClr val="2f7517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2170800">
            <a:off x="1258920" y="3573000"/>
            <a:ext cx="789120" cy="1871640"/>
          </a:xfrm>
          <a:prstGeom prst="downArrow">
            <a:avLst>
              <a:gd name="adj1" fmla="val 50000"/>
              <a:gd name="adj2" fmla="val 59295"/>
            </a:avLst>
          </a:prstGeom>
          <a:gradFill rotWithShape="0">
            <a:gsLst>
              <a:gs pos="0">
                <a:srgbClr val="66ff33"/>
              </a:gs>
              <a:gs pos="50000">
                <a:srgbClr val="2f7517"/>
              </a:gs>
              <a:gs pos="100000">
                <a:srgbClr val="66ff33"/>
              </a:gs>
            </a:gsLst>
            <a:lin ang="3228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9803000">
            <a:off x="6983280" y="3705120"/>
            <a:ext cx="789120" cy="1728720"/>
          </a:xfrm>
          <a:prstGeom prst="downArrow">
            <a:avLst>
              <a:gd name="adj1" fmla="val 50000"/>
              <a:gd name="adj2" fmla="val 54767"/>
            </a:avLst>
          </a:prstGeom>
          <a:gradFill rotWithShape="0">
            <a:gsLst>
              <a:gs pos="0">
                <a:srgbClr val="66ff33"/>
              </a:gs>
              <a:gs pos="50000">
                <a:srgbClr val="2f7517"/>
              </a:gs>
              <a:gs pos="100000">
                <a:srgbClr val="66ff33"/>
              </a:gs>
            </a:gsLst>
            <a:lin ang="72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u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12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68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180"/>
                            </p:stCondLst>
                            <p:childTnLst>
                              <p:par>
                                <p:cTn id="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86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36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12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62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7300"/>
                            </p:stCondLst>
                            <p:childTnLst>
                              <p:par>
                                <p:cTn id="1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300"/>
                            </p:stCondLst>
                            <p:childTnLst>
                              <p:par>
                                <p:cTn id="1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930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50920" y="0"/>
            <a:ext cx="799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"/>
              </a:rPr>
              <a:t>СОСТАВ РАСОВЫЙ Населения МИ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"/>
              </a:rPr>
              <a:t>(по С.И.БРУКУ)</a:t>
            </a:r>
            <a:r>
              <a:rPr b="1" lang="en-US" sz="2400" spc="-1" strike="noStrike">
                <a:solidFill>
                  <a:srgbClr val="ffffff"/>
                </a:solidFill>
                <a:latin typeface="comic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24000" y="1063800"/>
          <a:ext cx="7616520" cy="5547960"/>
        </p:xfrm>
        <a:graphic>
          <a:graphicData uri="http://schemas.openxmlformats.org/drawingml/2006/table">
            <a:tbl>
              <a:tblPr/>
              <a:tblGrid>
                <a:gridCol w="2997000"/>
                <a:gridCol w="2763720"/>
                <a:gridCol w="18558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твь рас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дельный вес в населении земного шара, 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расы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вропеоид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нголоид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ваториаль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верные и юж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зиатские и американск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фриканские  и австралийск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23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ходные и смешанные расовые группы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уппа между европеоидной и монголоидной раса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уппа между ветвями рас европеоидной и африканско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уппа между ветвями рас монголоидов и австралоид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ругие расовые группы и неизвест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>
            <a:hlinkClick r:id="" action="ppaction://hlinkshowjump?jump=previousslide"/>
          </p:cNvPr>
          <p:cNvSpPr/>
          <p:nvPr/>
        </p:nvSpPr>
        <p:spPr>
          <a:xfrm>
            <a:off x="8280360" y="6308640"/>
            <a:ext cx="863640" cy="549360"/>
          </a:xfrm>
          <a:custGeom>
            <a:avLst/>
            <a:gdLst>
              <a:gd name="textAreaLeft" fmla="*/ 18720 w 863640"/>
              <a:gd name="textAreaRight" fmla="*/ 844920 w 863640"/>
              <a:gd name="textAreaTop" fmla="*/ 18720 h 549360"/>
              <a:gd name="textAreaBottom" fmla="*/ 530640 h 549360"/>
            </a:gdLst>
            <a:ahLst/>
            <a:rect l="textAreaLeft" t="textAreaTop" r="textAreaRight" b="textAreaBottom"/>
            <a:pathLst>
              <a:path w="33949" h="21600">
                <a:moveTo>
                  <a:pt x="0" y="0"/>
                </a:moveTo>
                <a:lnTo>
                  <a:pt x="33949" y="0"/>
                </a:lnTo>
                <a:lnTo>
                  <a:pt x="33949" y="21600"/>
                </a:lnTo>
                <a:lnTo>
                  <a:pt x="0" y="21600"/>
                </a:lnTo>
                <a:close/>
              </a:path>
              <a:path fill="lightenLess" w="33949" h="21600">
                <a:moveTo>
                  <a:pt x="0" y="0"/>
                </a:moveTo>
                <a:lnTo>
                  <a:pt x="33949" y="0"/>
                </a:lnTo>
                <a:lnTo>
                  <a:pt x="33200" y="749"/>
                </a:lnTo>
                <a:lnTo>
                  <a:pt x="749" y="749"/>
                </a:lnTo>
                <a:close/>
              </a:path>
              <a:path fill="darken" w="33949" h="21600">
                <a:moveTo>
                  <a:pt x="33949" y="0"/>
                </a:moveTo>
                <a:lnTo>
                  <a:pt x="33949" y="21600"/>
                </a:lnTo>
                <a:lnTo>
                  <a:pt x="33200" y="20851"/>
                </a:lnTo>
                <a:lnTo>
                  <a:pt x="33200" y="749"/>
                </a:lnTo>
                <a:close/>
              </a:path>
              <a:path fill="darkenLess" w="33949" h="21600">
                <a:moveTo>
                  <a:pt x="33949" y="21600"/>
                </a:moveTo>
                <a:lnTo>
                  <a:pt x="0" y="21600"/>
                </a:lnTo>
                <a:lnTo>
                  <a:pt x="749" y="20851"/>
                </a:lnTo>
                <a:lnTo>
                  <a:pt x="33200" y="20851"/>
                </a:lnTo>
                <a:close/>
              </a:path>
              <a:path fill="lighten" w="33949" h="21600">
                <a:moveTo>
                  <a:pt x="0" y="21600"/>
                </a:moveTo>
                <a:lnTo>
                  <a:pt x="0" y="0"/>
                </a:lnTo>
                <a:lnTo>
                  <a:pt x="749" y="749"/>
                </a:lnTo>
                <a:lnTo>
                  <a:pt x="749" y="20851"/>
                </a:lnTo>
                <a:close/>
              </a:path>
              <a:path fill="darken" w="33949" h="21600">
                <a:moveTo>
                  <a:pt x="9483" y="10800"/>
                </a:moveTo>
                <a:lnTo>
                  <a:pt x="24466" y="3308"/>
                </a:lnTo>
                <a:lnTo>
                  <a:pt x="24466" y="18292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nextslide"/>
          </p:cNvPr>
          <p:cNvSpPr/>
          <p:nvPr/>
        </p:nvSpPr>
        <p:spPr>
          <a:xfrm>
            <a:off x="7596360" y="6308640"/>
            <a:ext cx="720720" cy="549360"/>
          </a:xfrm>
          <a:custGeom>
            <a:avLst/>
            <a:gdLst>
              <a:gd name="textAreaLeft" fmla="*/ 35280 w 720720"/>
              <a:gd name="textAreaRight" fmla="*/ 685440 w 7207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8333" h="21600">
                <a:moveTo>
                  <a:pt x="0" y="0"/>
                </a:moveTo>
                <a:lnTo>
                  <a:pt x="28333" y="0"/>
                </a:lnTo>
                <a:lnTo>
                  <a:pt x="28333" y="21600"/>
                </a:lnTo>
                <a:lnTo>
                  <a:pt x="0" y="21600"/>
                </a:lnTo>
                <a:close/>
              </a:path>
              <a:path fill="lightenLess" w="28333" h="21600">
                <a:moveTo>
                  <a:pt x="0" y="0"/>
                </a:moveTo>
                <a:lnTo>
                  <a:pt x="28333" y="0"/>
                </a:lnTo>
                <a:lnTo>
                  <a:pt x="26933" y="1400"/>
                </a:lnTo>
                <a:lnTo>
                  <a:pt x="1400" y="1400"/>
                </a:lnTo>
                <a:close/>
              </a:path>
              <a:path fill="darken" w="28333" h="21600">
                <a:moveTo>
                  <a:pt x="28333" y="0"/>
                </a:moveTo>
                <a:lnTo>
                  <a:pt x="28333" y="21600"/>
                </a:lnTo>
                <a:lnTo>
                  <a:pt x="26933" y="20200"/>
                </a:lnTo>
                <a:lnTo>
                  <a:pt x="26933" y="1400"/>
                </a:lnTo>
                <a:close/>
              </a:path>
              <a:path fill="darkenLess" w="28333" h="21600">
                <a:moveTo>
                  <a:pt x="283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33" y="20200"/>
                </a:lnTo>
                <a:close/>
              </a:path>
              <a:path fill="lighten" w="283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33" h="21600">
                <a:moveTo>
                  <a:pt x="7160" y="3794"/>
                </a:moveTo>
                <a:lnTo>
                  <a:pt x="21173" y="10800"/>
                </a:lnTo>
                <a:lnTo>
                  <a:pt x="7160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713800" cy="597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7" name=""/>
          <p:cNvSpPr/>
          <p:nvPr/>
        </p:nvSpPr>
        <p:spPr>
          <a:xfrm>
            <a:off x="468360" y="26028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"/>
              </a:rPr>
              <a:t>Расы</a:t>
            </a:r>
            <a:r>
              <a:rPr b="0" lang="en-US" sz="2800" spc="-1" strike="noStrike">
                <a:solidFill>
                  <a:srgbClr val="003399"/>
                </a:solidFill>
                <a:latin typeface="comic"/>
              </a:rPr>
              <a:t> делятся на расовые ветви в связи с территориальной особенность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8280360" y="6308640"/>
            <a:ext cx="863640" cy="549360"/>
          </a:xfrm>
          <a:custGeom>
            <a:avLst/>
            <a:gdLst>
              <a:gd name="textAreaLeft" fmla="*/ 18720 w 863640"/>
              <a:gd name="textAreaRight" fmla="*/ 844920 w 863640"/>
              <a:gd name="textAreaTop" fmla="*/ 18720 h 549360"/>
              <a:gd name="textAreaBottom" fmla="*/ 530640 h 549360"/>
            </a:gdLst>
            <a:ahLst/>
            <a:rect l="textAreaLeft" t="textAreaTop" r="textAreaRight" b="textAreaBottom"/>
            <a:pathLst>
              <a:path w="33949" h="21600">
                <a:moveTo>
                  <a:pt x="0" y="0"/>
                </a:moveTo>
                <a:lnTo>
                  <a:pt x="33949" y="0"/>
                </a:lnTo>
                <a:lnTo>
                  <a:pt x="33949" y="21600"/>
                </a:lnTo>
                <a:lnTo>
                  <a:pt x="0" y="21600"/>
                </a:lnTo>
                <a:close/>
              </a:path>
              <a:path fill="lightenLess" w="33949" h="21600">
                <a:moveTo>
                  <a:pt x="0" y="0"/>
                </a:moveTo>
                <a:lnTo>
                  <a:pt x="33949" y="0"/>
                </a:lnTo>
                <a:lnTo>
                  <a:pt x="33200" y="749"/>
                </a:lnTo>
                <a:lnTo>
                  <a:pt x="749" y="749"/>
                </a:lnTo>
                <a:close/>
              </a:path>
              <a:path fill="darken" w="33949" h="21600">
                <a:moveTo>
                  <a:pt x="33949" y="0"/>
                </a:moveTo>
                <a:lnTo>
                  <a:pt x="33949" y="21600"/>
                </a:lnTo>
                <a:lnTo>
                  <a:pt x="33200" y="20851"/>
                </a:lnTo>
                <a:lnTo>
                  <a:pt x="33200" y="749"/>
                </a:lnTo>
                <a:close/>
              </a:path>
              <a:path fill="darkenLess" w="33949" h="21600">
                <a:moveTo>
                  <a:pt x="33949" y="21600"/>
                </a:moveTo>
                <a:lnTo>
                  <a:pt x="0" y="21600"/>
                </a:lnTo>
                <a:lnTo>
                  <a:pt x="749" y="20851"/>
                </a:lnTo>
                <a:lnTo>
                  <a:pt x="33200" y="20851"/>
                </a:lnTo>
                <a:close/>
              </a:path>
              <a:path fill="lighten" w="33949" h="21600">
                <a:moveTo>
                  <a:pt x="0" y="21600"/>
                </a:moveTo>
                <a:lnTo>
                  <a:pt x="0" y="0"/>
                </a:lnTo>
                <a:lnTo>
                  <a:pt x="749" y="749"/>
                </a:lnTo>
                <a:lnTo>
                  <a:pt x="749" y="20851"/>
                </a:lnTo>
                <a:close/>
              </a:path>
              <a:path fill="darken" w="33949" h="21600">
                <a:moveTo>
                  <a:pt x="9483" y="10800"/>
                </a:moveTo>
                <a:lnTo>
                  <a:pt x="24466" y="3308"/>
                </a:lnTo>
                <a:lnTo>
                  <a:pt x="24466" y="18292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7596360" y="6308640"/>
            <a:ext cx="720720" cy="549360"/>
          </a:xfrm>
          <a:custGeom>
            <a:avLst/>
            <a:gdLst>
              <a:gd name="textAreaLeft" fmla="*/ 35280 w 720720"/>
              <a:gd name="textAreaRight" fmla="*/ 685440 w 7207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8333" h="21600">
                <a:moveTo>
                  <a:pt x="0" y="0"/>
                </a:moveTo>
                <a:lnTo>
                  <a:pt x="28333" y="0"/>
                </a:lnTo>
                <a:lnTo>
                  <a:pt x="28333" y="21600"/>
                </a:lnTo>
                <a:lnTo>
                  <a:pt x="0" y="21600"/>
                </a:lnTo>
                <a:close/>
              </a:path>
              <a:path fill="lightenLess" w="28333" h="21600">
                <a:moveTo>
                  <a:pt x="0" y="0"/>
                </a:moveTo>
                <a:lnTo>
                  <a:pt x="28333" y="0"/>
                </a:lnTo>
                <a:lnTo>
                  <a:pt x="26933" y="1400"/>
                </a:lnTo>
                <a:lnTo>
                  <a:pt x="1400" y="1400"/>
                </a:lnTo>
                <a:close/>
              </a:path>
              <a:path fill="darken" w="28333" h="21600">
                <a:moveTo>
                  <a:pt x="28333" y="0"/>
                </a:moveTo>
                <a:lnTo>
                  <a:pt x="28333" y="21600"/>
                </a:lnTo>
                <a:lnTo>
                  <a:pt x="26933" y="20200"/>
                </a:lnTo>
                <a:lnTo>
                  <a:pt x="26933" y="1400"/>
                </a:lnTo>
                <a:close/>
              </a:path>
              <a:path fill="darkenLess" w="28333" h="21600">
                <a:moveTo>
                  <a:pt x="283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33" y="20200"/>
                </a:lnTo>
                <a:close/>
              </a:path>
              <a:path fill="lighten" w="283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33" h="21600">
                <a:moveTo>
                  <a:pt x="7160" y="3794"/>
                </a:moveTo>
                <a:lnTo>
                  <a:pt x="21173" y="10800"/>
                </a:lnTo>
                <a:lnTo>
                  <a:pt x="7160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-360" y="2924280"/>
            <a:ext cx="285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ереход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40000" y="2924280"/>
            <a:ext cx="27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мешан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5400000">
            <a:off x="4122360" y="-477720"/>
            <a:ext cx="647640" cy="8893080"/>
          </a:xfrm>
          <a:custGeom>
            <a:avLst/>
            <a:gdLst>
              <a:gd name="textAreaLeft" fmla="*/ 0 w 647640"/>
              <a:gd name="textAreaRight" fmla="*/ 234000 w 647640"/>
              <a:gd name="textAreaTop" fmla="*/ 231840 h 8893080"/>
              <a:gd name="textAreaBottom" fmla="*/ 8661240 h 889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4365720"/>
            <a:ext cx="86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формировались в результате интенсивных связей, из-за смешивания рас, благодаря историко – географическим условия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16000" y="189000"/>
            <a:ext cx="7128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Расовые групп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165" name=""/>
          <p:cNvSpPr/>
          <p:nvPr/>
        </p:nvSpPr>
        <p:spPr>
          <a:xfrm rot="2105400">
            <a:off x="1402920" y="1557360"/>
            <a:ext cx="647640" cy="1511280"/>
          </a:xfrm>
          <a:prstGeom prst="downArrow">
            <a:avLst>
              <a:gd name="adj1" fmla="val 50000"/>
              <a:gd name="adj2" fmla="val 58338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9582200">
            <a:off x="7019640" y="1557000"/>
            <a:ext cx="647640" cy="1511280"/>
          </a:xfrm>
          <a:prstGeom prst="downArrow">
            <a:avLst>
              <a:gd name="adj1" fmla="val 50000"/>
              <a:gd name="adj2" fmla="val 58338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8280360" y="6308640"/>
            <a:ext cx="863640" cy="549360"/>
          </a:xfrm>
          <a:custGeom>
            <a:avLst/>
            <a:gdLst>
              <a:gd name="textAreaLeft" fmla="*/ 18720 w 863640"/>
              <a:gd name="textAreaRight" fmla="*/ 844920 w 863640"/>
              <a:gd name="textAreaTop" fmla="*/ 18720 h 549360"/>
              <a:gd name="textAreaBottom" fmla="*/ 530640 h 549360"/>
            </a:gdLst>
            <a:ahLst/>
            <a:rect l="textAreaLeft" t="textAreaTop" r="textAreaRight" b="textAreaBottom"/>
            <a:pathLst>
              <a:path w="33949" h="21600">
                <a:moveTo>
                  <a:pt x="0" y="0"/>
                </a:moveTo>
                <a:lnTo>
                  <a:pt x="33949" y="0"/>
                </a:lnTo>
                <a:lnTo>
                  <a:pt x="33949" y="21600"/>
                </a:lnTo>
                <a:lnTo>
                  <a:pt x="0" y="21600"/>
                </a:lnTo>
                <a:close/>
              </a:path>
              <a:path fill="lightenLess" w="33949" h="21600">
                <a:moveTo>
                  <a:pt x="0" y="0"/>
                </a:moveTo>
                <a:lnTo>
                  <a:pt x="33949" y="0"/>
                </a:lnTo>
                <a:lnTo>
                  <a:pt x="33200" y="749"/>
                </a:lnTo>
                <a:lnTo>
                  <a:pt x="749" y="749"/>
                </a:lnTo>
                <a:close/>
              </a:path>
              <a:path fill="darken" w="33949" h="21600">
                <a:moveTo>
                  <a:pt x="33949" y="0"/>
                </a:moveTo>
                <a:lnTo>
                  <a:pt x="33949" y="21600"/>
                </a:lnTo>
                <a:lnTo>
                  <a:pt x="33200" y="20851"/>
                </a:lnTo>
                <a:lnTo>
                  <a:pt x="33200" y="749"/>
                </a:lnTo>
                <a:close/>
              </a:path>
              <a:path fill="darkenLess" w="33949" h="21600">
                <a:moveTo>
                  <a:pt x="33949" y="21600"/>
                </a:moveTo>
                <a:lnTo>
                  <a:pt x="0" y="21600"/>
                </a:lnTo>
                <a:lnTo>
                  <a:pt x="749" y="20851"/>
                </a:lnTo>
                <a:lnTo>
                  <a:pt x="33200" y="20851"/>
                </a:lnTo>
                <a:close/>
              </a:path>
              <a:path fill="lighten" w="33949" h="21600">
                <a:moveTo>
                  <a:pt x="0" y="21600"/>
                </a:moveTo>
                <a:lnTo>
                  <a:pt x="0" y="0"/>
                </a:lnTo>
                <a:lnTo>
                  <a:pt x="749" y="749"/>
                </a:lnTo>
                <a:lnTo>
                  <a:pt x="749" y="20851"/>
                </a:lnTo>
                <a:close/>
              </a:path>
              <a:path fill="darken" w="33949" h="21600">
                <a:moveTo>
                  <a:pt x="9483" y="10800"/>
                </a:moveTo>
                <a:lnTo>
                  <a:pt x="24466" y="3308"/>
                </a:lnTo>
                <a:lnTo>
                  <a:pt x="24466" y="18292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7596360" y="6308640"/>
            <a:ext cx="720720" cy="549360"/>
          </a:xfrm>
          <a:custGeom>
            <a:avLst/>
            <a:gdLst>
              <a:gd name="textAreaLeft" fmla="*/ 35280 w 720720"/>
              <a:gd name="textAreaRight" fmla="*/ 685440 w 7207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8333" h="21600">
                <a:moveTo>
                  <a:pt x="0" y="0"/>
                </a:moveTo>
                <a:lnTo>
                  <a:pt x="28333" y="0"/>
                </a:lnTo>
                <a:lnTo>
                  <a:pt x="28333" y="21600"/>
                </a:lnTo>
                <a:lnTo>
                  <a:pt x="0" y="21600"/>
                </a:lnTo>
                <a:close/>
              </a:path>
              <a:path fill="lightenLess" w="28333" h="21600">
                <a:moveTo>
                  <a:pt x="0" y="0"/>
                </a:moveTo>
                <a:lnTo>
                  <a:pt x="28333" y="0"/>
                </a:lnTo>
                <a:lnTo>
                  <a:pt x="26933" y="1400"/>
                </a:lnTo>
                <a:lnTo>
                  <a:pt x="1400" y="1400"/>
                </a:lnTo>
                <a:close/>
              </a:path>
              <a:path fill="darken" w="28333" h="21600">
                <a:moveTo>
                  <a:pt x="28333" y="0"/>
                </a:moveTo>
                <a:lnTo>
                  <a:pt x="28333" y="21600"/>
                </a:lnTo>
                <a:lnTo>
                  <a:pt x="26933" y="20200"/>
                </a:lnTo>
                <a:lnTo>
                  <a:pt x="26933" y="1400"/>
                </a:lnTo>
                <a:close/>
              </a:path>
              <a:path fill="darkenLess" w="28333" h="21600">
                <a:moveTo>
                  <a:pt x="283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33" y="20200"/>
                </a:lnTo>
                <a:close/>
              </a:path>
              <a:path fill="lighten" w="283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33" h="21600">
                <a:moveTo>
                  <a:pt x="7160" y="3794"/>
                </a:moveTo>
                <a:lnTo>
                  <a:pt x="21173" y="10800"/>
                </a:lnTo>
                <a:lnTo>
                  <a:pt x="7160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u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000"/>
                            </p:stCondLst>
                            <p:childTnLst>
                              <p:par>
                                <p:cTn id="20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9000"/>
                            </p:stCondLst>
                            <p:childTnLst>
                              <p:par>
                                <p:cTn id="2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ency FB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gency FB"/>
              </a:rPr>
              <a:t>Переходные расовые группы  ранее формировались на границе ареалов проживания больших рас. Пример: эфиопы,  мадагаскарцы,  полинезийц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ency FB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gency FB"/>
              </a:rPr>
              <a:t>Смешанные расовые группы формировались в результате смешивания в последнее время (</a:t>
            </a:r>
            <a:r>
              <a:rPr b="0" lang="en-US" sz="3200" spc="-1" strike="noStrike">
                <a:solidFill>
                  <a:srgbClr val="0000ff"/>
                </a:solidFill>
                <a:latin typeface="Agency FB"/>
              </a:rPr>
              <a:t>XVI – XVIII</a:t>
            </a:r>
            <a:r>
              <a:rPr b="0" lang="ru-RU" sz="3200" spc="-1" strike="noStrike">
                <a:solidFill>
                  <a:srgbClr val="0000ff"/>
                </a:solidFill>
                <a:latin typeface="Agency FB"/>
              </a:rPr>
              <a:t> ) различных рас. Пример: метисы, мулаты, самб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previousslide"/>
          </p:cNvPr>
          <p:cNvSpPr/>
          <p:nvPr/>
        </p:nvSpPr>
        <p:spPr>
          <a:xfrm>
            <a:off x="8280360" y="6308640"/>
            <a:ext cx="863640" cy="549360"/>
          </a:xfrm>
          <a:custGeom>
            <a:avLst/>
            <a:gdLst>
              <a:gd name="textAreaLeft" fmla="*/ 18720 w 863640"/>
              <a:gd name="textAreaRight" fmla="*/ 844920 w 863640"/>
              <a:gd name="textAreaTop" fmla="*/ 18720 h 549360"/>
              <a:gd name="textAreaBottom" fmla="*/ 530640 h 549360"/>
            </a:gdLst>
            <a:ahLst/>
            <a:rect l="textAreaLeft" t="textAreaTop" r="textAreaRight" b="textAreaBottom"/>
            <a:pathLst>
              <a:path w="33949" h="21600">
                <a:moveTo>
                  <a:pt x="0" y="0"/>
                </a:moveTo>
                <a:lnTo>
                  <a:pt x="33949" y="0"/>
                </a:lnTo>
                <a:lnTo>
                  <a:pt x="33949" y="21600"/>
                </a:lnTo>
                <a:lnTo>
                  <a:pt x="0" y="21600"/>
                </a:lnTo>
                <a:close/>
              </a:path>
              <a:path fill="lightenLess" w="33949" h="21600">
                <a:moveTo>
                  <a:pt x="0" y="0"/>
                </a:moveTo>
                <a:lnTo>
                  <a:pt x="33949" y="0"/>
                </a:lnTo>
                <a:lnTo>
                  <a:pt x="33200" y="749"/>
                </a:lnTo>
                <a:lnTo>
                  <a:pt x="749" y="749"/>
                </a:lnTo>
                <a:close/>
              </a:path>
              <a:path fill="darken" w="33949" h="21600">
                <a:moveTo>
                  <a:pt x="33949" y="0"/>
                </a:moveTo>
                <a:lnTo>
                  <a:pt x="33949" y="21600"/>
                </a:lnTo>
                <a:lnTo>
                  <a:pt x="33200" y="20851"/>
                </a:lnTo>
                <a:lnTo>
                  <a:pt x="33200" y="749"/>
                </a:lnTo>
                <a:close/>
              </a:path>
              <a:path fill="darkenLess" w="33949" h="21600">
                <a:moveTo>
                  <a:pt x="33949" y="21600"/>
                </a:moveTo>
                <a:lnTo>
                  <a:pt x="0" y="21600"/>
                </a:lnTo>
                <a:lnTo>
                  <a:pt x="749" y="20851"/>
                </a:lnTo>
                <a:lnTo>
                  <a:pt x="33200" y="20851"/>
                </a:lnTo>
                <a:close/>
              </a:path>
              <a:path fill="lighten" w="33949" h="21600">
                <a:moveTo>
                  <a:pt x="0" y="21600"/>
                </a:moveTo>
                <a:lnTo>
                  <a:pt x="0" y="0"/>
                </a:lnTo>
                <a:lnTo>
                  <a:pt x="749" y="749"/>
                </a:lnTo>
                <a:lnTo>
                  <a:pt x="749" y="20851"/>
                </a:lnTo>
                <a:close/>
              </a:path>
              <a:path fill="darken" w="33949" h="21600">
                <a:moveTo>
                  <a:pt x="9483" y="10800"/>
                </a:moveTo>
                <a:lnTo>
                  <a:pt x="24466" y="3308"/>
                </a:lnTo>
                <a:lnTo>
                  <a:pt x="24466" y="18292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7596360" y="6308640"/>
            <a:ext cx="720720" cy="549360"/>
          </a:xfrm>
          <a:custGeom>
            <a:avLst/>
            <a:gdLst>
              <a:gd name="textAreaLeft" fmla="*/ 35280 w 720720"/>
              <a:gd name="textAreaRight" fmla="*/ 685440 w 7207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8333" h="21600">
                <a:moveTo>
                  <a:pt x="0" y="0"/>
                </a:moveTo>
                <a:lnTo>
                  <a:pt x="28333" y="0"/>
                </a:lnTo>
                <a:lnTo>
                  <a:pt x="28333" y="21600"/>
                </a:lnTo>
                <a:lnTo>
                  <a:pt x="0" y="21600"/>
                </a:lnTo>
                <a:close/>
              </a:path>
              <a:path fill="lightenLess" w="28333" h="21600">
                <a:moveTo>
                  <a:pt x="0" y="0"/>
                </a:moveTo>
                <a:lnTo>
                  <a:pt x="28333" y="0"/>
                </a:lnTo>
                <a:lnTo>
                  <a:pt x="26933" y="1400"/>
                </a:lnTo>
                <a:lnTo>
                  <a:pt x="1400" y="1400"/>
                </a:lnTo>
                <a:close/>
              </a:path>
              <a:path fill="darken" w="28333" h="21600">
                <a:moveTo>
                  <a:pt x="28333" y="0"/>
                </a:moveTo>
                <a:lnTo>
                  <a:pt x="28333" y="21600"/>
                </a:lnTo>
                <a:lnTo>
                  <a:pt x="26933" y="20200"/>
                </a:lnTo>
                <a:lnTo>
                  <a:pt x="26933" y="1400"/>
                </a:lnTo>
                <a:close/>
              </a:path>
              <a:path fill="darkenLess" w="28333" h="21600">
                <a:moveTo>
                  <a:pt x="283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33" y="20200"/>
                </a:lnTo>
                <a:close/>
              </a:path>
              <a:path fill="lighten" w="283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33" h="21600">
                <a:moveTo>
                  <a:pt x="7160" y="3794"/>
                </a:moveTo>
                <a:lnTo>
                  <a:pt x="21173" y="10800"/>
                </a:lnTo>
                <a:lnTo>
                  <a:pt x="7160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u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72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9640"/>
                            </p:stCondLst>
                            <p:childTnLst>
                              <p:par>
                                <p:cTn id="2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333360"/>
            <a:ext cx="8893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"/>
              </a:rPr>
              <a:t>Вывод:</a:t>
            </a:r>
            <a:r>
              <a:rPr b="0" lang="en-US" sz="3600" spc="-1" strike="noStrike">
                <a:solidFill>
                  <a:srgbClr val="0000ff"/>
                </a:solidFill>
                <a:latin typeface="comic"/>
              </a:rPr>
              <a:t> научно доказано, что расы, внешне существенно отличаясь друг от друга, по своим социально – культурным свойствам достаточно схожи между собой. Поэтому расистские воззрения о наличии рас  с «высшим» или «низшим» интеллектом являются необоснованными. Тем не менее до сих пор в некоторых странах наблюдаются случаи расовой дискриминац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8280360" y="6308640"/>
            <a:ext cx="863640" cy="549360"/>
          </a:xfrm>
          <a:custGeom>
            <a:avLst/>
            <a:gdLst>
              <a:gd name="textAreaLeft" fmla="*/ 18720 w 863640"/>
              <a:gd name="textAreaRight" fmla="*/ 844920 w 863640"/>
              <a:gd name="textAreaTop" fmla="*/ 18720 h 549360"/>
              <a:gd name="textAreaBottom" fmla="*/ 530640 h 549360"/>
            </a:gdLst>
            <a:ahLst/>
            <a:rect l="textAreaLeft" t="textAreaTop" r="textAreaRight" b="textAreaBottom"/>
            <a:pathLst>
              <a:path w="33949" h="21600">
                <a:moveTo>
                  <a:pt x="0" y="0"/>
                </a:moveTo>
                <a:lnTo>
                  <a:pt x="33949" y="0"/>
                </a:lnTo>
                <a:lnTo>
                  <a:pt x="33949" y="21600"/>
                </a:lnTo>
                <a:lnTo>
                  <a:pt x="0" y="21600"/>
                </a:lnTo>
                <a:close/>
              </a:path>
              <a:path fill="lightenLess" w="33949" h="21600">
                <a:moveTo>
                  <a:pt x="0" y="0"/>
                </a:moveTo>
                <a:lnTo>
                  <a:pt x="33949" y="0"/>
                </a:lnTo>
                <a:lnTo>
                  <a:pt x="33200" y="749"/>
                </a:lnTo>
                <a:lnTo>
                  <a:pt x="749" y="749"/>
                </a:lnTo>
                <a:close/>
              </a:path>
              <a:path fill="darken" w="33949" h="21600">
                <a:moveTo>
                  <a:pt x="33949" y="0"/>
                </a:moveTo>
                <a:lnTo>
                  <a:pt x="33949" y="21600"/>
                </a:lnTo>
                <a:lnTo>
                  <a:pt x="33200" y="20851"/>
                </a:lnTo>
                <a:lnTo>
                  <a:pt x="33200" y="749"/>
                </a:lnTo>
                <a:close/>
              </a:path>
              <a:path fill="darkenLess" w="33949" h="21600">
                <a:moveTo>
                  <a:pt x="33949" y="21600"/>
                </a:moveTo>
                <a:lnTo>
                  <a:pt x="0" y="21600"/>
                </a:lnTo>
                <a:lnTo>
                  <a:pt x="749" y="20851"/>
                </a:lnTo>
                <a:lnTo>
                  <a:pt x="33200" y="20851"/>
                </a:lnTo>
                <a:close/>
              </a:path>
              <a:path fill="lighten" w="33949" h="21600">
                <a:moveTo>
                  <a:pt x="0" y="21600"/>
                </a:moveTo>
                <a:lnTo>
                  <a:pt x="0" y="0"/>
                </a:lnTo>
                <a:lnTo>
                  <a:pt x="749" y="749"/>
                </a:lnTo>
                <a:lnTo>
                  <a:pt x="749" y="20851"/>
                </a:lnTo>
                <a:close/>
              </a:path>
              <a:path fill="darken" w="33949" h="21600">
                <a:moveTo>
                  <a:pt x="9483" y="10800"/>
                </a:moveTo>
                <a:lnTo>
                  <a:pt x="24466" y="3308"/>
                </a:lnTo>
                <a:lnTo>
                  <a:pt x="24466" y="18292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7596360" y="6308640"/>
            <a:ext cx="720720" cy="549360"/>
          </a:xfrm>
          <a:custGeom>
            <a:avLst/>
            <a:gdLst>
              <a:gd name="textAreaLeft" fmla="*/ 35280 w 720720"/>
              <a:gd name="textAreaRight" fmla="*/ 685440 w 7207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8333" h="21600">
                <a:moveTo>
                  <a:pt x="0" y="0"/>
                </a:moveTo>
                <a:lnTo>
                  <a:pt x="28333" y="0"/>
                </a:lnTo>
                <a:lnTo>
                  <a:pt x="28333" y="21600"/>
                </a:lnTo>
                <a:lnTo>
                  <a:pt x="0" y="21600"/>
                </a:lnTo>
                <a:close/>
              </a:path>
              <a:path fill="lightenLess" w="28333" h="21600">
                <a:moveTo>
                  <a:pt x="0" y="0"/>
                </a:moveTo>
                <a:lnTo>
                  <a:pt x="28333" y="0"/>
                </a:lnTo>
                <a:lnTo>
                  <a:pt x="26933" y="1400"/>
                </a:lnTo>
                <a:lnTo>
                  <a:pt x="1400" y="1400"/>
                </a:lnTo>
                <a:close/>
              </a:path>
              <a:path fill="darken" w="28333" h="21600">
                <a:moveTo>
                  <a:pt x="28333" y="0"/>
                </a:moveTo>
                <a:lnTo>
                  <a:pt x="28333" y="21600"/>
                </a:lnTo>
                <a:lnTo>
                  <a:pt x="26933" y="20200"/>
                </a:lnTo>
                <a:lnTo>
                  <a:pt x="26933" y="1400"/>
                </a:lnTo>
                <a:close/>
              </a:path>
              <a:path fill="darkenLess" w="28333" h="21600">
                <a:moveTo>
                  <a:pt x="283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33" y="20200"/>
                </a:lnTo>
                <a:close/>
              </a:path>
              <a:path fill="lighten" w="283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33" h="21600">
                <a:moveTo>
                  <a:pt x="7160" y="3794"/>
                </a:moveTo>
                <a:lnTo>
                  <a:pt x="21173" y="10800"/>
                </a:lnTo>
                <a:lnTo>
                  <a:pt x="7160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u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300"/>
                            </p:stCondLst>
                            <p:childTnLst>
                              <p:par>
                                <p:cTn id="2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476280"/>
            <a:ext cx="9144000" cy="65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Национальный состав населения любого региона или страны  определяется его этническими признаками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Этнос («народ») – исторически сложившееся общество людей, обладающих единым национальным сознанием, объединенных на основе единого языка, территор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>
            <a:hlinkClick r:id="" action="ppaction://hlinkshowjump?jump=previousslide"/>
          </p:cNvPr>
          <p:cNvSpPr/>
          <p:nvPr/>
        </p:nvSpPr>
        <p:spPr>
          <a:xfrm>
            <a:off x="8280360" y="6308640"/>
            <a:ext cx="863640" cy="549360"/>
          </a:xfrm>
          <a:custGeom>
            <a:avLst/>
            <a:gdLst>
              <a:gd name="textAreaLeft" fmla="*/ 18720 w 863640"/>
              <a:gd name="textAreaRight" fmla="*/ 844920 w 863640"/>
              <a:gd name="textAreaTop" fmla="*/ 18720 h 549360"/>
              <a:gd name="textAreaBottom" fmla="*/ 530640 h 549360"/>
            </a:gdLst>
            <a:ahLst/>
            <a:rect l="textAreaLeft" t="textAreaTop" r="textAreaRight" b="textAreaBottom"/>
            <a:pathLst>
              <a:path w="33949" h="21600">
                <a:moveTo>
                  <a:pt x="0" y="0"/>
                </a:moveTo>
                <a:lnTo>
                  <a:pt x="33949" y="0"/>
                </a:lnTo>
                <a:lnTo>
                  <a:pt x="33949" y="21600"/>
                </a:lnTo>
                <a:lnTo>
                  <a:pt x="0" y="21600"/>
                </a:lnTo>
                <a:close/>
              </a:path>
              <a:path fill="lightenLess" w="33949" h="21600">
                <a:moveTo>
                  <a:pt x="0" y="0"/>
                </a:moveTo>
                <a:lnTo>
                  <a:pt x="33949" y="0"/>
                </a:lnTo>
                <a:lnTo>
                  <a:pt x="33200" y="749"/>
                </a:lnTo>
                <a:lnTo>
                  <a:pt x="749" y="749"/>
                </a:lnTo>
                <a:close/>
              </a:path>
              <a:path fill="darken" w="33949" h="21600">
                <a:moveTo>
                  <a:pt x="33949" y="0"/>
                </a:moveTo>
                <a:lnTo>
                  <a:pt x="33949" y="21600"/>
                </a:lnTo>
                <a:lnTo>
                  <a:pt x="33200" y="20851"/>
                </a:lnTo>
                <a:lnTo>
                  <a:pt x="33200" y="749"/>
                </a:lnTo>
                <a:close/>
              </a:path>
              <a:path fill="darkenLess" w="33949" h="21600">
                <a:moveTo>
                  <a:pt x="33949" y="21600"/>
                </a:moveTo>
                <a:lnTo>
                  <a:pt x="0" y="21600"/>
                </a:lnTo>
                <a:lnTo>
                  <a:pt x="749" y="20851"/>
                </a:lnTo>
                <a:lnTo>
                  <a:pt x="33200" y="20851"/>
                </a:lnTo>
                <a:close/>
              </a:path>
              <a:path fill="lighten" w="33949" h="21600">
                <a:moveTo>
                  <a:pt x="0" y="21600"/>
                </a:moveTo>
                <a:lnTo>
                  <a:pt x="0" y="0"/>
                </a:lnTo>
                <a:lnTo>
                  <a:pt x="749" y="749"/>
                </a:lnTo>
                <a:lnTo>
                  <a:pt x="749" y="20851"/>
                </a:lnTo>
                <a:close/>
              </a:path>
              <a:path fill="darken" w="33949" h="21600">
                <a:moveTo>
                  <a:pt x="9483" y="10800"/>
                </a:moveTo>
                <a:lnTo>
                  <a:pt x="24466" y="3308"/>
                </a:lnTo>
                <a:lnTo>
                  <a:pt x="24466" y="18292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7596360" y="6308640"/>
            <a:ext cx="720720" cy="549360"/>
          </a:xfrm>
          <a:custGeom>
            <a:avLst/>
            <a:gdLst>
              <a:gd name="textAreaLeft" fmla="*/ 35280 w 720720"/>
              <a:gd name="textAreaRight" fmla="*/ 685440 w 7207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8333" h="21600">
                <a:moveTo>
                  <a:pt x="0" y="0"/>
                </a:moveTo>
                <a:lnTo>
                  <a:pt x="28333" y="0"/>
                </a:lnTo>
                <a:lnTo>
                  <a:pt x="28333" y="21600"/>
                </a:lnTo>
                <a:lnTo>
                  <a:pt x="0" y="21600"/>
                </a:lnTo>
                <a:close/>
              </a:path>
              <a:path fill="lightenLess" w="28333" h="21600">
                <a:moveTo>
                  <a:pt x="0" y="0"/>
                </a:moveTo>
                <a:lnTo>
                  <a:pt x="28333" y="0"/>
                </a:lnTo>
                <a:lnTo>
                  <a:pt x="26933" y="1400"/>
                </a:lnTo>
                <a:lnTo>
                  <a:pt x="1400" y="1400"/>
                </a:lnTo>
                <a:close/>
              </a:path>
              <a:path fill="darken" w="28333" h="21600">
                <a:moveTo>
                  <a:pt x="28333" y="0"/>
                </a:moveTo>
                <a:lnTo>
                  <a:pt x="28333" y="21600"/>
                </a:lnTo>
                <a:lnTo>
                  <a:pt x="26933" y="20200"/>
                </a:lnTo>
                <a:lnTo>
                  <a:pt x="26933" y="1400"/>
                </a:lnTo>
                <a:close/>
              </a:path>
              <a:path fill="darkenLess" w="28333" h="21600">
                <a:moveTo>
                  <a:pt x="283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33" y="20200"/>
                </a:lnTo>
                <a:close/>
              </a:path>
              <a:path fill="lighten" w="283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33" h="21600">
                <a:moveTo>
                  <a:pt x="7160" y="3794"/>
                </a:moveTo>
                <a:lnTo>
                  <a:pt x="21173" y="10800"/>
                </a:lnTo>
                <a:lnTo>
                  <a:pt x="7160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u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05:49:56Z</dcterms:created>
  <dc:creator>Учащийся</dc:creator>
  <dc:description/>
  <dc:language>en-US</dc:language>
  <cp:lastModifiedBy>User</cp:lastModifiedBy>
  <dcterms:modified xsi:type="dcterms:W3CDTF">2009-01-27T06:21:48Z</dcterms:modified>
  <cp:revision>27</cp:revision>
  <dc:subject/>
  <dc:title>Слайд 1</dc:title>
</cp:coreProperties>
</file>