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6.jpeg" ContentType="image/jpeg"/>
  <Override PartName="/ppt/media/typ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D784-B836-4665-AC7C-B0B3FB581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844B-A494-4E16-80FE-B9784EC0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BCAD-9B69-4FE8-979E-42554277F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B634-EAED-4A2E-807A-D9B8AA787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8150-6098-4A2F-8D8F-53EA2178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940A-5A7A-4EB5-93FF-A4F7E708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7829-C2C9-4ABE-A07E-BAEC0B3D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80AC-77E7-4F4B-99B0-B899AF20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3F5E-8F68-49E8-8B09-ACD0E39F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D2ED-5D4A-45C9-9BC9-6D0D98ED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556C-49CE-4091-B24A-44A382A2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BED3-9EBE-4F00-ACFD-F4F27319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2B51-DB91-4922-86D1-7731F2914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836640"/>
            <a:ext cx="7201080" cy="41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евероятное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округ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ас..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673272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3794"/>
                </a:moveTo>
                <a:lnTo>
                  <a:pt x="19737" y="10800"/>
                </a:lnTo>
                <a:lnTo>
                  <a:pt x="5724" y="17806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" action="ppaction://hlinkshowjump?jump=previousslide"/>
          </p:cNvPr>
          <p:cNvSpPr/>
          <p:nvPr/>
        </p:nvSpPr>
        <p:spPr>
          <a:xfrm>
            <a:off x="615636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7493"/>
                </a:moveTo>
                <a:lnTo>
                  <a:pt x="7832" y="7493"/>
                </a:lnTo>
                <a:lnTo>
                  <a:pt x="7832" y="12828"/>
                </a:lnTo>
                <a:cubicBezTo>
                  <a:pt x="7832" y="13751"/>
                  <a:pt x="8632" y="14482"/>
                  <a:pt x="9668" y="14482"/>
                </a:cubicBezTo>
                <a:lnTo>
                  <a:pt x="11330" y="14482"/>
                </a:lnTo>
                <a:cubicBezTo>
                  <a:pt x="12366" y="14482"/>
                  <a:pt x="13167" y="13751"/>
                  <a:pt x="13167" y="12828"/>
                </a:cubicBezTo>
                <a:lnTo>
                  <a:pt x="13167" y="7493"/>
                </a:lnTo>
                <a:lnTo>
                  <a:pt x="11330" y="7493"/>
                </a:lnTo>
                <a:lnTo>
                  <a:pt x="14838" y="3985"/>
                </a:lnTo>
                <a:lnTo>
                  <a:pt x="18511" y="7493"/>
                </a:lnTo>
                <a:lnTo>
                  <a:pt x="16675" y="7493"/>
                </a:lnTo>
                <a:lnTo>
                  <a:pt x="16675" y="12828"/>
                </a:lnTo>
                <a:cubicBezTo>
                  <a:pt x="16675" y="15596"/>
                  <a:pt x="14098" y="18155"/>
                  <a:pt x="11330" y="18155"/>
                </a:cubicBezTo>
                <a:lnTo>
                  <a:pt x="9668" y="18155"/>
                </a:lnTo>
                <a:cubicBezTo>
                  <a:pt x="6900" y="18155"/>
                  <a:pt x="4324" y="15596"/>
                  <a:pt x="4324" y="12828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endshow"/>
          </p:cNvPr>
          <p:cNvSpPr/>
          <p:nvPr/>
        </p:nvSpPr>
        <p:spPr>
          <a:xfrm>
            <a:off x="8388360" y="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79280" y="5877000"/>
            <a:ext cx="1238400" cy="7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втор: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619280" y="6021360"/>
            <a:ext cx="3171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Редих Татья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95280" y="475200"/>
            <a:ext cx="79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Около 70 процентов живых существ Земли - бактерии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673272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3794"/>
                </a:moveTo>
                <a:lnTo>
                  <a:pt x="19737" y="10800"/>
                </a:lnTo>
                <a:lnTo>
                  <a:pt x="5724" y="17806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615636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558000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7493"/>
                </a:moveTo>
                <a:lnTo>
                  <a:pt x="7832" y="7493"/>
                </a:lnTo>
                <a:lnTo>
                  <a:pt x="7832" y="12828"/>
                </a:lnTo>
                <a:cubicBezTo>
                  <a:pt x="7832" y="13751"/>
                  <a:pt x="8632" y="14482"/>
                  <a:pt x="9668" y="14482"/>
                </a:cubicBezTo>
                <a:lnTo>
                  <a:pt x="11330" y="14482"/>
                </a:lnTo>
                <a:cubicBezTo>
                  <a:pt x="12366" y="14482"/>
                  <a:pt x="13167" y="13751"/>
                  <a:pt x="13167" y="12828"/>
                </a:cubicBezTo>
                <a:lnTo>
                  <a:pt x="13167" y="7493"/>
                </a:lnTo>
                <a:lnTo>
                  <a:pt x="11330" y="7493"/>
                </a:lnTo>
                <a:lnTo>
                  <a:pt x="14838" y="3985"/>
                </a:lnTo>
                <a:lnTo>
                  <a:pt x="18511" y="7493"/>
                </a:lnTo>
                <a:lnTo>
                  <a:pt x="16675" y="7493"/>
                </a:lnTo>
                <a:lnTo>
                  <a:pt x="16675" y="12828"/>
                </a:lnTo>
                <a:cubicBezTo>
                  <a:pt x="16675" y="15596"/>
                  <a:pt x="14098" y="18155"/>
                  <a:pt x="11330" y="18155"/>
                </a:cubicBezTo>
                <a:lnTo>
                  <a:pt x="9668" y="18155"/>
                </a:lnTo>
                <a:cubicBezTo>
                  <a:pt x="6900" y="18155"/>
                  <a:pt x="4324" y="15596"/>
                  <a:pt x="4324" y="12828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5003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10800"/>
                </a:moveTo>
                <a:lnTo>
                  <a:pt x="18337" y="3794"/>
                </a:lnTo>
                <a:lnTo>
                  <a:pt x="18337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" action="ppaction://hlinkshowjump?jump=endshow"/>
          </p:cNvPr>
          <p:cNvSpPr/>
          <p:nvPr/>
        </p:nvSpPr>
        <p:spPr>
          <a:xfrm>
            <a:off x="8388360" y="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95280" y="345492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Атлантические песчаные акулы поедают своих братьев и сестёр ещё в материнской утробе.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673272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3794"/>
                </a:moveTo>
                <a:lnTo>
                  <a:pt x="19737" y="10800"/>
                </a:lnTo>
                <a:lnTo>
                  <a:pt x="5724" y="17806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615636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previousslide"/>
          </p:cNvPr>
          <p:cNvSpPr/>
          <p:nvPr/>
        </p:nvSpPr>
        <p:spPr>
          <a:xfrm>
            <a:off x="558000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7493"/>
                </a:moveTo>
                <a:lnTo>
                  <a:pt x="7832" y="7493"/>
                </a:lnTo>
                <a:lnTo>
                  <a:pt x="7832" y="12828"/>
                </a:lnTo>
                <a:cubicBezTo>
                  <a:pt x="7832" y="13751"/>
                  <a:pt x="8632" y="14482"/>
                  <a:pt x="9668" y="14482"/>
                </a:cubicBezTo>
                <a:lnTo>
                  <a:pt x="11330" y="14482"/>
                </a:lnTo>
                <a:cubicBezTo>
                  <a:pt x="12366" y="14482"/>
                  <a:pt x="13167" y="13751"/>
                  <a:pt x="13167" y="12828"/>
                </a:cubicBezTo>
                <a:lnTo>
                  <a:pt x="13167" y="7493"/>
                </a:lnTo>
                <a:lnTo>
                  <a:pt x="11330" y="7493"/>
                </a:lnTo>
                <a:lnTo>
                  <a:pt x="14838" y="3985"/>
                </a:lnTo>
                <a:lnTo>
                  <a:pt x="18511" y="7493"/>
                </a:lnTo>
                <a:lnTo>
                  <a:pt x="16675" y="7493"/>
                </a:lnTo>
                <a:lnTo>
                  <a:pt x="16675" y="12828"/>
                </a:lnTo>
                <a:cubicBezTo>
                  <a:pt x="16675" y="15596"/>
                  <a:pt x="14098" y="18155"/>
                  <a:pt x="11330" y="18155"/>
                </a:cubicBezTo>
                <a:lnTo>
                  <a:pt x="9668" y="18155"/>
                </a:lnTo>
                <a:cubicBezTo>
                  <a:pt x="6900" y="18155"/>
                  <a:pt x="4324" y="15596"/>
                  <a:pt x="4324" y="12828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previousslide"/>
          </p:cNvPr>
          <p:cNvSpPr/>
          <p:nvPr/>
        </p:nvSpPr>
        <p:spPr>
          <a:xfrm>
            <a:off x="5003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10800"/>
                </a:moveTo>
                <a:lnTo>
                  <a:pt x="18337" y="3794"/>
                </a:lnTo>
                <a:lnTo>
                  <a:pt x="18337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endshow"/>
          </p:cNvPr>
          <p:cNvSpPr/>
          <p:nvPr/>
        </p:nvSpPr>
        <p:spPr>
          <a:xfrm>
            <a:off x="8388360" y="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95280" y="47520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тобы сделать килограмм меда, пчелка должна облететь 2 млн. цветков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673272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3794"/>
                </a:moveTo>
                <a:lnTo>
                  <a:pt x="19737" y="10800"/>
                </a:lnTo>
                <a:lnTo>
                  <a:pt x="5724" y="17806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615636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558000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7493"/>
                </a:moveTo>
                <a:lnTo>
                  <a:pt x="7832" y="7493"/>
                </a:lnTo>
                <a:lnTo>
                  <a:pt x="7832" y="12828"/>
                </a:lnTo>
                <a:cubicBezTo>
                  <a:pt x="7832" y="13751"/>
                  <a:pt x="8632" y="14482"/>
                  <a:pt x="9668" y="14482"/>
                </a:cubicBezTo>
                <a:lnTo>
                  <a:pt x="11330" y="14482"/>
                </a:lnTo>
                <a:cubicBezTo>
                  <a:pt x="12366" y="14482"/>
                  <a:pt x="13167" y="13751"/>
                  <a:pt x="13167" y="12828"/>
                </a:cubicBezTo>
                <a:lnTo>
                  <a:pt x="13167" y="7493"/>
                </a:lnTo>
                <a:lnTo>
                  <a:pt x="11330" y="7493"/>
                </a:lnTo>
                <a:lnTo>
                  <a:pt x="14838" y="3985"/>
                </a:lnTo>
                <a:lnTo>
                  <a:pt x="18511" y="7493"/>
                </a:lnTo>
                <a:lnTo>
                  <a:pt x="16675" y="7493"/>
                </a:lnTo>
                <a:lnTo>
                  <a:pt x="16675" y="12828"/>
                </a:lnTo>
                <a:cubicBezTo>
                  <a:pt x="16675" y="15596"/>
                  <a:pt x="14098" y="18155"/>
                  <a:pt x="11330" y="18155"/>
                </a:cubicBezTo>
                <a:lnTo>
                  <a:pt x="9668" y="18155"/>
                </a:lnTo>
                <a:cubicBezTo>
                  <a:pt x="6900" y="18155"/>
                  <a:pt x="4324" y="15596"/>
                  <a:pt x="4324" y="12828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5003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10800"/>
                </a:moveTo>
                <a:lnTo>
                  <a:pt x="18337" y="3794"/>
                </a:lnTo>
                <a:lnTo>
                  <a:pt x="18337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endshow"/>
          </p:cNvPr>
          <p:cNvSpPr/>
          <p:nvPr/>
        </p:nvSpPr>
        <p:spPr>
          <a:xfrm>
            <a:off x="8388360" y="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26920" y="47520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Шимпанзе - единственные животные, которые могут узнавать себя в зеркале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673272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3794"/>
                </a:moveTo>
                <a:lnTo>
                  <a:pt x="19737" y="10800"/>
                </a:lnTo>
                <a:lnTo>
                  <a:pt x="5724" y="17806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615636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previousslide"/>
          </p:cNvPr>
          <p:cNvSpPr/>
          <p:nvPr/>
        </p:nvSpPr>
        <p:spPr>
          <a:xfrm>
            <a:off x="558000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7493"/>
                </a:moveTo>
                <a:lnTo>
                  <a:pt x="7832" y="7493"/>
                </a:lnTo>
                <a:lnTo>
                  <a:pt x="7832" y="12828"/>
                </a:lnTo>
                <a:cubicBezTo>
                  <a:pt x="7832" y="13751"/>
                  <a:pt x="8632" y="14482"/>
                  <a:pt x="9668" y="14482"/>
                </a:cubicBezTo>
                <a:lnTo>
                  <a:pt x="11330" y="14482"/>
                </a:lnTo>
                <a:cubicBezTo>
                  <a:pt x="12366" y="14482"/>
                  <a:pt x="13167" y="13751"/>
                  <a:pt x="13167" y="12828"/>
                </a:cubicBezTo>
                <a:lnTo>
                  <a:pt x="13167" y="7493"/>
                </a:lnTo>
                <a:lnTo>
                  <a:pt x="11330" y="7493"/>
                </a:lnTo>
                <a:lnTo>
                  <a:pt x="14838" y="3985"/>
                </a:lnTo>
                <a:lnTo>
                  <a:pt x="18511" y="7493"/>
                </a:lnTo>
                <a:lnTo>
                  <a:pt x="16675" y="7493"/>
                </a:lnTo>
                <a:lnTo>
                  <a:pt x="16675" y="12828"/>
                </a:lnTo>
                <a:cubicBezTo>
                  <a:pt x="16675" y="15596"/>
                  <a:pt x="14098" y="18155"/>
                  <a:pt x="11330" y="18155"/>
                </a:cubicBezTo>
                <a:lnTo>
                  <a:pt x="9668" y="18155"/>
                </a:lnTo>
                <a:cubicBezTo>
                  <a:pt x="6900" y="18155"/>
                  <a:pt x="4324" y="15596"/>
                  <a:pt x="4324" y="12828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5003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10800"/>
                </a:moveTo>
                <a:lnTo>
                  <a:pt x="18337" y="3794"/>
                </a:lnTo>
                <a:lnTo>
                  <a:pt x="18337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endshow"/>
          </p:cNvPr>
          <p:cNvSpPr/>
          <p:nvPr/>
        </p:nvSpPr>
        <p:spPr>
          <a:xfrm>
            <a:off x="8388360" y="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620640"/>
            <a:ext cx="799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У муравья мозг, среди всех живых существ на земле, самый большой по отношение ко всему объему его т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" action="ppaction://hlinkshowjump?jump=nextslide"/>
          </p:cNvPr>
          <p:cNvSpPr/>
          <p:nvPr/>
        </p:nvSpPr>
        <p:spPr>
          <a:xfrm>
            <a:off x="673272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3794"/>
                </a:moveTo>
                <a:lnTo>
                  <a:pt x="19737" y="10800"/>
                </a:lnTo>
                <a:lnTo>
                  <a:pt x="5724" y="17806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615636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previousslide"/>
          </p:cNvPr>
          <p:cNvSpPr/>
          <p:nvPr/>
        </p:nvSpPr>
        <p:spPr>
          <a:xfrm>
            <a:off x="558000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7493"/>
                </a:moveTo>
                <a:lnTo>
                  <a:pt x="7832" y="7493"/>
                </a:lnTo>
                <a:lnTo>
                  <a:pt x="7832" y="12828"/>
                </a:lnTo>
                <a:cubicBezTo>
                  <a:pt x="7832" y="13751"/>
                  <a:pt x="8632" y="14482"/>
                  <a:pt x="9668" y="14482"/>
                </a:cubicBezTo>
                <a:lnTo>
                  <a:pt x="11330" y="14482"/>
                </a:lnTo>
                <a:cubicBezTo>
                  <a:pt x="12366" y="14482"/>
                  <a:pt x="13167" y="13751"/>
                  <a:pt x="13167" y="12828"/>
                </a:cubicBezTo>
                <a:lnTo>
                  <a:pt x="13167" y="7493"/>
                </a:lnTo>
                <a:lnTo>
                  <a:pt x="11330" y="7493"/>
                </a:lnTo>
                <a:lnTo>
                  <a:pt x="14838" y="3985"/>
                </a:lnTo>
                <a:lnTo>
                  <a:pt x="18511" y="7493"/>
                </a:lnTo>
                <a:lnTo>
                  <a:pt x="16675" y="7493"/>
                </a:lnTo>
                <a:lnTo>
                  <a:pt x="16675" y="12828"/>
                </a:lnTo>
                <a:cubicBezTo>
                  <a:pt x="16675" y="15596"/>
                  <a:pt x="14098" y="18155"/>
                  <a:pt x="11330" y="18155"/>
                </a:cubicBezTo>
                <a:lnTo>
                  <a:pt x="9668" y="18155"/>
                </a:lnTo>
                <a:cubicBezTo>
                  <a:pt x="6900" y="18155"/>
                  <a:pt x="4324" y="15596"/>
                  <a:pt x="4324" y="12828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5003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10800"/>
                </a:moveTo>
                <a:lnTo>
                  <a:pt x="18337" y="3794"/>
                </a:lnTo>
                <a:lnTo>
                  <a:pt x="18337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endshow"/>
          </p:cNvPr>
          <p:cNvSpPr/>
          <p:nvPr/>
        </p:nvSpPr>
        <p:spPr>
          <a:xfrm>
            <a:off x="8388360" y="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4360" y="404640"/>
            <a:ext cx="7343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В озере Байкал воды больше, чем в великих озерах Северной Америки вместе взятых , и составляют пятую часть все пресноводной воды нашей планеты.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673272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3794"/>
                </a:moveTo>
                <a:lnTo>
                  <a:pt x="19737" y="10800"/>
                </a:lnTo>
                <a:lnTo>
                  <a:pt x="5724" y="17806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615636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558000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7493"/>
                </a:moveTo>
                <a:lnTo>
                  <a:pt x="7832" y="7493"/>
                </a:lnTo>
                <a:lnTo>
                  <a:pt x="7832" y="12828"/>
                </a:lnTo>
                <a:cubicBezTo>
                  <a:pt x="7832" y="13751"/>
                  <a:pt x="8632" y="14482"/>
                  <a:pt x="9668" y="14482"/>
                </a:cubicBezTo>
                <a:lnTo>
                  <a:pt x="11330" y="14482"/>
                </a:lnTo>
                <a:cubicBezTo>
                  <a:pt x="12366" y="14482"/>
                  <a:pt x="13167" y="13751"/>
                  <a:pt x="13167" y="12828"/>
                </a:cubicBezTo>
                <a:lnTo>
                  <a:pt x="13167" y="7493"/>
                </a:lnTo>
                <a:lnTo>
                  <a:pt x="11330" y="7493"/>
                </a:lnTo>
                <a:lnTo>
                  <a:pt x="14838" y="3985"/>
                </a:lnTo>
                <a:lnTo>
                  <a:pt x="18511" y="7493"/>
                </a:lnTo>
                <a:lnTo>
                  <a:pt x="16675" y="7493"/>
                </a:lnTo>
                <a:lnTo>
                  <a:pt x="16675" y="12828"/>
                </a:lnTo>
                <a:cubicBezTo>
                  <a:pt x="16675" y="15596"/>
                  <a:pt x="14098" y="18155"/>
                  <a:pt x="11330" y="18155"/>
                </a:cubicBezTo>
                <a:lnTo>
                  <a:pt x="9668" y="18155"/>
                </a:lnTo>
                <a:cubicBezTo>
                  <a:pt x="6900" y="18155"/>
                  <a:pt x="4324" y="15596"/>
                  <a:pt x="4324" y="12828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5003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10800"/>
                </a:moveTo>
                <a:lnTo>
                  <a:pt x="18337" y="3794"/>
                </a:lnTo>
                <a:lnTo>
                  <a:pt x="18337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endshow"/>
          </p:cNvPr>
          <p:cNvSpPr/>
          <p:nvPr/>
        </p:nvSpPr>
        <p:spPr>
          <a:xfrm>
            <a:off x="8388360" y="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4360" y="145080"/>
            <a:ext cx="79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 июля 1998 г . огромная волна (цунами) оставила на южном побережье Папуа - Новой Гвинеи зияющую рану шириной 30 к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673272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3794"/>
                </a:moveTo>
                <a:lnTo>
                  <a:pt x="19737" y="10800"/>
                </a:lnTo>
                <a:lnTo>
                  <a:pt x="5724" y="17806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615636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previousslide"/>
          </p:cNvPr>
          <p:cNvSpPr/>
          <p:nvPr/>
        </p:nvSpPr>
        <p:spPr>
          <a:xfrm>
            <a:off x="558000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7493"/>
                </a:moveTo>
                <a:lnTo>
                  <a:pt x="7832" y="7493"/>
                </a:lnTo>
                <a:lnTo>
                  <a:pt x="7832" y="12828"/>
                </a:lnTo>
                <a:cubicBezTo>
                  <a:pt x="7832" y="13751"/>
                  <a:pt x="8632" y="14482"/>
                  <a:pt x="9668" y="14482"/>
                </a:cubicBezTo>
                <a:lnTo>
                  <a:pt x="11330" y="14482"/>
                </a:lnTo>
                <a:cubicBezTo>
                  <a:pt x="12366" y="14482"/>
                  <a:pt x="13167" y="13751"/>
                  <a:pt x="13167" y="12828"/>
                </a:cubicBezTo>
                <a:lnTo>
                  <a:pt x="13167" y="7493"/>
                </a:lnTo>
                <a:lnTo>
                  <a:pt x="11330" y="7493"/>
                </a:lnTo>
                <a:lnTo>
                  <a:pt x="14838" y="3985"/>
                </a:lnTo>
                <a:lnTo>
                  <a:pt x="18511" y="7493"/>
                </a:lnTo>
                <a:lnTo>
                  <a:pt x="16675" y="7493"/>
                </a:lnTo>
                <a:lnTo>
                  <a:pt x="16675" y="12828"/>
                </a:lnTo>
                <a:cubicBezTo>
                  <a:pt x="16675" y="15596"/>
                  <a:pt x="14098" y="18155"/>
                  <a:pt x="11330" y="18155"/>
                </a:cubicBezTo>
                <a:lnTo>
                  <a:pt x="9668" y="18155"/>
                </a:lnTo>
                <a:cubicBezTo>
                  <a:pt x="6900" y="18155"/>
                  <a:pt x="4324" y="15596"/>
                  <a:pt x="4324" y="12828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5003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10800"/>
                </a:moveTo>
                <a:lnTo>
                  <a:pt x="18337" y="3794"/>
                </a:lnTo>
                <a:lnTo>
                  <a:pt x="18337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endshow"/>
          </p:cNvPr>
          <p:cNvSpPr/>
          <p:nvPr/>
        </p:nvSpPr>
        <p:spPr>
          <a:xfrm>
            <a:off x="8388360" y="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95280" y="20844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Ночью Млечный путь выглядит как вытянутое туманное облако, состоящее из более чем 200 млрд. звёзд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673272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3794"/>
                </a:moveTo>
                <a:lnTo>
                  <a:pt x="19737" y="10800"/>
                </a:lnTo>
                <a:lnTo>
                  <a:pt x="5724" y="17806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615636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previousslide"/>
          </p:cNvPr>
          <p:cNvSpPr/>
          <p:nvPr/>
        </p:nvSpPr>
        <p:spPr>
          <a:xfrm>
            <a:off x="558000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7493"/>
                </a:moveTo>
                <a:lnTo>
                  <a:pt x="7832" y="7493"/>
                </a:lnTo>
                <a:lnTo>
                  <a:pt x="7832" y="12828"/>
                </a:lnTo>
                <a:cubicBezTo>
                  <a:pt x="7832" y="13751"/>
                  <a:pt x="8632" y="14482"/>
                  <a:pt x="9668" y="14482"/>
                </a:cubicBezTo>
                <a:lnTo>
                  <a:pt x="11330" y="14482"/>
                </a:lnTo>
                <a:cubicBezTo>
                  <a:pt x="12366" y="14482"/>
                  <a:pt x="13167" y="13751"/>
                  <a:pt x="13167" y="12828"/>
                </a:cubicBezTo>
                <a:lnTo>
                  <a:pt x="13167" y="7493"/>
                </a:lnTo>
                <a:lnTo>
                  <a:pt x="11330" y="7493"/>
                </a:lnTo>
                <a:lnTo>
                  <a:pt x="14838" y="3985"/>
                </a:lnTo>
                <a:lnTo>
                  <a:pt x="18511" y="7493"/>
                </a:lnTo>
                <a:lnTo>
                  <a:pt x="16675" y="7493"/>
                </a:lnTo>
                <a:lnTo>
                  <a:pt x="16675" y="12828"/>
                </a:lnTo>
                <a:cubicBezTo>
                  <a:pt x="16675" y="15596"/>
                  <a:pt x="14098" y="18155"/>
                  <a:pt x="11330" y="18155"/>
                </a:cubicBezTo>
                <a:lnTo>
                  <a:pt x="9668" y="18155"/>
                </a:lnTo>
                <a:cubicBezTo>
                  <a:pt x="6900" y="18155"/>
                  <a:pt x="4324" y="15596"/>
                  <a:pt x="4324" y="12828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5003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10800"/>
                </a:moveTo>
                <a:lnTo>
                  <a:pt x="18337" y="3794"/>
                </a:lnTo>
                <a:lnTo>
                  <a:pt x="18337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" action="ppaction://hlinkshowjump?jump=endshow"/>
          </p:cNvPr>
          <p:cNvSpPr/>
          <p:nvPr/>
        </p:nvSpPr>
        <p:spPr>
          <a:xfrm>
            <a:off x="8388360" y="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4000" y="1411920"/>
            <a:ext cx="79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Учёные делают отверстие в глубь Земли, однако им удалось преодолеть пока лишь 1/750 часть расстояния до её центра.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673272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3794"/>
                </a:moveTo>
                <a:lnTo>
                  <a:pt x="19737" y="10800"/>
                </a:lnTo>
                <a:lnTo>
                  <a:pt x="5724" y="17806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615636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previousslide"/>
          </p:cNvPr>
          <p:cNvSpPr/>
          <p:nvPr/>
        </p:nvSpPr>
        <p:spPr>
          <a:xfrm>
            <a:off x="558000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7493"/>
                </a:moveTo>
                <a:lnTo>
                  <a:pt x="7832" y="7493"/>
                </a:lnTo>
                <a:lnTo>
                  <a:pt x="7832" y="12828"/>
                </a:lnTo>
                <a:cubicBezTo>
                  <a:pt x="7832" y="13751"/>
                  <a:pt x="8632" y="14482"/>
                  <a:pt x="9668" y="14482"/>
                </a:cubicBezTo>
                <a:lnTo>
                  <a:pt x="11330" y="14482"/>
                </a:lnTo>
                <a:cubicBezTo>
                  <a:pt x="12366" y="14482"/>
                  <a:pt x="13167" y="13751"/>
                  <a:pt x="13167" y="12828"/>
                </a:cubicBezTo>
                <a:lnTo>
                  <a:pt x="13167" y="7493"/>
                </a:lnTo>
                <a:lnTo>
                  <a:pt x="11330" y="7493"/>
                </a:lnTo>
                <a:lnTo>
                  <a:pt x="14838" y="3985"/>
                </a:lnTo>
                <a:lnTo>
                  <a:pt x="18511" y="7493"/>
                </a:lnTo>
                <a:lnTo>
                  <a:pt x="16675" y="7493"/>
                </a:lnTo>
                <a:lnTo>
                  <a:pt x="16675" y="12828"/>
                </a:lnTo>
                <a:cubicBezTo>
                  <a:pt x="16675" y="15596"/>
                  <a:pt x="14098" y="18155"/>
                  <a:pt x="11330" y="18155"/>
                </a:cubicBezTo>
                <a:lnTo>
                  <a:pt x="9668" y="18155"/>
                </a:lnTo>
                <a:cubicBezTo>
                  <a:pt x="6900" y="18155"/>
                  <a:pt x="4324" y="15596"/>
                  <a:pt x="4324" y="12828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5003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10800"/>
                </a:moveTo>
                <a:lnTo>
                  <a:pt x="18337" y="3794"/>
                </a:lnTo>
                <a:lnTo>
                  <a:pt x="18337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" action="ppaction://hlinkshowjump?jump=endshow"/>
          </p:cNvPr>
          <p:cNvSpPr/>
          <p:nvPr/>
        </p:nvSpPr>
        <p:spPr>
          <a:xfrm>
            <a:off x="8388360" y="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35">
                                  <p:stCondLst>
                                    <p:cond delay="5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0920" y="54828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 мае 1999 г . мощные грозовые облака, гулявшие над Оклахомой и Канзасом в США, породили 71 торнадо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673272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3794"/>
                </a:moveTo>
                <a:lnTo>
                  <a:pt x="19737" y="10800"/>
                </a:lnTo>
                <a:lnTo>
                  <a:pt x="5724" y="17806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615636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" action="ppaction://hlinkshowjump?jump=previousslide"/>
          </p:cNvPr>
          <p:cNvSpPr/>
          <p:nvPr/>
        </p:nvSpPr>
        <p:spPr>
          <a:xfrm>
            <a:off x="558000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7493"/>
                </a:moveTo>
                <a:lnTo>
                  <a:pt x="7832" y="7493"/>
                </a:lnTo>
                <a:lnTo>
                  <a:pt x="7832" y="12828"/>
                </a:lnTo>
                <a:cubicBezTo>
                  <a:pt x="7832" y="13751"/>
                  <a:pt x="8632" y="14482"/>
                  <a:pt x="9668" y="14482"/>
                </a:cubicBezTo>
                <a:lnTo>
                  <a:pt x="11330" y="14482"/>
                </a:lnTo>
                <a:cubicBezTo>
                  <a:pt x="12366" y="14482"/>
                  <a:pt x="13167" y="13751"/>
                  <a:pt x="13167" y="12828"/>
                </a:cubicBezTo>
                <a:lnTo>
                  <a:pt x="13167" y="7493"/>
                </a:lnTo>
                <a:lnTo>
                  <a:pt x="11330" y="7493"/>
                </a:lnTo>
                <a:lnTo>
                  <a:pt x="14838" y="3985"/>
                </a:lnTo>
                <a:lnTo>
                  <a:pt x="18511" y="7493"/>
                </a:lnTo>
                <a:lnTo>
                  <a:pt x="16675" y="7493"/>
                </a:lnTo>
                <a:lnTo>
                  <a:pt x="16675" y="12828"/>
                </a:lnTo>
                <a:cubicBezTo>
                  <a:pt x="16675" y="15596"/>
                  <a:pt x="14098" y="18155"/>
                  <a:pt x="11330" y="18155"/>
                </a:cubicBezTo>
                <a:lnTo>
                  <a:pt x="9668" y="18155"/>
                </a:lnTo>
                <a:cubicBezTo>
                  <a:pt x="6900" y="18155"/>
                  <a:pt x="4324" y="15596"/>
                  <a:pt x="4324" y="12828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previousslide"/>
          </p:cNvPr>
          <p:cNvSpPr/>
          <p:nvPr/>
        </p:nvSpPr>
        <p:spPr>
          <a:xfrm>
            <a:off x="5003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10800"/>
                </a:moveTo>
                <a:lnTo>
                  <a:pt x="18337" y="3794"/>
                </a:lnTo>
                <a:lnTo>
                  <a:pt x="18337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" action="ppaction://hlinkshowjump?jump=endshow"/>
          </p:cNvPr>
          <p:cNvSpPr/>
          <p:nvPr/>
        </p:nvSpPr>
        <p:spPr>
          <a:xfrm>
            <a:off x="8388360" y="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476360" y="404640"/>
            <a:ext cx="5832360" cy="14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держание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042920" y="2205000"/>
            <a:ext cx="626436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1. Животный мир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71640" y="3933720"/>
            <a:ext cx="633708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3. Личности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00000" y="3068640"/>
            <a:ext cx="633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2. Природа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55640" y="4941720"/>
            <a:ext cx="7272360" cy="63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4. Факты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">
            <a:hlinkClick r:id="" action="ppaction://hlinkshowjump?jump=endshow"/>
          </p:cNvPr>
          <p:cNvSpPr/>
          <p:nvPr/>
        </p:nvSpPr>
        <p:spPr>
          <a:xfrm>
            <a:off x="8388360" y="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673272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3794"/>
                </a:moveTo>
                <a:lnTo>
                  <a:pt x="19737" y="10800"/>
                </a:lnTo>
                <a:lnTo>
                  <a:pt x="5724" y="17806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firstslide"/>
          </p:cNvPr>
          <p:cNvSpPr/>
          <p:nvPr/>
        </p:nvSpPr>
        <p:spPr>
          <a:xfrm>
            <a:off x="615636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previousslide"/>
          </p:cNvPr>
          <p:cNvSpPr/>
          <p:nvPr/>
        </p:nvSpPr>
        <p:spPr>
          <a:xfrm>
            <a:off x="558000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7493"/>
                </a:moveTo>
                <a:lnTo>
                  <a:pt x="7832" y="7493"/>
                </a:lnTo>
                <a:lnTo>
                  <a:pt x="7832" y="12828"/>
                </a:lnTo>
                <a:cubicBezTo>
                  <a:pt x="7832" y="13751"/>
                  <a:pt x="8632" y="14482"/>
                  <a:pt x="9668" y="14482"/>
                </a:cubicBezTo>
                <a:lnTo>
                  <a:pt x="11330" y="14482"/>
                </a:lnTo>
                <a:cubicBezTo>
                  <a:pt x="12366" y="14482"/>
                  <a:pt x="13167" y="13751"/>
                  <a:pt x="13167" y="12828"/>
                </a:cubicBezTo>
                <a:lnTo>
                  <a:pt x="13167" y="7493"/>
                </a:lnTo>
                <a:lnTo>
                  <a:pt x="11330" y="7493"/>
                </a:lnTo>
                <a:lnTo>
                  <a:pt x="14838" y="3985"/>
                </a:lnTo>
                <a:lnTo>
                  <a:pt x="18511" y="7493"/>
                </a:lnTo>
                <a:lnTo>
                  <a:pt x="16675" y="7493"/>
                </a:lnTo>
                <a:lnTo>
                  <a:pt x="16675" y="12828"/>
                </a:lnTo>
                <a:cubicBezTo>
                  <a:pt x="16675" y="15596"/>
                  <a:pt x="14098" y="18155"/>
                  <a:pt x="11330" y="18155"/>
                </a:cubicBezTo>
                <a:lnTo>
                  <a:pt x="9668" y="18155"/>
                </a:lnTo>
                <a:cubicBezTo>
                  <a:pt x="6900" y="18155"/>
                  <a:pt x="4324" y="15596"/>
                  <a:pt x="4324" y="12828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previousslide"/>
          </p:cNvPr>
          <p:cNvSpPr/>
          <p:nvPr/>
        </p:nvSpPr>
        <p:spPr>
          <a:xfrm>
            <a:off x="5003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10800"/>
                </a:moveTo>
                <a:lnTo>
                  <a:pt x="18337" y="3794"/>
                </a:lnTo>
                <a:lnTo>
                  <a:pt x="18337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5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000"/>
                            </p:stCondLst>
                            <p:childTnLst>
                              <p:par>
                                <p:cTn id="6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71640" y="475200"/>
            <a:ext cx="6954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Гора Тутунендо в Колумбии - чемпион мира по атмосферным осадкам, годовая норма которых здесь 11,77 м - высота трёхэтажного дома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673272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3794"/>
                </a:moveTo>
                <a:lnTo>
                  <a:pt x="19737" y="10800"/>
                </a:lnTo>
                <a:lnTo>
                  <a:pt x="5724" y="17806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firstslide"/>
          </p:cNvPr>
          <p:cNvSpPr/>
          <p:nvPr/>
        </p:nvSpPr>
        <p:spPr>
          <a:xfrm>
            <a:off x="615636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previousslide"/>
          </p:cNvPr>
          <p:cNvSpPr/>
          <p:nvPr/>
        </p:nvSpPr>
        <p:spPr>
          <a:xfrm>
            <a:off x="558000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7493"/>
                </a:moveTo>
                <a:lnTo>
                  <a:pt x="7832" y="7493"/>
                </a:lnTo>
                <a:lnTo>
                  <a:pt x="7832" y="12828"/>
                </a:lnTo>
                <a:cubicBezTo>
                  <a:pt x="7832" y="13751"/>
                  <a:pt x="8632" y="14482"/>
                  <a:pt x="9668" y="14482"/>
                </a:cubicBezTo>
                <a:lnTo>
                  <a:pt x="11330" y="14482"/>
                </a:lnTo>
                <a:cubicBezTo>
                  <a:pt x="12366" y="14482"/>
                  <a:pt x="13167" y="13751"/>
                  <a:pt x="13167" y="12828"/>
                </a:cubicBezTo>
                <a:lnTo>
                  <a:pt x="13167" y="7493"/>
                </a:lnTo>
                <a:lnTo>
                  <a:pt x="11330" y="7493"/>
                </a:lnTo>
                <a:lnTo>
                  <a:pt x="14838" y="3985"/>
                </a:lnTo>
                <a:lnTo>
                  <a:pt x="18511" y="7493"/>
                </a:lnTo>
                <a:lnTo>
                  <a:pt x="16675" y="7493"/>
                </a:lnTo>
                <a:lnTo>
                  <a:pt x="16675" y="12828"/>
                </a:lnTo>
                <a:cubicBezTo>
                  <a:pt x="16675" y="15596"/>
                  <a:pt x="14098" y="18155"/>
                  <a:pt x="11330" y="18155"/>
                </a:cubicBezTo>
                <a:lnTo>
                  <a:pt x="9668" y="18155"/>
                </a:lnTo>
                <a:cubicBezTo>
                  <a:pt x="6900" y="18155"/>
                  <a:pt x="4324" y="15596"/>
                  <a:pt x="4324" y="12828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5003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10800"/>
                </a:moveTo>
                <a:lnTo>
                  <a:pt x="18337" y="3794"/>
                </a:lnTo>
                <a:lnTo>
                  <a:pt x="18337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endshow"/>
          </p:cNvPr>
          <p:cNvSpPr/>
          <p:nvPr/>
        </p:nvSpPr>
        <p:spPr>
          <a:xfrm>
            <a:off x="8388360" y="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95280" y="548280"/>
            <a:ext cx="792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Дождевая вода, постоянно циркулирующая внутри грозовой тучи, превращается в градины размером с теннисный мяч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673272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3794"/>
                </a:moveTo>
                <a:lnTo>
                  <a:pt x="19737" y="10800"/>
                </a:lnTo>
                <a:lnTo>
                  <a:pt x="5724" y="17806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615636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previousslide"/>
          </p:cNvPr>
          <p:cNvSpPr/>
          <p:nvPr/>
        </p:nvSpPr>
        <p:spPr>
          <a:xfrm>
            <a:off x="558000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7493"/>
                </a:moveTo>
                <a:lnTo>
                  <a:pt x="7832" y="7493"/>
                </a:lnTo>
                <a:lnTo>
                  <a:pt x="7832" y="12828"/>
                </a:lnTo>
                <a:cubicBezTo>
                  <a:pt x="7832" y="13751"/>
                  <a:pt x="8632" y="14482"/>
                  <a:pt x="9668" y="14482"/>
                </a:cubicBezTo>
                <a:lnTo>
                  <a:pt x="11330" y="14482"/>
                </a:lnTo>
                <a:cubicBezTo>
                  <a:pt x="12366" y="14482"/>
                  <a:pt x="13167" y="13751"/>
                  <a:pt x="13167" y="12828"/>
                </a:cubicBezTo>
                <a:lnTo>
                  <a:pt x="13167" y="7493"/>
                </a:lnTo>
                <a:lnTo>
                  <a:pt x="11330" y="7493"/>
                </a:lnTo>
                <a:lnTo>
                  <a:pt x="14838" y="3985"/>
                </a:lnTo>
                <a:lnTo>
                  <a:pt x="18511" y="7493"/>
                </a:lnTo>
                <a:lnTo>
                  <a:pt x="16675" y="7493"/>
                </a:lnTo>
                <a:lnTo>
                  <a:pt x="16675" y="12828"/>
                </a:lnTo>
                <a:cubicBezTo>
                  <a:pt x="16675" y="15596"/>
                  <a:pt x="14098" y="18155"/>
                  <a:pt x="11330" y="18155"/>
                </a:cubicBezTo>
                <a:lnTo>
                  <a:pt x="9668" y="18155"/>
                </a:lnTo>
                <a:cubicBezTo>
                  <a:pt x="6900" y="18155"/>
                  <a:pt x="4324" y="15596"/>
                  <a:pt x="4324" y="12828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" action="ppaction://hlinkshowjump?jump=previousslide"/>
          </p:cNvPr>
          <p:cNvSpPr/>
          <p:nvPr/>
        </p:nvSpPr>
        <p:spPr>
          <a:xfrm>
            <a:off x="5003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10800"/>
                </a:moveTo>
                <a:lnTo>
                  <a:pt x="18337" y="3794"/>
                </a:lnTo>
                <a:lnTo>
                  <a:pt x="18337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endshow"/>
          </p:cNvPr>
          <p:cNvSpPr/>
          <p:nvPr/>
        </p:nvSpPr>
        <p:spPr>
          <a:xfrm>
            <a:off x="8388360" y="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39640" y="4048560"/>
            <a:ext cx="808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Юлий Цезарь носил лавровый венок, чтобы скрыть начинающуюся лысину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nextslide"/>
          </p:cNvPr>
          <p:cNvSpPr/>
          <p:nvPr/>
        </p:nvSpPr>
        <p:spPr>
          <a:xfrm>
            <a:off x="673272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3794"/>
                </a:moveTo>
                <a:lnTo>
                  <a:pt x="19737" y="10800"/>
                </a:lnTo>
                <a:lnTo>
                  <a:pt x="5724" y="17806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615636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previousslide"/>
          </p:cNvPr>
          <p:cNvSpPr/>
          <p:nvPr/>
        </p:nvSpPr>
        <p:spPr>
          <a:xfrm>
            <a:off x="558000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7493"/>
                </a:moveTo>
                <a:lnTo>
                  <a:pt x="7832" y="7493"/>
                </a:lnTo>
                <a:lnTo>
                  <a:pt x="7832" y="12828"/>
                </a:lnTo>
                <a:cubicBezTo>
                  <a:pt x="7832" y="13751"/>
                  <a:pt x="8632" y="14482"/>
                  <a:pt x="9668" y="14482"/>
                </a:cubicBezTo>
                <a:lnTo>
                  <a:pt x="11330" y="14482"/>
                </a:lnTo>
                <a:cubicBezTo>
                  <a:pt x="12366" y="14482"/>
                  <a:pt x="13167" y="13751"/>
                  <a:pt x="13167" y="12828"/>
                </a:cubicBezTo>
                <a:lnTo>
                  <a:pt x="13167" y="7493"/>
                </a:lnTo>
                <a:lnTo>
                  <a:pt x="11330" y="7493"/>
                </a:lnTo>
                <a:lnTo>
                  <a:pt x="14838" y="3985"/>
                </a:lnTo>
                <a:lnTo>
                  <a:pt x="18511" y="7493"/>
                </a:lnTo>
                <a:lnTo>
                  <a:pt x="16675" y="7493"/>
                </a:lnTo>
                <a:lnTo>
                  <a:pt x="16675" y="12828"/>
                </a:lnTo>
                <a:cubicBezTo>
                  <a:pt x="16675" y="15596"/>
                  <a:pt x="14098" y="18155"/>
                  <a:pt x="11330" y="18155"/>
                </a:cubicBezTo>
                <a:lnTo>
                  <a:pt x="9668" y="18155"/>
                </a:lnTo>
                <a:cubicBezTo>
                  <a:pt x="6900" y="18155"/>
                  <a:pt x="4324" y="15596"/>
                  <a:pt x="4324" y="12828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5003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10800"/>
                </a:moveTo>
                <a:lnTo>
                  <a:pt x="18337" y="3794"/>
                </a:lnTo>
                <a:lnTo>
                  <a:pt x="18337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" action="ppaction://hlinkshowjump?jump=endshow"/>
          </p:cNvPr>
          <p:cNvSpPr/>
          <p:nvPr/>
        </p:nvSpPr>
        <p:spPr>
          <a:xfrm>
            <a:off x="8388360" y="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9640" y="400428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Леонардо да Винчи изобрел будильник, который тер спящему ноги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" action="ppaction://hlinkshowjump?jump=nextslide"/>
          </p:cNvPr>
          <p:cNvSpPr/>
          <p:nvPr/>
        </p:nvSpPr>
        <p:spPr>
          <a:xfrm>
            <a:off x="673272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3794"/>
                </a:moveTo>
                <a:lnTo>
                  <a:pt x="19737" y="10800"/>
                </a:lnTo>
                <a:lnTo>
                  <a:pt x="5724" y="17806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615636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previousslide"/>
          </p:cNvPr>
          <p:cNvSpPr/>
          <p:nvPr/>
        </p:nvSpPr>
        <p:spPr>
          <a:xfrm>
            <a:off x="558000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7493"/>
                </a:moveTo>
                <a:lnTo>
                  <a:pt x="7832" y="7493"/>
                </a:lnTo>
                <a:lnTo>
                  <a:pt x="7832" y="12828"/>
                </a:lnTo>
                <a:cubicBezTo>
                  <a:pt x="7832" y="13751"/>
                  <a:pt x="8632" y="14482"/>
                  <a:pt x="9668" y="14482"/>
                </a:cubicBezTo>
                <a:lnTo>
                  <a:pt x="11330" y="14482"/>
                </a:lnTo>
                <a:cubicBezTo>
                  <a:pt x="12366" y="14482"/>
                  <a:pt x="13167" y="13751"/>
                  <a:pt x="13167" y="12828"/>
                </a:cubicBezTo>
                <a:lnTo>
                  <a:pt x="13167" y="7493"/>
                </a:lnTo>
                <a:lnTo>
                  <a:pt x="11330" y="7493"/>
                </a:lnTo>
                <a:lnTo>
                  <a:pt x="14838" y="3985"/>
                </a:lnTo>
                <a:lnTo>
                  <a:pt x="18511" y="7493"/>
                </a:lnTo>
                <a:lnTo>
                  <a:pt x="16675" y="7493"/>
                </a:lnTo>
                <a:lnTo>
                  <a:pt x="16675" y="12828"/>
                </a:lnTo>
                <a:cubicBezTo>
                  <a:pt x="16675" y="15596"/>
                  <a:pt x="14098" y="18155"/>
                  <a:pt x="11330" y="18155"/>
                </a:cubicBezTo>
                <a:lnTo>
                  <a:pt x="9668" y="18155"/>
                </a:lnTo>
                <a:cubicBezTo>
                  <a:pt x="6900" y="18155"/>
                  <a:pt x="4324" y="15596"/>
                  <a:pt x="4324" y="12828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5003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10800"/>
                </a:moveTo>
                <a:lnTo>
                  <a:pt x="18337" y="3794"/>
                </a:lnTo>
                <a:lnTo>
                  <a:pt x="18337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endshow"/>
          </p:cNvPr>
          <p:cNvSpPr/>
          <p:nvPr/>
        </p:nvSpPr>
        <p:spPr>
          <a:xfrm>
            <a:off x="8388360" y="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00000" y="5012280"/>
            <a:ext cx="728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Бетховен был однажды арестован за бродяжничество.</a:t>
            </a:r>
            <a:r>
              <a:rPr b="0" i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673272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3794"/>
                </a:moveTo>
                <a:lnTo>
                  <a:pt x="19737" y="10800"/>
                </a:lnTo>
                <a:lnTo>
                  <a:pt x="5724" y="17806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" action="ppaction://hlinkshowjump?jump=firstslide"/>
          </p:cNvPr>
          <p:cNvSpPr/>
          <p:nvPr/>
        </p:nvSpPr>
        <p:spPr>
          <a:xfrm>
            <a:off x="615636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558000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7493"/>
                </a:moveTo>
                <a:lnTo>
                  <a:pt x="7832" y="7493"/>
                </a:lnTo>
                <a:lnTo>
                  <a:pt x="7832" y="12828"/>
                </a:lnTo>
                <a:cubicBezTo>
                  <a:pt x="7832" y="13751"/>
                  <a:pt x="8632" y="14482"/>
                  <a:pt x="9668" y="14482"/>
                </a:cubicBezTo>
                <a:lnTo>
                  <a:pt x="11330" y="14482"/>
                </a:lnTo>
                <a:cubicBezTo>
                  <a:pt x="12366" y="14482"/>
                  <a:pt x="13167" y="13751"/>
                  <a:pt x="13167" y="12828"/>
                </a:cubicBezTo>
                <a:lnTo>
                  <a:pt x="13167" y="7493"/>
                </a:lnTo>
                <a:lnTo>
                  <a:pt x="11330" y="7493"/>
                </a:lnTo>
                <a:lnTo>
                  <a:pt x="14838" y="3985"/>
                </a:lnTo>
                <a:lnTo>
                  <a:pt x="18511" y="7493"/>
                </a:lnTo>
                <a:lnTo>
                  <a:pt x="16675" y="7493"/>
                </a:lnTo>
                <a:lnTo>
                  <a:pt x="16675" y="12828"/>
                </a:lnTo>
                <a:cubicBezTo>
                  <a:pt x="16675" y="15596"/>
                  <a:pt x="14098" y="18155"/>
                  <a:pt x="11330" y="18155"/>
                </a:cubicBezTo>
                <a:lnTo>
                  <a:pt x="9668" y="18155"/>
                </a:lnTo>
                <a:cubicBezTo>
                  <a:pt x="6900" y="18155"/>
                  <a:pt x="4324" y="15596"/>
                  <a:pt x="4324" y="12828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previousslide"/>
          </p:cNvPr>
          <p:cNvSpPr/>
          <p:nvPr/>
        </p:nvSpPr>
        <p:spPr>
          <a:xfrm>
            <a:off x="5003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10800"/>
                </a:moveTo>
                <a:lnTo>
                  <a:pt x="18337" y="3794"/>
                </a:lnTo>
                <a:lnTo>
                  <a:pt x="18337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endshow"/>
          </p:cNvPr>
          <p:cNvSpPr/>
          <p:nvPr/>
        </p:nvSpPr>
        <p:spPr>
          <a:xfrm>
            <a:off x="8388360" y="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68360" y="4291560"/>
            <a:ext cx="797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Наполеон страдал айлyрофобией - боязнью кошек.</a:t>
            </a:r>
            <a:r>
              <a:rPr b="0" i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" action="ppaction://hlinkshowjump?jump=nextslide"/>
          </p:cNvPr>
          <p:cNvSpPr/>
          <p:nvPr/>
        </p:nvSpPr>
        <p:spPr>
          <a:xfrm>
            <a:off x="673272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3794"/>
                </a:moveTo>
                <a:lnTo>
                  <a:pt x="19737" y="10800"/>
                </a:lnTo>
                <a:lnTo>
                  <a:pt x="5724" y="17806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615636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" action="ppaction://hlinkshowjump?jump=previousslide"/>
          </p:cNvPr>
          <p:cNvSpPr/>
          <p:nvPr/>
        </p:nvSpPr>
        <p:spPr>
          <a:xfrm>
            <a:off x="558000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7493"/>
                </a:moveTo>
                <a:lnTo>
                  <a:pt x="7832" y="7493"/>
                </a:lnTo>
                <a:lnTo>
                  <a:pt x="7832" y="12828"/>
                </a:lnTo>
                <a:cubicBezTo>
                  <a:pt x="7832" y="13751"/>
                  <a:pt x="8632" y="14482"/>
                  <a:pt x="9668" y="14482"/>
                </a:cubicBezTo>
                <a:lnTo>
                  <a:pt x="11330" y="14482"/>
                </a:lnTo>
                <a:cubicBezTo>
                  <a:pt x="12366" y="14482"/>
                  <a:pt x="13167" y="13751"/>
                  <a:pt x="13167" y="12828"/>
                </a:cubicBezTo>
                <a:lnTo>
                  <a:pt x="13167" y="7493"/>
                </a:lnTo>
                <a:lnTo>
                  <a:pt x="11330" y="7493"/>
                </a:lnTo>
                <a:lnTo>
                  <a:pt x="14838" y="3985"/>
                </a:lnTo>
                <a:lnTo>
                  <a:pt x="18511" y="7493"/>
                </a:lnTo>
                <a:lnTo>
                  <a:pt x="16675" y="7493"/>
                </a:lnTo>
                <a:lnTo>
                  <a:pt x="16675" y="12828"/>
                </a:lnTo>
                <a:cubicBezTo>
                  <a:pt x="16675" y="15596"/>
                  <a:pt x="14098" y="18155"/>
                  <a:pt x="11330" y="18155"/>
                </a:cubicBezTo>
                <a:lnTo>
                  <a:pt x="9668" y="18155"/>
                </a:lnTo>
                <a:cubicBezTo>
                  <a:pt x="6900" y="18155"/>
                  <a:pt x="4324" y="15596"/>
                  <a:pt x="4324" y="12828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5003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10800"/>
                </a:moveTo>
                <a:lnTo>
                  <a:pt x="18337" y="3794"/>
                </a:lnTo>
                <a:lnTo>
                  <a:pt x="18337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" action="ppaction://hlinkshowjump?jump=endshow"/>
          </p:cNvPr>
          <p:cNvSpPr/>
          <p:nvPr/>
        </p:nvSpPr>
        <p:spPr>
          <a:xfrm>
            <a:off x="8388360" y="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826920" y="4436280"/>
            <a:ext cx="68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 Италии кукол Барби больше, чем канадцев в Канаде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" action="ppaction://hlinkshowjump?jump=nextslide"/>
          </p:cNvPr>
          <p:cNvSpPr/>
          <p:nvPr/>
        </p:nvSpPr>
        <p:spPr>
          <a:xfrm>
            <a:off x="673272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3794"/>
                </a:moveTo>
                <a:lnTo>
                  <a:pt x="19737" y="10800"/>
                </a:lnTo>
                <a:lnTo>
                  <a:pt x="5724" y="17806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firstslide"/>
          </p:cNvPr>
          <p:cNvSpPr/>
          <p:nvPr/>
        </p:nvSpPr>
        <p:spPr>
          <a:xfrm>
            <a:off x="615636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previousslide"/>
          </p:cNvPr>
          <p:cNvSpPr/>
          <p:nvPr/>
        </p:nvSpPr>
        <p:spPr>
          <a:xfrm>
            <a:off x="558000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7493"/>
                </a:moveTo>
                <a:lnTo>
                  <a:pt x="7832" y="7493"/>
                </a:lnTo>
                <a:lnTo>
                  <a:pt x="7832" y="12828"/>
                </a:lnTo>
                <a:cubicBezTo>
                  <a:pt x="7832" y="13751"/>
                  <a:pt x="8632" y="14482"/>
                  <a:pt x="9668" y="14482"/>
                </a:cubicBezTo>
                <a:lnTo>
                  <a:pt x="11330" y="14482"/>
                </a:lnTo>
                <a:cubicBezTo>
                  <a:pt x="12366" y="14482"/>
                  <a:pt x="13167" y="13751"/>
                  <a:pt x="13167" y="12828"/>
                </a:cubicBezTo>
                <a:lnTo>
                  <a:pt x="13167" y="7493"/>
                </a:lnTo>
                <a:lnTo>
                  <a:pt x="11330" y="7493"/>
                </a:lnTo>
                <a:lnTo>
                  <a:pt x="14838" y="3985"/>
                </a:lnTo>
                <a:lnTo>
                  <a:pt x="18511" y="7493"/>
                </a:lnTo>
                <a:lnTo>
                  <a:pt x="16675" y="7493"/>
                </a:lnTo>
                <a:lnTo>
                  <a:pt x="16675" y="12828"/>
                </a:lnTo>
                <a:cubicBezTo>
                  <a:pt x="16675" y="15596"/>
                  <a:pt x="14098" y="18155"/>
                  <a:pt x="11330" y="18155"/>
                </a:cubicBezTo>
                <a:lnTo>
                  <a:pt x="9668" y="18155"/>
                </a:lnTo>
                <a:cubicBezTo>
                  <a:pt x="6900" y="18155"/>
                  <a:pt x="4324" y="15596"/>
                  <a:pt x="4324" y="12828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" action="ppaction://hlinkshowjump?jump=previousslide"/>
          </p:cNvPr>
          <p:cNvSpPr/>
          <p:nvPr/>
        </p:nvSpPr>
        <p:spPr>
          <a:xfrm>
            <a:off x="5003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10800"/>
                </a:moveTo>
                <a:lnTo>
                  <a:pt x="18337" y="3794"/>
                </a:lnTo>
                <a:lnTo>
                  <a:pt x="18337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" action="ppaction://hlinkshowjump?jump=endshow"/>
          </p:cNvPr>
          <p:cNvSpPr/>
          <p:nvPr/>
        </p:nvSpPr>
        <p:spPr>
          <a:xfrm>
            <a:off x="8388360" y="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39640" y="548280"/>
            <a:ext cx="78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В Древнем Риме, если пациент умирал во время операции, врачу отрезали руки.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673272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3794"/>
                </a:moveTo>
                <a:lnTo>
                  <a:pt x="19737" y="10800"/>
                </a:lnTo>
                <a:lnTo>
                  <a:pt x="5724" y="17806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615636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" action="ppaction://hlinkshowjump?jump=previousslide"/>
          </p:cNvPr>
          <p:cNvSpPr/>
          <p:nvPr/>
        </p:nvSpPr>
        <p:spPr>
          <a:xfrm>
            <a:off x="558000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7493"/>
                </a:moveTo>
                <a:lnTo>
                  <a:pt x="7832" y="7493"/>
                </a:lnTo>
                <a:lnTo>
                  <a:pt x="7832" y="12828"/>
                </a:lnTo>
                <a:cubicBezTo>
                  <a:pt x="7832" y="13751"/>
                  <a:pt x="8632" y="14482"/>
                  <a:pt x="9668" y="14482"/>
                </a:cubicBezTo>
                <a:lnTo>
                  <a:pt x="11330" y="14482"/>
                </a:lnTo>
                <a:cubicBezTo>
                  <a:pt x="12366" y="14482"/>
                  <a:pt x="13167" y="13751"/>
                  <a:pt x="13167" y="12828"/>
                </a:cubicBezTo>
                <a:lnTo>
                  <a:pt x="13167" y="7493"/>
                </a:lnTo>
                <a:lnTo>
                  <a:pt x="11330" y="7493"/>
                </a:lnTo>
                <a:lnTo>
                  <a:pt x="14838" y="3985"/>
                </a:lnTo>
                <a:lnTo>
                  <a:pt x="18511" y="7493"/>
                </a:lnTo>
                <a:lnTo>
                  <a:pt x="16675" y="7493"/>
                </a:lnTo>
                <a:lnTo>
                  <a:pt x="16675" y="12828"/>
                </a:lnTo>
                <a:cubicBezTo>
                  <a:pt x="16675" y="15596"/>
                  <a:pt x="14098" y="18155"/>
                  <a:pt x="11330" y="18155"/>
                </a:cubicBezTo>
                <a:lnTo>
                  <a:pt x="9668" y="18155"/>
                </a:lnTo>
                <a:cubicBezTo>
                  <a:pt x="6900" y="18155"/>
                  <a:pt x="4324" y="15596"/>
                  <a:pt x="4324" y="12828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" action="ppaction://hlinkshowjump?jump=previousslide"/>
          </p:cNvPr>
          <p:cNvSpPr/>
          <p:nvPr/>
        </p:nvSpPr>
        <p:spPr>
          <a:xfrm>
            <a:off x="5003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10800"/>
                </a:moveTo>
                <a:lnTo>
                  <a:pt x="18337" y="3794"/>
                </a:lnTo>
                <a:lnTo>
                  <a:pt x="18337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" action="ppaction://hlinkshowjump?jump=endshow"/>
          </p:cNvPr>
          <p:cNvSpPr/>
          <p:nvPr/>
        </p:nvSpPr>
        <p:spPr>
          <a:xfrm>
            <a:off x="8388360" y="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755640" y="332280"/>
            <a:ext cx="7781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ос растет в течении всей жизни человек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" action="ppaction://hlinkshowjump?jump=nextslide"/>
          </p:cNvPr>
          <p:cNvSpPr/>
          <p:nvPr/>
        </p:nvSpPr>
        <p:spPr>
          <a:xfrm>
            <a:off x="673272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3794"/>
                </a:moveTo>
                <a:lnTo>
                  <a:pt x="19737" y="10800"/>
                </a:lnTo>
                <a:lnTo>
                  <a:pt x="5724" y="17806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615636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previousslide"/>
          </p:cNvPr>
          <p:cNvSpPr/>
          <p:nvPr/>
        </p:nvSpPr>
        <p:spPr>
          <a:xfrm>
            <a:off x="558000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7493"/>
                </a:moveTo>
                <a:lnTo>
                  <a:pt x="7832" y="7493"/>
                </a:lnTo>
                <a:lnTo>
                  <a:pt x="7832" y="12828"/>
                </a:lnTo>
                <a:cubicBezTo>
                  <a:pt x="7832" y="13751"/>
                  <a:pt x="8632" y="14482"/>
                  <a:pt x="9668" y="14482"/>
                </a:cubicBezTo>
                <a:lnTo>
                  <a:pt x="11330" y="14482"/>
                </a:lnTo>
                <a:cubicBezTo>
                  <a:pt x="12366" y="14482"/>
                  <a:pt x="13167" y="13751"/>
                  <a:pt x="13167" y="12828"/>
                </a:cubicBezTo>
                <a:lnTo>
                  <a:pt x="13167" y="7493"/>
                </a:lnTo>
                <a:lnTo>
                  <a:pt x="11330" y="7493"/>
                </a:lnTo>
                <a:lnTo>
                  <a:pt x="14838" y="3985"/>
                </a:lnTo>
                <a:lnTo>
                  <a:pt x="18511" y="7493"/>
                </a:lnTo>
                <a:lnTo>
                  <a:pt x="16675" y="7493"/>
                </a:lnTo>
                <a:lnTo>
                  <a:pt x="16675" y="12828"/>
                </a:lnTo>
                <a:cubicBezTo>
                  <a:pt x="16675" y="15596"/>
                  <a:pt x="14098" y="18155"/>
                  <a:pt x="11330" y="18155"/>
                </a:cubicBezTo>
                <a:lnTo>
                  <a:pt x="9668" y="18155"/>
                </a:lnTo>
                <a:cubicBezTo>
                  <a:pt x="6900" y="18155"/>
                  <a:pt x="4324" y="15596"/>
                  <a:pt x="4324" y="12828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previousslide"/>
          </p:cNvPr>
          <p:cNvSpPr/>
          <p:nvPr/>
        </p:nvSpPr>
        <p:spPr>
          <a:xfrm>
            <a:off x="5003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10800"/>
                </a:moveTo>
                <a:lnTo>
                  <a:pt x="18337" y="3794"/>
                </a:lnTo>
                <a:lnTo>
                  <a:pt x="18337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" action="ppaction://hlinkshowjump?jump=endshow"/>
          </p:cNvPr>
          <p:cNvSpPr/>
          <p:nvPr/>
        </p:nvSpPr>
        <p:spPr>
          <a:xfrm>
            <a:off x="8388360" y="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95280" y="460764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Только один ребенок из 20 рождается в день, предписанный доктором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673272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3794"/>
                </a:moveTo>
                <a:lnTo>
                  <a:pt x="19737" y="10800"/>
                </a:lnTo>
                <a:lnTo>
                  <a:pt x="5724" y="17806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" action="ppaction://hlinkshowjump?jump=firstslide"/>
          </p:cNvPr>
          <p:cNvSpPr/>
          <p:nvPr/>
        </p:nvSpPr>
        <p:spPr>
          <a:xfrm>
            <a:off x="615636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previousslide"/>
          </p:cNvPr>
          <p:cNvSpPr/>
          <p:nvPr/>
        </p:nvSpPr>
        <p:spPr>
          <a:xfrm>
            <a:off x="558000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7493"/>
                </a:moveTo>
                <a:lnTo>
                  <a:pt x="7832" y="7493"/>
                </a:lnTo>
                <a:lnTo>
                  <a:pt x="7832" y="12828"/>
                </a:lnTo>
                <a:cubicBezTo>
                  <a:pt x="7832" y="13751"/>
                  <a:pt x="8632" y="14482"/>
                  <a:pt x="9668" y="14482"/>
                </a:cubicBezTo>
                <a:lnTo>
                  <a:pt x="11330" y="14482"/>
                </a:lnTo>
                <a:cubicBezTo>
                  <a:pt x="12366" y="14482"/>
                  <a:pt x="13167" y="13751"/>
                  <a:pt x="13167" y="12828"/>
                </a:cubicBezTo>
                <a:lnTo>
                  <a:pt x="13167" y="7493"/>
                </a:lnTo>
                <a:lnTo>
                  <a:pt x="11330" y="7493"/>
                </a:lnTo>
                <a:lnTo>
                  <a:pt x="14838" y="3985"/>
                </a:lnTo>
                <a:lnTo>
                  <a:pt x="18511" y="7493"/>
                </a:lnTo>
                <a:lnTo>
                  <a:pt x="16675" y="7493"/>
                </a:lnTo>
                <a:lnTo>
                  <a:pt x="16675" y="12828"/>
                </a:lnTo>
                <a:cubicBezTo>
                  <a:pt x="16675" y="15596"/>
                  <a:pt x="14098" y="18155"/>
                  <a:pt x="11330" y="18155"/>
                </a:cubicBezTo>
                <a:lnTo>
                  <a:pt x="9668" y="18155"/>
                </a:lnTo>
                <a:cubicBezTo>
                  <a:pt x="6900" y="18155"/>
                  <a:pt x="4324" y="15596"/>
                  <a:pt x="4324" y="12828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" action="ppaction://hlinkshowjump?jump=previousslide"/>
          </p:cNvPr>
          <p:cNvSpPr/>
          <p:nvPr/>
        </p:nvSpPr>
        <p:spPr>
          <a:xfrm>
            <a:off x="5003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10800"/>
                </a:moveTo>
                <a:lnTo>
                  <a:pt x="18337" y="3794"/>
                </a:lnTo>
                <a:lnTo>
                  <a:pt x="18337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" action="ppaction://hlinkshowjump?jump=endshow"/>
          </p:cNvPr>
          <p:cNvSpPr/>
          <p:nvPr/>
        </p:nvSpPr>
        <p:spPr>
          <a:xfrm>
            <a:off x="8388360" y="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44362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амцы гамадрилов воруют у соседок, дочерей для своего гарема.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673272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3794"/>
                </a:moveTo>
                <a:lnTo>
                  <a:pt x="19737" y="10800"/>
                </a:lnTo>
                <a:lnTo>
                  <a:pt x="5724" y="17806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firstslide"/>
          </p:cNvPr>
          <p:cNvSpPr/>
          <p:nvPr/>
        </p:nvSpPr>
        <p:spPr>
          <a:xfrm>
            <a:off x="615636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previousslide"/>
          </p:cNvPr>
          <p:cNvSpPr/>
          <p:nvPr/>
        </p:nvSpPr>
        <p:spPr>
          <a:xfrm>
            <a:off x="558000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7493"/>
                </a:moveTo>
                <a:lnTo>
                  <a:pt x="7832" y="7493"/>
                </a:lnTo>
                <a:lnTo>
                  <a:pt x="7832" y="12828"/>
                </a:lnTo>
                <a:cubicBezTo>
                  <a:pt x="7832" y="13751"/>
                  <a:pt x="8632" y="14482"/>
                  <a:pt x="9668" y="14482"/>
                </a:cubicBezTo>
                <a:lnTo>
                  <a:pt x="11330" y="14482"/>
                </a:lnTo>
                <a:cubicBezTo>
                  <a:pt x="12366" y="14482"/>
                  <a:pt x="13167" y="13751"/>
                  <a:pt x="13167" y="12828"/>
                </a:cubicBezTo>
                <a:lnTo>
                  <a:pt x="13167" y="7493"/>
                </a:lnTo>
                <a:lnTo>
                  <a:pt x="11330" y="7493"/>
                </a:lnTo>
                <a:lnTo>
                  <a:pt x="14838" y="3985"/>
                </a:lnTo>
                <a:lnTo>
                  <a:pt x="18511" y="7493"/>
                </a:lnTo>
                <a:lnTo>
                  <a:pt x="16675" y="7493"/>
                </a:lnTo>
                <a:lnTo>
                  <a:pt x="16675" y="12828"/>
                </a:lnTo>
                <a:cubicBezTo>
                  <a:pt x="16675" y="15596"/>
                  <a:pt x="14098" y="18155"/>
                  <a:pt x="11330" y="18155"/>
                </a:cubicBezTo>
                <a:lnTo>
                  <a:pt x="9668" y="18155"/>
                </a:lnTo>
                <a:cubicBezTo>
                  <a:pt x="6900" y="18155"/>
                  <a:pt x="4324" y="15596"/>
                  <a:pt x="4324" y="12828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5003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10800"/>
                </a:moveTo>
                <a:lnTo>
                  <a:pt x="18337" y="3794"/>
                </a:lnTo>
                <a:lnTo>
                  <a:pt x="18337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" action="ppaction://hlinkshowjump?jump=endshow"/>
          </p:cNvPr>
          <p:cNvSpPr/>
          <p:nvPr/>
        </p:nvSpPr>
        <p:spPr>
          <a:xfrm>
            <a:off x="8388360" y="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50920" y="54828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ревние греки полагали, что мальчики растут в правой стороне живота, а девочки - в левой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" action="ppaction://hlinkshowjump?jump=nextslide"/>
          </p:cNvPr>
          <p:cNvSpPr/>
          <p:nvPr/>
        </p:nvSpPr>
        <p:spPr>
          <a:xfrm>
            <a:off x="673272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3794"/>
                </a:moveTo>
                <a:lnTo>
                  <a:pt x="19737" y="10800"/>
                </a:lnTo>
                <a:lnTo>
                  <a:pt x="5724" y="17806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" action="ppaction://hlinkshowjump?jump=firstslide"/>
          </p:cNvPr>
          <p:cNvSpPr/>
          <p:nvPr/>
        </p:nvSpPr>
        <p:spPr>
          <a:xfrm>
            <a:off x="615636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" action="ppaction://hlinkshowjump?jump=previousslide"/>
          </p:cNvPr>
          <p:cNvSpPr/>
          <p:nvPr/>
        </p:nvSpPr>
        <p:spPr>
          <a:xfrm>
            <a:off x="558000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7493"/>
                </a:moveTo>
                <a:lnTo>
                  <a:pt x="7832" y="7493"/>
                </a:lnTo>
                <a:lnTo>
                  <a:pt x="7832" y="12828"/>
                </a:lnTo>
                <a:cubicBezTo>
                  <a:pt x="7832" y="13751"/>
                  <a:pt x="8632" y="14482"/>
                  <a:pt x="9668" y="14482"/>
                </a:cubicBezTo>
                <a:lnTo>
                  <a:pt x="11330" y="14482"/>
                </a:lnTo>
                <a:cubicBezTo>
                  <a:pt x="12366" y="14482"/>
                  <a:pt x="13167" y="13751"/>
                  <a:pt x="13167" y="12828"/>
                </a:cubicBezTo>
                <a:lnTo>
                  <a:pt x="13167" y="7493"/>
                </a:lnTo>
                <a:lnTo>
                  <a:pt x="11330" y="7493"/>
                </a:lnTo>
                <a:lnTo>
                  <a:pt x="14838" y="3985"/>
                </a:lnTo>
                <a:lnTo>
                  <a:pt x="18511" y="7493"/>
                </a:lnTo>
                <a:lnTo>
                  <a:pt x="16675" y="7493"/>
                </a:lnTo>
                <a:lnTo>
                  <a:pt x="16675" y="12828"/>
                </a:lnTo>
                <a:cubicBezTo>
                  <a:pt x="16675" y="15596"/>
                  <a:pt x="14098" y="18155"/>
                  <a:pt x="11330" y="18155"/>
                </a:cubicBezTo>
                <a:lnTo>
                  <a:pt x="9668" y="18155"/>
                </a:lnTo>
                <a:cubicBezTo>
                  <a:pt x="6900" y="18155"/>
                  <a:pt x="4324" y="15596"/>
                  <a:pt x="4324" y="12828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previousslide"/>
          </p:cNvPr>
          <p:cNvSpPr/>
          <p:nvPr/>
        </p:nvSpPr>
        <p:spPr>
          <a:xfrm>
            <a:off x="5003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10800"/>
                </a:moveTo>
                <a:lnTo>
                  <a:pt x="18337" y="3794"/>
                </a:lnTo>
                <a:lnTo>
                  <a:pt x="18337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" action="ppaction://hlinkshowjump?jump=endshow"/>
          </p:cNvPr>
          <p:cNvSpPr/>
          <p:nvPr/>
        </p:nvSpPr>
        <p:spPr>
          <a:xfrm>
            <a:off x="8388360" y="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50920" y="450756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Если бы реальная женщина имела пропорции куклы Барби, она смогла бы передвигаться только на 4 конечностях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673272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3794"/>
                </a:moveTo>
                <a:lnTo>
                  <a:pt x="19737" y="10800"/>
                </a:lnTo>
                <a:lnTo>
                  <a:pt x="5724" y="17806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firstslide"/>
          </p:cNvPr>
          <p:cNvSpPr/>
          <p:nvPr/>
        </p:nvSpPr>
        <p:spPr>
          <a:xfrm>
            <a:off x="615636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" action="ppaction://hlinkshowjump?jump=previousslide"/>
          </p:cNvPr>
          <p:cNvSpPr/>
          <p:nvPr/>
        </p:nvSpPr>
        <p:spPr>
          <a:xfrm>
            <a:off x="558000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7493"/>
                </a:moveTo>
                <a:lnTo>
                  <a:pt x="7832" y="7493"/>
                </a:lnTo>
                <a:lnTo>
                  <a:pt x="7832" y="12828"/>
                </a:lnTo>
                <a:cubicBezTo>
                  <a:pt x="7832" y="13751"/>
                  <a:pt x="8632" y="14482"/>
                  <a:pt x="9668" y="14482"/>
                </a:cubicBezTo>
                <a:lnTo>
                  <a:pt x="11330" y="14482"/>
                </a:lnTo>
                <a:cubicBezTo>
                  <a:pt x="12366" y="14482"/>
                  <a:pt x="13167" y="13751"/>
                  <a:pt x="13167" y="12828"/>
                </a:cubicBezTo>
                <a:lnTo>
                  <a:pt x="13167" y="7493"/>
                </a:lnTo>
                <a:lnTo>
                  <a:pt x="11330" y="7493"/>
                </a:lnTo>
                <a:lnTo>
                  <a:pt x="14838" y="3985"/>
                </a:lnTo>
                <a:lnTo>
                  <a:pt x="18511" y="7493"/>
                </a:lnTo>
                <a:lnTo>
                  <a:pt x="16675" y="7493"/>
                </a:lnTo>
                <a:lnTo>
                  <a:pt x="16675" y="12828"/>
                </a:lnTo>
                <a:cubicBezTo>
                  <a:pt x="16675" y="15596"/>
                  <a:pt x="14098" y="18155"/>
                  <a:pt x="11330" y="18155"/>
                </a:cubicBezTo>
                <a:lnTo>
                  <a:pt x="9668" y="18155"/>
                </a:lnTo>
                <a:cubicBezTo>
                  <a:pt x="6900" y="18155"/>
                  <a:pt x="4324" y="15596"/>
                  <a:pt x="4324" y="12828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" action="ppaction://hlinkshowjump?jump=previousslide"/>
          </p:cNvPr>
          <p:cNvSpPr/>
          <p:nvPr/>
        </p:nvSpPr>
        <p:spPr>
          <a:xfrm>
            <a:off x="5003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10800"/>
                </a:moveTo>
                <a:lnTo>
                  <a:pt x="18337" y="3794"/>
                </a:lnTo>
                <a:lnTo>
                  <a:pt x="18337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" action="ppaction://hlinkshowjump?jump=endshow"/>
          </p:cNvPr>
          <p:cNvSpPr/>
          <p:nvPr/>
        </p:nvSpPr>
        <p:spPr>
          <a:xfrm>
            <a:off x="8388360" y="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68360" y="835560"/>
            <a:ext cx="84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80% тепла человеческого тела уходит из головы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" action="ppaction://hlinkshowjump?jump=nextslide"/>
          </p:cNvPr>
          <p:cNvSpPr/>
          <p:nvPr/>
        </p:nvSpPr>
        <p:spPr>
          <a:xfrm>
            <a:off x="673272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3794"/>
                </a:moveTo>
                <a:lnTo>
                  <a:pt x="19737" y="10800"/>
                </a:lnTo>
                <a:lnTo>
                  <a:pt x="5724" y="17806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" action="ppaction://hlinkshowjump?jump=firstslide"/>
          </p:cNvPr>
          <p:cNvSpPr/>
          <p:nvPr/>
        </p:nvSpPr>
        <p:spPr>
          <a:xfrm>
            <a:off x="615636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" action="ppaction://hlinkshowjump?jump=previousslide"/>
          </p:cNvPr>
          <p:cNvSpPr/>
          <p:nvPr/>
        </p:nvSpPr>
        <p:spPr>
          <a:xfrm>
            <a:off x="558000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7493"/>
                </a:moveTo>
                <a:lnTo>
                  <a:pt x="7832" y="7493"/>
                </a:lnTo>
                <a:lnTo>
                  <a:pt x="7832" y="12828"/>
                </a:lnTo>
                <a:cubicBezTo>
                  <a:pt x="7832" y="13751"/>
                  <a:pt x="8632" y="14482"/>
                  <a:pt x="9668" y="14482"/>
                </a:cubicBezTo>
                <a:lnTo>
                  <a:pt x="11330" y="14482"/>
                </a:lnTo>
                <a:cubicBezTo>
                  <a:pt x="12366" y="14482"/>
                  <a:pt x="13167" y="13751"/>
                  <a:pt x="13167" y="12828"/>
                </a:cubicBezTo>
                <a:lnTo>
                  <a:pt x="13167" y="7493"/>
                </a:lnTo>
                <a:lnTo>
                  <a:pt x="11330" y="7493"/>
                </a:lnTo>
                <a:lnTo>
                  <a:pt x="14838" y="3985"/>
                </a:lnTo>
                <a:lnTo>
                  <a:pt x="18511" y="7493"/>
                </a:lnTo>
                <a:lnTo>
                  <a:pt x="16675" y="7493"/>
                </a:lnTo>
                <a:lnTo>
                  <a:pt x="16675" y="12828"/>
                </a:lnTo>
                <a:cubicBezTo>
                  <a:pt x="16675" y="15596"/>
                  <a:pt x="14098" y="18155"/>
                  <a:pt x="11330" y="18155"/>
                </a:cubicBezTo>
                <a:lnTo>
                  <a:pt x="9668" y="18155"/>
                </a:lnTo>
                <a:cubicBezTo>
                  <a:pt x="6900" y="18155"/>
                  <a:pt x="4324" y="15596"/>
                  <a:pt x="4324" y="12828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003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10800"/>
                </a:moveTo>
                <a:lnTo>
                  <a:pt x="18337" y="3794"/>
                </a:lnTo>
                <a:lnTo>
                  <a:pt x="18337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>
            <a:hlinkClick r:id="" action="ppaction://hlinkshowjump?jump=endshow"/>
          </p:cNvPr>
          <p:cNvSpPr/>
          <p:nvPr/>
        </p:nvSpPr>
        <p:spPr>
          <a:xfrm>
            <a:off x="8388360" y="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22560" y="619920"/>
            <a:ext cx="84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Один волос может выдержать вес в 3 кг 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673272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3794"/>
                </a:moveTo>
                <a:lnTo>
                  <a:pt x="19737" y="10800"/>
                </a:lnTo>
                <a:lnTo>
                  <a:pt x="5724" y="17806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firstslide"/>
          </p:cNvPr>
          <p:cNvSpPr/>
          <p:nvPr/>
        </p:nvSpPr>
        <p:spPr>
          <a:xfrm>
            <a:off x="615636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previousslide"/>
          </p:cNvPr>
          <p:cNvSpPr/>
          <p:nvPr/>
        </p:nvSpPr>
        <p:spPr>
          <a:xfrm>
            <a:off x="558000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7493"/>
                </a:moveTo>
                <a:lnTo>
                  <a:pt x="7832" y="7493"/>
                </a:lnTo>
                <a:lnTo>
                  <a:pt x="7832" y="12828"/>
                </a:lnTo>
                <a:cubicBezTo>
                  <a:pt x="7832" y="13751"/>
                  <a:pt x="8632" y="14482"/>
                  <a:pt x="9668" y="14482"/>
                </a:cubicBezTo>
                <a:lnTo>
                  <a:pt x="11330" y="14482"/>
                </a:lnTo>
                <a:cubicBezTo>
                  <a:pt x="12366" y="14482"/>
                  <a:pt x="13167" y="13751"/>
                  <a:pt x="13167" y="12828"/>
                </a:cubicBezTo>
                <a:lnTo>
                  <a:pt x="13167" y="7493"/>
                </a:lnTo>
                <a:lnTo>
                  <a:pt x="11330" y="7493"/>
                </a:lnTo>
                <a:lnTo>
                  <a:pt x="14838" y="3985"/>
                </a:lnTo>
                <a:lnTo>
                  <a:pt x="18511" y="7493"/>
                </a:lnTo>
                <a:lnTo>
                  <a:pt x="16675" y="7493"/>
                </a:lnTo>
                <a:lnTo>
                  <a:pt x="16675" y="12828"/>
                </a:lnTo>
                <a:cubicBezTo>
                  <a:pt x="16675" y="15596"/>
                  <a:pt x="14098" y="18155"/>
                  <a:pt x="11330" y="18155"/>
                </a:cubicBezTo>
                <a:lnTo>
                  <a:pt x="9668" y="18155"/>
                </a:lnTo>
                <a:cubicBezTo>
                  <a:pt x="6900" y="18155"/>
                  <a:pt x="4324" y="15596"/>
                  <a:pt x="4324" y="12828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previousslide"/>
          </p:cNvPr>
          <p:cNvSpPr/>
          <p:nvPr/>
        </p:nvSpPr>
        <p:spPr>
          <a:xfrm>
            <a:off x="5003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10800"/>
                </a:moveTo>
                <a:lnTo>
                  <a:pt x="18337" y="3794"/>
                </a:lnTo>
                <a:lnTo>
                  <a:pt x="18337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" action="ppaction://hlinkshowjump?jump=endshow"/>
          </p:cNvPr>
          <p:cNvSpPr/>
          <p:nvPr/>
        </p:nvSpPr>
        <p:spPr>
          <a:xfrm>
            <a:off x="8388360" y="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476360" y="549360"/>
            <a:ext cx="6048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тог: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71640" y="1916280"/>
            <a:ext cx="7073640" cy="43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смотри как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красен и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знообразен этот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ир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5" name="">
            <a:hlinkClick r:id="" action="ppaction://hlinkshowjump?jump=endshow"/>
          </p:cNvPr>
          <p:cNvSpPr/>
          <p:nvPr/>
        </p:nvSpPr>
        <p:spPr>
          <a:xfrm>
            <a:off x="8388360" y="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8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971640" y="907920"/>
            <a:ext cx="669600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ад проектом работала: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едих Татьяна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ГУ "Октябрьская средняя школа"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2008-2009 уч.год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7" name="">
            <a:hlinkClick r:id="" action="ppaction://hlinkshowjump?jump=firstslide"/>
          </p:cNvPr>
          <p:cNvSpPr/>
          <p:nvPr/>
        </p:nvSpPr>
        <p:spPr>
          <a:xfrm>
            <a:off x="615636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>
            <a:hlinkClick r:id="" action="ppaction://hlinkshowjump?jump=previousslide"/>
          </p:cNvPr>
          <p:cNvSpPr/>
          <p:nvPr/>
        </p:nvSpPr>
        <p:spPr>
          <a:xfrm>
            <a:off x="558000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7493"/>
                </a:moveTo>
                <a:lnTo>
                  <a:pt x="7832" y="7493"/>
                </a:lnTo>
                <a:lnTo>
                  <a:pt x="7832" y="12828"/>
                </a:lnTo>
                <a:cubicBezTo>
                  <a:pt x="7832" y="13751"/>
                  <a:pt x="8632" y="14482"/>
                  <a:pt x="9668" y="14482"/>
                </a:cubicBezTo>
                <a:lnTo>
                  <a:pt x="11330" y="14482"/>
                </a:lnTo>
                <a:cubicBezTo>
                  <a:pt x="12366" y="14482"/>
                  <a:pt x="13167" y="13751"/>
                  <a:pt x="13167" y="12828"/>
                </a:cubicBezTo>
                <a:lnTo>
                  <a:pt x="13167" y="7493"/>
                </a:lnTo>
                <a:lnTo>
                  <a:pt x="11330" y="7493"/>
                </a:lnTo>
                <a:lnTo>
                  <a:pt x="14838" y="3985"/>
                </a:lnTo>
                <a:lnTo>
                  <a:pt x="18511" y="7493"/>
                </a:lnTo>
                <a:lnTo>
                  <a:pt x="16675" y="7493"/>
                </a:lnTo>
                <a:lnTo>
                  <a:pt x="16675" y="12828"/>
                </a:lnTo>
                <a:cubicBezTo>
                  <a:pt x="16675" y="15596"/>
                  <a:pt x="14098" y="18155"/>
                  <a:pt x="11330" y="18155"/>
                </a:cubicBezTo>
                <a:lnTo>
                  <a:pt x="9668" y="18155"/>
                </a:lnTo>
                <a:cubicBezTo>
                  <a:pt x="6900" y="18155"/>
                  <a:pt x="4324" y="15596"/>
                  <a:pt x="4324" y="12828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>
            <a:hlinkClick r:id="" action="ppaction://hlinkshowjump?jump=previousslide"/>
          </p:cNvPr>
          <p:cNvSpPr/>
          <p:nvPr/>
        </p:nvSpPr>
        <p:spPr>
          <a:xfrm>
            <a:off x="5003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10800"/>
                </a:moveTo>
                <a:lnTo>
                  <a:pt x="18337" y="3794"/>
                </a:lnTo>
                <a:lnTo>
                  <a:pt x="18337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>
            <a:hlinkClick r:id="" action="ppaction://hlinkshowjump?jump=endshow"/>
          </p:cNvPr>
          <p:cNvSpPr/>
          <p:nvPr/>
        </p:nvSpPr>
        <p:spPr>
          <a:xfrm>
            <a:off x="8388360" y="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68360" y="25920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Хамелеон умеет смотреть одновременно одним глазом вперёд, а другим назад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673272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3794"/>
                </a:moveTo>
                <a:lnTo>
                  <a:pt x="19737" y="10800"/>
                </a:lnTo>
                <a:lnTo>
                  <a:pt x="5724" y="17806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firstslide"/>
          </p:cNvPr>
          <p:cNvSpPr/>
          <p:nvPr/>
        </p:nvSpPr>
        <p:spPr>
          <a:xfrm>
            <a:off x="615636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558000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7493"/>
                </a:moveTo>
                <a:lnTo>
                  <a:pt x="7832" y="7493"/>
                </a:lnTo>
                <a:lnTo>
                  <a:pt x="7832" y="12828"/>
                </a:lnTo>
                <a:cubicBezTo>
                  <a:pt x="7832" y="13751"/>
                  <a:pt x="8632" y="14482"/>
                  <a:pt x="9668" y="14482"/>
                </a:cubicBezTo>
                <a:lnTo>
                  <a:pt x="11330" y="14482"/>
                </a:lnTo>
                <a:cubicBezTo>
                  <a:pt x="12366" y="14482"/>
                  <a:pt x="13167" y="13751"/>
                  <a:pt x="13167" y="12828"/>
                </a:cubicBezTo>
                <a:lnTo>
                  <a:pt x="13167" y="7493"/>
                </a:lnTo>
                <a:lnTo>
                  <a:pt x="11330" y="7493"/>
                </a:lnTo>
                <a:lnTo>
                  <a:pt x="14838" y="3985"/>
                </a:lnTo>
                <a:lnTo>
                  <a:pt x="18511" y="7493"/>
                </a:lnTo>
                <a:lnTo>
                  <a:pt x="16675" y="7493"/>
                </a:lnTo>
                <a:lnTo>
                  <a:pt x="16675" y="12828"/>
                </a:lnTo>
                <a:cubicBezTo>
                  <a:pt x="16675" y="15596"/>
                  <a:pt x="14098" y="18155"/>
                  <a:pt x="11330" y="18155"/>
                </a:cubicBezTo>
                <a:lnTo>
                  <a:pt x="9668" y="18155"/>
                </a:lnTo>
                <a:cubicBezTo>
                  <a:pt x="6900" y="18155"/>
                  <a:pt x="4324" y="15596"/>
                  <a:pt x="4324" y="12828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previousslide"/>
          </p:cNvPr>
          <p:cNvSpPr/>
          <p:nvPr/>
        </p:nvSpPr>
        <p:spPr>
          <a:xfrm>
            <a:off x="5003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10800"/>
                </a:moveTo>
                <a:lnTo>
                  <a:pt x="18337" y="3794"/>
                </a:lnTo>
                <a:lnTo>
                  <a:pt x="18337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endshow"/>
          </p:cNvPr>
          <p:cNvSpPr/>
          <p:nvPr/>
        </p:nvSpPr>
        <p:spPr>
          <a:xfrm>
            <a:off x="8388360" y="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24000" y="4508640"/>
            <a:ext cx="79200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В глазу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стрекозы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 более 20 тыс. крошечных линз,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образующих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, как кусочки мозаики многогранную (фасеточную) поверх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673272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3794"/>
                </a:moveTo>
                <a:lnTo>
                  <a:pt x="19737" y="10800"/>
                </a:lnTo>
                <a:lnTo>
                  <a:pt x="5724" y="17806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firstslide"/>
          </p:cNvPr>
          <p:cNvSpPr/>
          <p:nvPr/>
        </p:nvSpPr>
        <p:spPr>
          <a:xfrm>
            <a:off x="615636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558000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7493"/>
                </a:moveTo>
                <a:lnTo>
                  <a:pt x="7832" y="7493"/>
                </a:lnTo>
                <a:lnTo>
                  <a:pt x="7832" y="12828"/>
                </a:lnTo>
                <a:cubicBezTo>
                  <a:pt x="7832" y="13751"/>
                  <a:pt x="8632" y="14482"/>
                  <a:pt x="9668" y="14482"/>
                </a:cubicBezTo>
                <a:lnTo>
                  <a:pt x="11330" y="14482"/>
                </a:lnTo>
                <a:cubicBezTo>
                  <a:pt x="12366" y="14482"/>
                  <a:pt x="13167" y="13751"/>
                  <a:pt x="13167" y="12828"/>
                </a:cubicBezTo>
                <a:lnTo>
                  <a:pt x="13167" y="7493"/>
                </a:lnTo>
                <a:lnTo>
                  <a:pt x="11330" y="7493"/>
                </a:lnTo>
                <a:lnTo>
                  <a:pt x="14838" y="3985"/>
                </a:lnTo>
                <a:lnTo>
                  <a:pt x="18511" y="7493"/>
                </a:lnTo>
                <a:lnTo>
                  <a:pt x="16675" y="7493"/>
                </a:lnTo>
                <a:lnTo>
                  <a:pt x="16675" y="12828"/>
                </a:lnTo>
                <a:cubicBezTo>
                  <a:pt x="16675" y="15596"/>
                  <a:pt x="14098" y="18155"/>
                  <a:pt x="11330" y="18155"/>
                </a:cubicBezTo>
                <a:lnTo>
                  <a:pt x="9668" y="18155"/>
                </a:lnTo>
                <a:cubicBezTo>
                  <a:pt x="6900" y="18155"/>
                  <a:pt x="4324" y="15596"/>
                  <a:pt x="4324" y="12828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previousslide"/>
          </p:cNvPr>
          <p:cNvSpPr/>
          <p:nvPr/>
        </p:nvSpPr>
        <p:spPr>
          <a:xfrm>
            <a:off x="5003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10800"/>
                </a:moveTo>
                <a:lnTo>
                  <a:pt x="18337" y="3794"/>
                </a:lnTo>
                <a:lnTo>
                  <a:pt x="18337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endshow"/>
          </p:cNvPr>
          <p:cNvSpPr/>
          <p:nvPr/>
        </p:nvSpPr>
        <p:spPr>
          <a:xfrm>
            <a:off x="8388360" y="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68360" y="4867920"/>
            <a:ext cx="84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В волчьей стае размножаются только две доминантные особи.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673272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3794"/>
                </a:moveTo>
                <a:lnTo>
                  <a:pt x="19737" y="10800"/>
                </a:lnTo>
                <a:lnTo>
                  <a:pt x="5724" y="17806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firstslide"/>
          </p:cNvPr>
          <p:cNvSpPr/>
          <p:nvPr/>
        </p:nvSpPr>
        <p:spPr>
          <a:xfrm>
            <a:off x="615636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" action="ppaction://hlinkshowjump?jump=previousslide"/>
          </p:cNvPr>
          <p:cNvSpPr/>
          <p:nvPr/>
        </p:nvSpPr>
        <p:spPr>
          <a:xfrm>
            <a:off x="558000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7493"/>
                </a:moveTo>
                <a:lnTo>
                  <a:pt x="7832" y="7493"/>
                </a:lnTo>
                <a:lnTo>
                  <a:pt x="7832" y="12828"/>
                </a:lnTo>
                <a:cubicBezTo>
                  <a:pt x="7832" y="13751"/>
                  <a:pt x="8632" y="14482"/>
                  <a:pt x="9668" y="14482"/>
                </a:cubicBezTo>
                <a:lnTo>
                  <a:pt x="11330" y="14482"/>
                </a:lnTo>
                <a:cubicBezTo>
                  <a:pt x="12366" y="14482"/>
                  <a:pt x="13167" y="13751"/>
                  <a:pt x="13167" y="12828"/>
                </a:cubicBezTo>
                <a:lnTo>
                  <a:pt x="13167" y="7493"/>
                </a:lnTo>
                <a:lnTo>
                  <a:pt x="11330" y="7493"/>
                </a:lnTo>
                <a:lnTo>
                  <a:pt x="14838" y="3985"/>
                </a:lnTo>
                <a:lnTo>
                  <a:pt x="18511" y="7493"/>
                </a:lnTo>
                <a:lnTo>
                  <a:pt x="16675" y="7493"/>
                </a:lnTo>
                <a:lnTo>
                  <a:pt x="16675" y="12828"/>
                </a:lnTo>
                <a:cubicBezTo>
                  <a:pt x="16675" y="15596"/>
                  <a:pt x="14098" y="18155"/>
                  <a:pt x="11330" y="18155"/>
                </a:cubicBezTo>
                <a:lnTo>
                  <a:pt x="9668" y="18155"/>
                </a:lnTo>
                <a:cubicBezTo>
                  <a:pt x="6900" y="18155"/>
                  <a:pt x="4324" y="15596"/>
                  <a:pt x="4324" y="12828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previousslide"/>
          </p:cNvPr>
          <p:cNvSpPr/>
          <p:nvPr/>
        </p:nvSpPr>
        <p:spPr>
          <a:xfrm>
            <a:off x="5003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10800"/>
                </a:moveTo>
                <a:lnTo>
                  <a:pt x="18337" y="3794"/>
                </a:lnTo>
                <a:lnTo>
                  <a:pt x="18337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endshow"/>
          </p:cNvPr>
          <p:cNvSpPr/>
          <p:nvPr/>
        </p:nvSpPr>
        <p:spPr>
          <a:xfrm>
            <a:off x="8388360" y="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95280" y="184356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Большинство змей закапывают свою кладку и забывают о ней.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673272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3794"/>
                </a:moveTo>
                <a:lnTo>
                  <a:pt x="19737" y="10800"/>
                </a:lnTo>
                <a:lnTo>
                  <a:pt x="5724" y="17806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615636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558000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7493"/>
                </a:moveTo>
                <a:lnTo>
                  <a:pt x="7832" y="7493"/>
                </a:lnTo>
                <a:lnTo>
                  <a:pt x="7832" y="12828"/>
                </a:lnTo>
                <a:cubicBezTo>
                  <a:pt x="7832" y="13751"/>
                  <a:pt x="8632" y="14482"/>
                  <a:pt x="9668" y="14482"/>
                </a:cubicBezTo>
                <a:lnTo>
                  <a:pt x="11330" y="14482"/>
                </a:lnTo>
                <a:cubicBezTo>
                  <a:pt x="12366" y="14482"/>
                  <a:pt x="13167" y="13751"/>
                  <a:pt x="13167" y="12828"/>
                </a:cubicBezTo>
                <a:lnTo>
                  <a:pt x="13167" y="7493"/>
                </a:lnTo>
                <a:lnTo>
                  <a:pt x="11330" y="7493"/>
                </a:lnTo>
                <a:lnTo>
                  <a:pt x="14838" y="3985"/>
                </a:lnTo>
                <a:lnTo>
                  <a:pt x="18511" y="7493"/>
                </a:lnTo>
                <a:lnTo>
                  <a:pt x="16675" y="7493"/>
                </a:lnTo>
                <a:lnTo>
                  <a:pt x="16675" y="12828"/>
                </a:lnTo>
                <a:cubicBezTo>
                  <a:pt x="16675" y="15596"/>
                  <a:pt x="14098" y="18155"/>
                  <a:pt x="11330" y="18155"/>
                </a:cubicBezTo>
                <a:lnTo>
                  <a:pt x="9668" y="18155"/>
                </a:lnTo>
                <a:cubicBezTo>
                  <a:pt x="6900" y="18155"/>
                  <a:pt x="4324" y="15596"/>
                  <a:pt x="4324" y="12828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previousslide"/>
          </p:cNvPr>
          <p:cNvSpPr/>
          <p:nvPr/>
        </p:nvSpPr>
        <p:spPr>
          <a:xfrm>
            <a:off x="5003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10800"/>
                </a:moveTo>
                <a:lnTo>
                  <a:pt x="18337" y="3794"/>
                </a:lnTo>
                <a:lnTo>
                  <a:pt x="18337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endshow"/>
          </p:cNvPr>
          <p:cNvSpPr/>
          <p:nvPr/>
        </p:nvSpPr>
        <p:spPr>
          <a:xfrm>
            <a:off x="8388360" y="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55640" y="207000"/>
            <a:ext cx="770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В тканях рыбы иглобрюха содержится нервно-паралитический яд тетродотоксин, который в 10 000 раз токсичнее цианид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673272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3794"/>
                </a:moveTo>
                <a:lnTo>
                  <a:pt x="19737" y="10800"/>
                </a:lnTo>
                <a:lnTo>
                  <a:pt x="5724" y="17806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615636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previousslide"/>
          </p:cNvPr>
          <p:cNvSpPr/>
          <p:nvPr/>
        </p:nvSpPr>
        <p:spPr>
          <a:xfrm>
            <a:off x="558000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7493"/>
                </a:moveTo>
                <a:lnTo>
                  <a:pt x="7832" y="7493"/>
                </a:lnTo>
                <a:lnTo>
                  <a:pt x="7832" y="12828"/>
                </a:lnTo>
                <a:cubicBezTo>
                  <a:pt x="7832" y="13751"/>
                  <a:pt x="8632" y="14482"/>
                  <a:pt x="9668" y="14482"/>
                </a:cubicBezTo>
                <a:lnTo>
                  <a:pt x="11330" y="14482"/>
                </a:lnTo>
                <a:cubicBezTo>
                  <a:pt x="12366" y="14482"/>
                  <a:pt x="13167" y="13751"/>
                  <a:pt x="13167" y="12828"/>
                </a:cubicBezTo>
                <a:lnTo>
                  <a:pt x="13167" y="7493"/>
                </a:lnTo>
                <a:lnTo>
                  <a:pt x="11330" y="7493"/>
                </a:lnTo>
                <a:lnTo>
                  <a:pt x="14838" y="3985"/>
                </a:lnTo>
                <a:lnTo>
                  <a:pt x="18511" y="7493"/>
                </a:lnTo>
                <a:lnTo>
                  <a:pt x="16675" y="7493"/>
                </a:lnTo>
                <a:lnTo>
                  <a:pt x="16675" y="12828"/>
                </a:lnTo>
                <a:cubicBezTo>
                  <a:pt x="16675" y="15596"/>
                  <a:pt x="14098" y="18155"/>
                  <a:pt x="11330" y="18155"/>
                </a:cubicBezTo>
                <a:lnTo>
                  <a:pt x="9668" y="18155"/>
                </a:lnTo>
                <a:cubicBezTo>
                  <a:pt x="6900" y="18155"/>
                  <a:pt x="4324" y="15596"/>
                  <a:pt x="4324" y="12828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5003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10800"/>
                </a:moveTo>
                <a:lnTo>
                  <a:pt x="18337" y="3794"/>
                </a:lnTo>
                <a:lnTo>
                  <a:pt x="18337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endshow"/>
          </p:cNvPr>
          <p:cNvSpPr/>
          <p:nvPr/>
        </p:nvSpPr>
        <p:spPr>
          <a:xfrm>
            <a:off x="8388360" y="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26920" y="3643920"/>
            <a:ext cx="7439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Обыкновенный крот - мощный землеройный снаряд, прокладывающий за один час до 15 м туннел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673272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3794"/>
                </a:moveTo>
                <a:lnTo>
                  <a:pt x="19737" y="10800"/>
                </a:lnTo>
                <a:lnTo>
                  <a:pt x="5724" y="17806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615636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558000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7493"/>
                </a:moveTo>
                <a:lnTo>
                  <a:pt x="7832" y="7493"/>
                </a:lnTo>
                <a:lnTo>
                  <a:pt x="7832" y="12828"/>
                </a:lnTo>
                <a:cubicBezTo>
                  <a:pt x="7832" y="13751"/>
                  <a:pt x="8632" y="14482"/>
                  <a:pt x="9668" y="14482"/>
                </a:cubicBezTo>
                <a:lnTo>
                  <a:pt x="11330" y="14482"/>
                </a:lnTo>
                <a:cubicBezTo>
                  <a:pt x="12366" y="14482"/>
                  <a:pt x="13167" y="13751"/>
                  <a:pt x="13167" y="12828"/>
                </a:cubicBezTo>
                <a:lnTo>
                  <a:pt x="13167" y="7493"/>
                </a:lnTo>
                <a:lnTo>
                  <a:pt x="11330" y="7493"/>
                </a:lnTo>
                <a:lnTo>
                  <a:pt x="14838" y="3985"/>
                </a:lnTo>
                <a:lnTo>
                  <a:pt x="18511" y="7493"/>
                </a:lnTo>
                <a:lnTo>
                  <a:pt x="16675" y="7493"/>
                </a:lnTo>
                <a:lnTo>
                  <a:pt x="16675" y="12828"/>
                </a:lnTo>
                <a:cubicBezTo>
                  <a:pt x="16675" y="15596"/>
                  <a:pt x="14098" y="18155"/>
                  <a:pt x="11330" y="18155"/>
                </a:cubicBezTo>
                <a:lnTo>
                  <a:pt x="9668" y="18155"/>
                </a:lnTo>
                <a:cubicBezTo>
                  <a:pt x="6900" y="18155"/>
                  <a:pt x="4324" y="15596"/>
                  <a:pt x="4324" y="12828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previousslide"/>
          </p:cNvPr>
          <p:cNvSpPr/>
          <p:nvPr/>
        </p:nvSpPr>
        <p:spPr>
          <a:xfrm>
            <a:off x="500364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10800"/>
                </a:moveTo>
                <a:lnTo>
                  <a:pt x="18337" y="3794"/>
                </a:lnTo>
                <a:lnTo>
                  <a:pt x="18337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endshow"/>
          </p:cNvPr>
          <p:cNvSpPr/>
          <p:nvPr/>
        </p:nvSpPr>
        <p:spPr>
          <a:xfrm>
            <a:off x="8388360" y="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05:41:24Z</dcterms:created>
  <dc:creator>Учащийся</dc:creator>
  <dc:description/>
  <dc:language>en-US</dc:language>
  <cp:lastModifiedBy>Учащийся</cp:lastModifiedBy>
  <dcterms:modified xsi:type="dcterms:W3CDTF">2009-01-23T07:13:48Z</dcterms:modified>
  <cp:revision>13</cp:revision>
  <dc:subject/>
  <dc:title>Слайд 1</dc:title>
</cp:coreProperties>
</file>