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6550-ABD6-4D4C-9CD3-F85201DDC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D6F0-D202-44DD-8C93-E18CB125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662A2-C039-44BD-9A61-FAA49B20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642C58-2C8E-4256-BBFD-66679710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2559B-707D-4CC6-B0F9-60175D12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ECAB3-57AB-4AA4-ABE3-A5F18CDA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DA746-C56F-452C-B345-DB5F3F7A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85A1FD-C1EC-48FD-9C0F-7E8E4D8F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0492AE-6DD6-4290-B7A2-661BC0EE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5CC6F-8687-441E-A214-173004DC7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5FE5C-8725-4E3B-AC0F-75E3C819E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4301C9-8750-4ABF-ABCC-8F1BA355A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1C38-1B03-4545-B20C-3AADDE479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097BE0-44A0-41FA-B006-C55A9238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B3F30-34C3-4C1C-86F3-CA4AFE4A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D5722-D996-44F7-9F87-E7EE605D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6C4828-3DBD-49C5-BE87-C7EB739B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25DDB-A4B1-4C2D-8DE0-085C34BD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5D48C-7FB7-44E1-B3A2-4BA5DFC9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2ED98-C2C1-4D29-A6D0-AEE05FB3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756DC-8B28-4A28-B4D8-58AA3659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455B0-520F-4C84-A82F-033291FF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06746-78A5-4E9E-AC0B-3C312CD63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CAC4-7D4A-4E5E-BA98-6DA5E4AE4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2C4651-73FC-4610-ADDB-83CDB2B5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8112D-3F9F-40F5-A4AC-955C330FD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B5E3D-CD71-481F-B70E-5F98AD7C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CDA21-840E-4D91-B2E2-6128196A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9C314-1D50-4DB8-8F8D-CFF70A2A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1AF4E-D507-4A5E-9C69-86333887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C1F36-567A-4F16-86F7-962ED0CA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3DDBB-12C9-4989-8665-6E3D9EB3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E0E72-8111-4116-9882-5E0670A5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6949C-0E91-42B7-8A8B-5229D6FD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CD43-3E48-4931-93A2-44E16F09D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26E1B-CB26-42E6-B07B-A64C3AAB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E69B4-CB82-43A4-B74F-8D913846C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11B10-FE22-4834-A17A-B9C7A75D8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87E560-B9E0-41DA-843A-8D4E8C1ED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F23A6B-A6F4-4C5A-BF02-B64A6D82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2DC755-5931-4118-AAFA-DE4824D5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487A88-C5CB-46D4-BFE8-4C3B8154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16E8B0-F39A-4618-8063-5BFD8585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A86302-561A-4880-908D-08CCADD5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8BF76E-585A-49E6-ACF1-D85E9B05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62A2-E2DD-4769-8F4D-DAAF6257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5227F2-3BF8-445A-BC46-F1E40875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F4BB72-243F-4092-8ECE-342897FD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ED9A1B-1AB4-416B-ADB3-BC8DE5E1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6606ED-30C5-4DD0-A911-2A015169B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44C89-B43F-424A-83B3-F9B9EC190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311C07-15AD-4A04-B100-1CAB8C42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236AEE-F8AC-43EC-91DC-ABBC1F01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E59161-5783-4608-ADF9-A4F6B564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E4BEE3-DBA3-4FE5-B78B-D10E22FF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03021F-12E3-4125-92DA-F4339C6E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EAF0-9217-4D22-8DC4-CE8C22D3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DB0E8A-2298-414D-A5D4-E93C68BC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B5E7B2-DD71-4481-9231-0C0CDE48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18CA9A-1EF9-4B1F-848C-43BD009E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C202E1-D657-4276-9819-2773ECDD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6ECCC3-2A78-49A0-90AC-AAE30C18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DE1FEC-5123-443F-AA5E-99413485D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48D635-1B3E-4F25-84F9-C35E57014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1F50-5443-42B0-9646-3A538874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2B42-1C49-4EDE-8C1C-F2E52430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36BB-9AC7-4AAB-9789-9464AF05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62A9-C920-406F-801B-E53EBBDD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021C-17BE-4B7C-839C-9F1C350A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A1B5-F20F-4C98-8165-BA023822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3664-C04B-4384-9516-8A4383DC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ECC3-D768-41B0-8415-F44FD70D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D98C-99E9-4B16-9B2C-A014BCA3E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7380-6BAB-4DF5-AE00-A086774E0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34BE11-D687-4297-BBBA-EC39C7A74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4AA3C9-34EB-42FF-AA97-09D61B1F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A434EB-F2FE-4AF6-83D0-3AA71A78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B178E4-19F8-4822-822C-449E72EF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22D063-5F4D-4619-9134-8854A118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10EB-D834-4F08-B56D-F5EADFE2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209225-20C6-4617-8714-A61CDC67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B97F8B-3B55-4F5B-9FEE-D72FAA65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FC2142-CA9E-4D96-B97A-7A84A3AB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F78EF4-FEF0-4A4F-8DF6-A47B51F1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D2708F-EE06-4963-8DD5-66D3E6D9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E2C813-1ABB-46A9-8BC5-391C5065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27583F-BE65-4713-B9D9-B978709FA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E0CFB-999D-4EF6-8C09-39EE8528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A26F8-25CE-46FF-8B48-761866B5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480FB-E608-445C-9D63-7262C0FF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001F-4179-4088-81C3-1BDE7B22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6A972-134E-49D2-8E09-4B10AB74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3AD32-6686-4C10-B5D7-4C3670C1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775E4-1264-4F58-8CFE-EBD32B19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4DABD-C8A8-4B97-8066-5445F920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7F452-0266-490C-B4CB-D8BC4921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51A90-557C-45BA-8DE7-F2A6C0AF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7A1F9-3A81-45DF-BBD3-8C021E19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0A721-2582-45FD-ACE3-2BC5719BB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C487C-F870-4926-8302-83F47C9B9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979336-ED14-4ADE-8468-2B40768E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E54F-70A7-44DD-89AA-C5E12007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A755B0-1847-4267-B850-695A8B2A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4E53C7-451B-4E0A-9AE4-082E79A2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277724-E461-4FA9-A726-D50491A4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79C4F5-112C-42F6-8467-9F56F143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7BF4E8-06E5-4CAF-8899-3E341DE6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5FD424-E16A-49E0-ABE0-3C6971AB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FC1860-21A0-49AA-8F4E-51CF51AC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6D8AC2-0930-4FD7-AB73-9BE36C93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15CFF3-8C9C-41B6-8A5E-306C7A12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0F52A3-FFDF-4A5F-ADB1-4E509EC77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8326-2AF4-4F38-890A-31A1A85F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89E7C6-9396-462B-BF10-3127A0A9A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5B4A6-F6B0-4823-969E-F5FD23236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787C5-9E9B-41C3-AF25-5B4EF6FB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DE794-9C15-438D-93B2-F800097E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8C226-D3EB-43EF-8061-E31AF2EA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5DD17-95F4-4162-83EE-7F4D2844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D7D13-271E-44B0-92AE-24A5BEDB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22BAD-7499-42F8-838C-594F61A0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A8AD7-0796-4552-A9E6-9D274018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332F5-720B-4A54-BC5E-2700D580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A6C0-F544-4185-B043-80291BEB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A94AD-968C-4644-9DFC-A9F5E55B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D3C18-7DB6-492F-8C78-D3312BAE7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0EBBB-B352-4FE8-BB4E-58DD92D2D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B9857-907C-453E-A6CB-2FE621B1E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9819B-D12C-4345-96BC-0E36421F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299ED-5F29-4CB1-A9C6-984269F8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1FC73-B05E-4420-A307-F013E987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68102-5886-47C7-AC0E-7FCBB5D8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D1E2F-5807-4446-8620-1A837163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D085F-4104-4F20-949C-04E87F10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B820-969A-47C0-B8A0-525A677A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1418A-C61C-4FB1-B63D-0226B2ED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684E2-F1C2-459D-AF94-B866346A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3F394-C412-4649-9D37-ED0EA33D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A4FF3-BD7E-4C8A-86D2-C6118A9AE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C723A-BCE3-4F2F-AE6F-75119169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22CC8-3118-44EA-8187-B66CB1326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F2A67-FB3B-41CC-A926-42496B50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75B0A-3807-4520-A384-36CE7CB3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A5551-78FA-48EA-8F7C-7F962687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49CF5-8639-421C-94C9-D4F12484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702E-AEB2-49F3-92C7-EEE9D724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69F42-370C-4A44-B927-CBB2683A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B4C63-79EB-4D8F-8F83-C07BFBC2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70C75-AA78-4D09-9ADE-81F0164B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0ED1D-8F1D-4288-B3F9-A2E1CDF1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E90A0-5A2A-42CD-B09B-698216B0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6D83A-954B-4D6C-A68C-0E9B27E7E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956C6-49BF-4D74-94A8-BC227660C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BFC5C-273B-4335-8DC3-D7EABFD39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675EC-2DE2-4868-9B21-8D25CAC9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9BF05-E84A-4ADD-8C66-512BB6DA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99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8CEB-8076-4820-B252-9FF4AD7E6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676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28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 type="ftr" idx="29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1E32-18E9-462D-A2E1-D6DA9CD784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721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31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32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33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8593-E630-4A12-94D2-042DB483D0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CC99-43F1-4E95-966D-B62A7AA8379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73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2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83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7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99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00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3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04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5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06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4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1F2A-B2E4-4846-8E9E-EF4DA6D4EE1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57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0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61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6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867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0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871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6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05D8-0A10-4297-8B99-A420EF455E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D86B-0847-47C1-BAA7-C324AFC1C4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9C87-E16F-406D-B83D-C8C6A62F6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3D02-6107-4924-8549-322E288FD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BD46-3932-4E79-93F6-065E5C27E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dt" idx="19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7D3F-6312-4DE9-B3A5-62C84C4D5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27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28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31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34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41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87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02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4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6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07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2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5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8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1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4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7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0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31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6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9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F7EA-7E8B-401E-85C0-3EA875AE4A6D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503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04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507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08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12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13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5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16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8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19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1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22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4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25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7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28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3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34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6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37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9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40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2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43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5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46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8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49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52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4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55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7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58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0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61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64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6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67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9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70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2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73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75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77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78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9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0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81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3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84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5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6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87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8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9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90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1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2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93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4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5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96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7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8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99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1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02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3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4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05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6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7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08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9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10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611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612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9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0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21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4421-C5B6-44B8-B40E-DC79070A7170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 txBox="1"/>
          <p:nvPr/>
        </p:nvSpPr>
        <p:spPr>
          <a:xfrm>
            <a:off x="2627280" y="476280"/>
            <a:ext cx="42498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99ff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иолог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99ff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2050920" y="4437000"/>
            <a:ext cx="518508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Выполнил работу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Рахимов Ерназ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900000" y="2637000"/>
            <a:ext cx="1228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а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2484360" y="2708280"/>
            <a:ext cx="5200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рганические веществ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18" name="">
            <a:hlinkClick r:id="" action="ppaction://hlinkshowjump?jump=nextslide"/>
          </p:cNvPr>
          <p:cNvSpPr/>
          <p:nvPr/>
        </p:nvSpPr>
        <p:spPr>
          <a:xfrm>
            <a:off x="849636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3794"/>
                </a:moveTo>
                <a:lnTo>
                  <a:pt x="19737" y="10800"/>
                </a:lnTo>
                <a:lnTo>
                  <a:pt x="572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>
            <a:hlinkClick r:id="" action="ppaction://hlinkshowjump?jump=previousslide"/>
          </p:cNvPr>
          <p:cNvSpPr/>
          <p:nvPr/>
        </p:nvSpPr>
        <p:spPr>
          <a:xfrm>
            <a:off x="7956720" y="6315120"/>
            <a:ext cx="576000" cy="542880"/>
          </a:xfrm>
          <a:custGeom>
            <a:avLst/>
            <a:gdLst>
              <a:gd name="textAreaLeft" fmla="*/ 34920 w 576000"/>
              <a:gd name="textAreaRight" fmla="*/ 541080 w 57600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917" h="21600">
                <a:moveTo>
                  <a:pt x="0" y="0"/>
                </a:moveTo>
                <a:lnTo>
                  <a:pt x="22917" y="0"/>
                </a:lnTo>
                <a:lnTo>
                  <a:pt x="22917" y="21600"/>
                </a:lnTo>
                <a:lnTo>
                  <a:pt x="0" y="21600"/>
                </a:lnTo>
                <a:close/>
              </a:path>
              <a:path fill="lightenLess" w="22917" h="21600">
                <a:moveTo>
                  <a:pt x="0" y="0"/>
                </a:moveTo>
                <a:lnTo>
                  <a:pt x="22917" y="0"/>
                </a:lnTo>
                <a:lnTo>
                  <a:pt x="21517" y="1400"/>
                </a:lnTo>
                <a:lnTo>
                  <a:pt x="1400" y="1400"/>
                </a:lnTo>
                <a:close/>
              </a:path>
              <a:path fill="darken" w="22917" h="21600">
                <a:moveTo>
                  <a:pt x="22917" y="0"/>
                </a:moveTo>
                <a:lnTo>
                  <a:pt x="22917" y="21600"/>
                </a:lnTo>
                <a:lnTo>
                  <a:pt x="21517" y="20200"/>
                </a:lnTo>
                <a:lnTo>
                  <a:pt x="21517" y="1400"/>
                </a:lnTo>
                <a:close/>
              </a:path>
              <a:path fill="darkenLess" w="22917" h="21600">
                <a:moveTo>
                  <a:pt x="22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17" y="20200"/>
                </a:lnTo>
                <a:close/>
              </a:path>
              <a:path fill="lighten" w="22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17" h="21600">
                <a:moveTo>
                  <a:pt x="4452" y="7493"/>
                </a:moveTo>
                <a:lnTo>
                  <a:pt x="7960" y="7493"/>
                </a:lnTo>
                <a:lnTo>
                  <a:pt x="7960" y="12828"/>
                </a:lnTo>
                <a:cubicBezTo>
                  <a:pt x="7960" y="13751"/>
                  <a:pt x="8760" y="14482"/>
                  <a:pt x="9796" y="14482"/>
                </a:cubicBezTo>
                <a:lnTo>
                  <a:pt x="11458" y="14482"/>
                </a:lnTo>
                <a:cubicBezTo>
                  <a:pt x="12494" y="14482"/>
                  <a:pt x="13295" y="13751"/>
                  <a:pt x="13295" y="12828"/>
                </a:cubicBezTo>
                <a:lnTo>
                  <a:pt x="13295" y="7493"/>
                </a:lnTo>
                <a:lnTo>
                  <a:pt x="11458" y="7493"/>
                </a:lnTo>
                <a:lnTo>
                  <a:pt x="14966" y="3985"/>
                </a:lnTo>
                <a:lnTo>
                  <a:pt x="18639" y="7493"/>
                </a:lnTo>
                <a:lnTo>
                  <a:pt x="16803" y="7493"/>
                </a:lnTo>
                <a:lnTo>
                  <a:pt x="16803" y="12828"/>
                </a:lnTo>
                <a:cubicBezTo>
                  <a:pt x="16803" y="15596"/>
                  <a:pt x="14226" y="18155"/>
                  <a:pt x="11458" y="18155"/>
                </a:cubicBezTo>
                <a:lnTo>
                  <a:pt x="9796" y="18155"/>
                </a:lnTo>
                <a:cubicBezTo>
                  <a:pt x="7028" y="18155"/>
                  <a:pt x="4452" y="15596"/>
                  <a:pt x="4452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>
            <a:hlinkClick r:id="" action="ppaction://hlinkshowjump?jump=endshow"/>
          </p:cNvPr>
          <p:cNvSpPr/>
          <p:nvPr/>
        </p:nvSpPr>
        <p:spPr>
          <a:xfrm>
            <a:off x="8567640" y="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Wingdings 2"/>
                <a:ea typeface="Wingdings 2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2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9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2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500"/>
                            </p:stCondLst>
                            <p:childTnLst>
                              <p:par>
                                <p:cTn id="2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 txBox="1"/>
          <p:nvPr/>
        </p:nvSpPr>
        <p:spPr>
          <a:xfrm>
            <a:off x="250920" y="0"/>
            <a:ext cx="8532720" cy="20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Пла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908000" y="2708280"/>
            <a:ext cx="6048720" cy="28062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ffb8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Органические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Угле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 Липи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 Бел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>
            <a:hlinkClick r:id="" action="ppaction://hlinkshowjump?jump=nextslide"/>
          </p:cNvPr>
          <p:cNvSpPr/>
          <p:nvPr/>
        </p:nvSpPr>
        <p:spPr>
          <a:xfrm>
            <a:off x="849636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3794"/>
                </a:moveTo>
                <a:lnTo>
                  <a:pt x="19737" y="10800"/>
                </a:lnTo>
                <a:lnTo>
                  <a:pt x="572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>
            <a:hlinkClick r:id="" action="ppaction://hlinkshowjump?jump=previousslide"/>
          </p:cNvPr>
          <p:cNvSpPr/>
          <p:nvPr/>
        </p:nvSpPr>
        <p:spPr>
          <a:xfrm>
            <a:off x="6659640" y="6327720"/>
            <a:ext cx="720720" cy="530280"/>
          </a:xfrm>
          <a:custGeom>
            <a:avLst/>
            <a:gdLst>
              <a:gd name="textAreaLeft" fmla="*/ 34200 w 720720"/>
              <a:gd name="textAreaRight" fmla="*/ 686520 w 720720"/>
              <a:gd name="textAreaTop" fmla="*/ 34200 h 530280"/>
              <a:gd name="textAreaBottom" fmla="*/ 496080 h 530280"/>
            </a:gdLst>
            <a:ahLst/>
            <a:rect l="textAreaLeft" t="textAreaTop" r="textAreaRight" b="textAreaBottom"/>
            <a:pathLst>
              <a:path w="29352" h="21600">
                <a:moveTo>
                  <a:pt x="0" y="0"/>
                </a:moveTo>
                <a:lnTo>
                  <a:pt x="29352" y="0"/>
                </a:lnTo>
                <a:lnTo>
                  <a:pt x="29352" y="21600"/>
                </a:lnTo>
                <a:lnTo>
                  <a:pt x="0" y="21600"/>
                </a:lnTo>
                <a:close/>
              </a:path>
              <a:path fill="lightenLess" w="29352" h="21600">
                <a:moveTo>
                  <a:pt x="0" y="0"/>
                </a:moveTo>
                <a:lnTo>
                  <a:pt x="29352" y="0"/>
                </a:lnTo>
                <a:lnTo>
                  <a:pt x="27952" y="1400"/>
                </a:lnTo>
                <a:lnTo>
                  <a:pt x="1400" y="1400"/>
                </a:lnTo>
                <a:close/>
              </a:path>
              <a:path fill="darken" w="29352" h="21600">
                <a:moveTo>
                  <a:pt x="29352" y="0"/>
                </a:moveTo>
                <a:lnTo>
                  <a:pt x="29352" y="21600"/>
                </a:lnTo>
                <a:lnTo>
                  <a:pt x="27952" y="20200"/>
                </a:lnTo>
                <a:lnTo>
                  <a:pt x="27952" y="1400"/>
                </a:lnTo>
                <a:close/>
              </a:path>
              <a:path fill="darkenLess" w="29352" h="21600">
                <a:moveTo>
                  <a:pt x="29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52" y="20200"/>
                </a:lnTo>
                <a:close/>
              </a:path>
              <a:path fill="lighten" w="29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52" h="21600">
                <a:moveTo>
                  <a:pt x="7670" y="10800"/>
                </a:moveTo>
                <a:lnTo>
                  <a:pt x="21682" y="3794"/>
                </a:lnTo>
                <a:lnTo>
                  <a:pt x="216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>
            <a:hlinkClick r:id="" action="ppaction://hlinkshowjump?jump=firstslide"/>
          </p:cNvPr>
          <p:cNvSpPr/>
          <p:nvPr/>
        </p:nvSpPr>
        <p:spPr>
          <a:xfrm>
            <a:off x="7956720" y="6315120"/>
            <a:ext cx="576000" cy="542880"/>
          </a:xfrm>
          <a:custGeom>
            <a:avLst/>
            <a:gdLst>
              <a:gd name="textAreaLeft" fmla="*/ 34920 w 576000"/>
              <a:gd name="textAreaRight" fmla="*/ 541080 w 57600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917" h="21600">
                <a:moveTo>
                  <a:pt x="0" y="0"/>
                </a:moveTo>
                <a:lnTo>
                  <a:pt x="22917" y="0"/>
                </a:lnTo>
                <a:lnTo>
                  <a:pt x="22917" y="21600"/>
                </a:lnTo>
                <a:lnTo>
                  <a:pt x="0" y="21600"/>
                </a:lnTo>
                <a:close/>
              </a:path>
              <a:path fill="lightenLess" w="22917" h="21600">
                <a:moveTo>
                  <a:pt x="0" y="0"/>
                </a:moveTo>
                <a:lnTo>
                  <a:pt x="22917" y="0"/>
                </a:lnTo>
                <a:lnTo>
                  <a:pt x="21517" y="1400"/>
                </a:lnTo>
                <a:lnTo>
                  <a:pt x="1400" y="1400"/>
                </a:lnTo>
                <a:close/>
              </a:path>
              <a:path fill="darken" w="22917" h="21600">
                <a:moveTo>
                  <a:pt x="22917" y="0"/>
                </a:moveTo>
                <a:lnTo>
                  <a:pt x="22917" y="21600"/>
                </a:lnTo>
                <a:lnTo>
                  <a:pt x="21517" y="20200"/>
                </a:lnTo>
                <a:lnTo>
                  <a:pt x="21517" y="1400"/>
                </a:lnTo>
                <a:close/>
              </a:path>
              <a:path fill="darkenLess" w="22917" h="21600">
                <a:moveTo>
                  <a:pt x="22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17" y="20200"/>
                </a:lnTo>
                <a:close/>
              </a:path>
              <a:path fill="lighten" w="22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17" h="21600">
                <a:moveTo>
                  <a:pt x="11458" y="3837"/>
                </a:moveTo>
                <a:lnTo>
                  <a:pt x="14035" y="6448"/>
                </a:lnTo>
                <a:lnTo>
                  <a:pt x="14035" y="4707"/>
                </a:lnTo>
                <a:lnTo>
                  <a:pt x="15810" y="4707"/>
                </a:lnTo>
                <a:lnTo>
                  <a:pt x="15810" y="8224"/>
                </a:lnTo>
                <a:lnTo>
                  <a:pt x="18421" y="10800"/>
                </a:lnTo>
                <a:lnTo>
                  <a:pt x="16768" y="10800"/>
                </a:lnTo>
                <a:lnTo>
                  <a:pt x="16768" y="17989"/>
                </a:lnTo>
                <a:lnTo>
                  <a:pt x="6149" y="17989"/>
                </a:lnTo>
                <a:lnTo>
                  <a:pt x="6149" y="10800"/>
                </a:lnTo>
                <a:lnTo>
                  <a:pt x="4495" y="10800"/>
                </a:lnTo>
                <a:close/>
              </a:path>
              <a:path fill="darkenLess" w="22917" h="21600">
                <a:moveTo>
                  <a:pt x="14035" y="6448"/>
                </a:moveTo>
                <a:lnTo>
                  <a:pt x="14035" y="4707"/>
                </a:lnTo>
                <a:lnTo>
                  <a:pt x="15810" y="4707"/>
                </a:lnTo>
                <a:lnTo>
                  <a:pt x="15810" y="8224"/>
                </a:lnTo>
                <a:close/>
              </a:path>
              <a:path fill="darkenLess" w="22917" h="21600">
                <a:moveTo>
                  <a:pt x="10536" y="14299"/>
                </a:moveTo>
                <a:lnTo>
                  <a:pt x="12381" y="14299"/>
                </a:lnTo>
                <a:lnTo>
                  <a:pt x="12381" y="17989"/>
                </a:lnTo>
                <a:lnTo>
                  <a:pt x="16768" y="17989"/>
                </a:lnTo>
                <a:lnTo>
                  <a:pt x="16768" y="10800"/>
                </a:lnTo>
                <a:lnTo>
                  <a:pt x="6149" y="10800"/>
                </a:lnTo>
                <a:lnTo>
                  <a:pt x="6149" y="17989"/>
                </a:lnTo>
                <a:lnTo>
                  <a:pt x="10536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>
            <a:hlinkClick r:id="" action="ppaction://hlinkshowjump?jump=previousslide"/>
          </p:cNvPr>
          <p:cNvSpPr/>
          <p:nvPr/>
        </p:nvSpPr>
        <p:spPr>
          <a:xfrm>
            <a:off x="7380360" y="6315120"/>
            <a:ext cx="576360" cy="542880"/>
          </a:xfrm>
          <a:custGeom>
            <a:avLst/>
            <a:gdLst>
              <a:gd name="textAreaLeft" fmla="*/ 34920 w 576360"/>
              <a:gd name="textAreaRight" fmla="*/ 541440 w 57636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931" h="21600">
                <a:moveTo>
                  <a:pt x="0" y="0"/>
                </a:moveTo>
                <a:lnTo>
                  <a:pt x="22931" y="0"/>
                </a:lnTo>
                <a:lnTo>
                  <a:pt x="22931" y="21600"/>
                </a:lnTo>
                <a:lnTo>
                  <a:pt x="0" y="21600"/>
                </a:lnTo>
                <a:close/>
              </a:path>
              <a:path fill="lightenLess" w="22931" h="21600">
                <a:moveTo>
                  <a:pt x="0" y="0"/>
                </a:moveTo>
                <a:lnTo>
                  <a:pt x="22931" y="0"/>
                </a:lnTo>
                <a:lnTo>
                  <a:pt x="21531" y="1400"/>
                </a:lnTo>
                <a:lnTo>
                  <a:pt x="1400" y="1400"/>
                </a:lnTo>
                <a:close/>
              </a:path>
              <a:path fill="darken" w="22931" h="21600">
                <a:moveTo>
                  <a:pt x="22931" y="0"/>
                </a:moveTo>
                <a:lnTo>
                  <a:pt x="22931" y="21600"/>
                </a:lnTo>
                <a:lnTo>
                  <a:pt x="21531" y="20200"/>
                </a:lnTo>
                <a:lnTo>
                  <a:pt x="21531" y="1400"/>
                </a:lnTo>
                <a:close/>
              </a:path>
              <a:path fill="darkenLess" w="22931" h="21600">
                <a:moveTo>
                  <a:pt x="2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31" y="20200"/>
                </a:lnTo>
                <a:close/>
              </a:path>
              <a:path fill="lighten" w="2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31" h="21600">
                <a:moveTo>
                  <a:pt x="4459" y="7493"/>
                </a:moveTo>
                <a:lnTo>
                  <a:pt x="7967" y="7493"/>
                </a:lnTo>
                <a:lnTo>
                  <a:pt x="7967" y="12828"/>
                </a:lnTo>
                <a:cubicBezTo>
                  <a:pt x="7967" y="13751"/>
                  <a:pt x="8767" y="14482"/>
                  <a:pt x="9803" y="14482"/>
                </a:cubicBezTo>
                <a:lnTo>
                  <a:pt x="11466" y="14482"/>
                </a:lnTo>
                <a:cubicBezTo>
                  <a:pt x="12501" y="14482"/>
                  <a:pt x="13302" y="13751"/>
                  <a:pt x="13302" y="12828"/>
                </a:cubicBezTo>
                <a:lnTo>
                  <a:pt x="13302" y="7493"/>
                </a:lnTo>
                <a:lnTo>
                  <a:pt x="11466" y="7493"/>
                </a:lnTo>
                <a:lnTo>
                  <a:pt x="14973" y="3985"/>
                </a:lnTo>
                <a:lnTo>
                  <a:pt x="18646" y="7493"/>
                </a:lnTo>
                <a:lnTo>
                  <a:pt x="16810" y="7493"/>
                </a:lnTo>
                <a:lnTo>
                  <a:pt x="16810" y="12828"/>
                </a:lnTo>
                <a:cubicBezTo>
                  <a:pt x="16810" y="15596"/>
                  <a:pt x="14233" y="18155"/>
                  <a:pt x="11466" y="18155"/>
                </a:cubicBezTo>
                <a:lnTo>
                  <a:pt x="9803" y="18155"/>
                </a:lnTo>
                <a:cubicBezTo>
                  <a:pt x="7035" y="18155"/>
                  <a:pt x="4459" y="15596"/>
                  <a:pt x="4459" y="12828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>
            <a:hlinkClick r:id="" action="ppaction://hlinkshowjump?jump=endshow"/>
          </p:cNvPr>
          <p:cNvSpPr/>
          <p:nvPr/>
        </p:nvSpPr>
        <p:spPr>
          <a:xfrm>
            <a:off x="8567640" y="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Wingdings 2"/>
                <a:ea typeface="Wingdings 2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637080" y="3357720"/>
            <a:ext cx="1914480" cy="5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глевод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3563640" y="3933720"/>
            <a:ext cx="360360" cy="503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5508720" y="3933720"/>
            <a:ext cx="360360" cy="503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2987640" y="4438800"/>
            <a:ext cx="1085760" cy="911160"/>
            <a:chOff x="2987640" y="4438800"/>
            <a:chExt cx="1085760" cy="911160"/>
          </a:xfrm>
        </p:grpSpPr>
        <p:sp>
          <p:nvSpPr>
            <p:cNvPr id="932" name=""/>
            <p:cNvSpPr txBox="1"/>
            <p:nvPr/>
          </p:nvSpPr>
          <p:spPr>
            <a:xfrm>
              <a:off x="2987640" y="4438800"/>
              <a:ext cx="10857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Вод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3" name=""/>
                <p:cNvSpPr txBox="1"/>
                <p:nvPr/>
              </p:nvSpPr>
              <p:spPr>
                <a:xfrm>
                  <a:off x="3108240" y="4941720"/>
                  <a:ext cx="839880" cy="40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Н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О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34" name=""/>
          <p:cNvGrpSpPr/>
          <p:nvPr/>
        </p:nvGrpSpPr>
        <p:grpSpPr>
          <a:xfrm>
            <a:off x="5003640" y="4510080"/>
            <a:ext cx="1771920" cy="906480"/>
            <a:chOff x="5003640" y="4510080"/>
            <a:chExt cx="1771920" cy="906480"/>
          </a:xfrm>
        </p:grpSpPr>
        <p:sp>
          <p:nvSpPr>
            <p:cNvPr id="935" name=""/>
            <p:cNvSpPr txBox="1"/>
            <p:nvPr/>
          </p:nvSpPr>
          <p:spPr>
            <a:xfrm>
              <a:off x="5003640" y="4510080"/>
              <a:ext cx="17719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Углерод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6" name=""/>
                <p:cNvSpPr txBox="1"/>
                <p:nvPr/>
              </p:nvSpPr>
              <p:spPr>
                <a:xfrm>
                  <a:off x="5545080" y="4986360"/>
                  <a:ext cx="53820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С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37" name=""/>
          <p:cNvSpPr txBox="1"/>
          <p:nvPr/>
        </p:nvSpPr>
        <p:spPr>
          <a:xfrm>
            <a:off x="1619280" y="620640"/>
            <a:ext cx="583236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рганические веществ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395280" y="1844640"/>
            <a:ext cx="251928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глевод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780000" y="1989000"/>
            <a:ext cx="180000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лк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6156360" y="1917720"/>
            <a:ext cx="266688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ипид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7236000" y="1341360"/>
            <a:ext cx="215640" cy="647640"/>
          </a:xfrm>
          <a:prstGeom prst="downArrow">
            <a:avLst>
              <a:gd name="adj1" fmla="val 50000"/>
              <a:gd name="adj2" fmla="val 75083"/>
            </a:avLst>
          </a:prstGeom>
          <a:gradFill rotWithShape="0">
            <a:gsLst>
              <a:gs pos="0">
                <a:srgbClr val="ffffff"/>
              </a:gs>
              <a:gs pos="50000">
                <a:srgbClr val="0000a4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4572000" y="1413000"/>
            <a:ext cx="216000" cy="647640"/>
          </a:xfrm>
          <a:prstGeom prst="downArrow">
            <a:avLst>
              <a:gd name="adj1" fmla="val 50000"/>
              <a:gd name="adj2" fmla="val 74958"/>
            </a:avLst>
          </a:prstGeom>
          <a:gradFill rotWithShape="0">
            <a:gsLst>
              <a:gs pos="0">
                <a:srgbClr val="ffffff"/>
              </a:gs>
              <a:gs pos="50000">
                <a:srgbClr val="0000a4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692360" y="1341360"/>
            <a:ext cx="215640" cy="647640"/>
          </a:xfrm>
          <a:prstGeom prst="downArrow">
            <a:avLst>
              <a:gd name="adj1" fmla="val 50000"/>
              <a:gd name="adj2" fmla="val 75083"/>
            </a:avLst>
          </a:prstGeom>
          <a:gradFill rotWithShape="0">
            <a:gsLst>
              <a:gs pos="0">
                <a:srgbClr val="ffffff"/>
              </a:gs>
              <a:gs pos="50000">
                <a:srgbClr val="0000a4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>
            <a:hlinkClick r:id="" action="ppaction://hlinkshowjump?jump=nextslide"/>
          </p:cNvPr>
          <p:cNvSpPr/>
          <p:nvPr/>
        </p:nvSpPr>
        <p:spPr>
          <a:xfrm>
            <a:off x="849636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3794"/>
                </a:moveTo>
                <a:lnTo>
                  <a:pt x="19737" y="10800"/>
                </a:lnTo>
                <a:lnTo>
                  <a:pt x="572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>
            <a:hlinkClick r:id="" action="ppaction://hlinkshowjump?jump=previousslide"/>
          </p:cNvPr>
          <p:cNvSpPr/>
          <p:nvPr/>
        </p:nvSpPr>
        <p:spPr>
          <a:xfrm>
            <a:off x="6659640" y="6327720"/>
            <a:ext cx="720720" cy="530280"/>
          </a:xfrm>
          <a:custGeom>
            <a:avLst/>
            <a:gdLst>
              <a:gd name="textAreaLeft" fmla="*/ 34200 w 720720"/>
              <a:gd name="textAreaRight" fmla="*/ 686520 w 720720"/>
              <a:gd name="textAreaTop" fmla="*/ 34200 h 530280"/>
              <a:gd name="textAreaBottom" fmla="*/ 496080 h 530280"/>
            </a:gdLst>
            <a:ahLst/>
            <a:rect l="textAreaLeft" t="textAreaTop" r="textAreaRight" b="textAreaBottom"/>
            <a:pathLst>
              <a:path w="29352" h="21600">
                <a:moveTo>
                  <a:pt x="0" y="0"/>
                </a:moveTo>
                <a:lnTo>
                  <a:pt x="29352" y="0"/>
                </a:lnTo>
                <a:lnTo>
                  <a:pt x="29352" y="21600"/>
                </a:lnTo>
                <a:lnTo>
                  <a:pt x="0" y="21600"/>
                </a:lnTo>
                <a:close/>
              </a:path>
              <a:path fill="lightenLess" w="29352" h="21600">
                <a:moveTo>
                  <a:pt x="0" y="0"/>
                </a:moveTo>
                <a:lnTo>
                  <a:pt x="29352" y="0"/>
                </a:lnTo>
                <a:lnTo>
                  <a:pt x="27952" y="1400"/>
                </a:lnTo>
                <a:lnTo>
                  <a:pt x="1400" y="1400"/>
                </a:lnTo>
                <a:close/>
              </a:path>
              <a:path fill="darken" w="29352" h="21600">
                <a:moveTo>
                  <a:pt x="29352" y="0"/>
                </a:moveTo>
                <a:lnTo>
                  <a:pt x="29352" y="21600"/>
                </a:lnTo>
                <a:lnTo>
                  <a:pt x="27952" y="20200"/>
                </a:lnTo>
                <a:lnTo>
                  <a:pt x="27952" y="1400"/>
                </a:lnTo>
                <a:close/>
              </a:path>
              <a:path fill="darkenLess" w="29352" h="21600">
                <a:moveTo>
                  <a:pt x="29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52" y="20200"/>
                </a:lnTo>
                <a:close/>
              </a:path>
              <a:path fill="lighten" w="29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52" h="21600">
                <a:moveTo>
                  <a:pt x="7670" y="10800"/>
                </a:moveTo>
                <a:lnTo>
                  <a:pt x="21682" y="3794"/>
                </a:lnTo>
                <a:lnTo>
                  <a:pt x="21682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>
            <a:hlinkClick r:id="" action="ppaction://hlinkshowjump?jump=firstslide"/>
          </p:cNvPr>
          <p:cNvSpPr/>
          <p:nvPr/>
        </p:nvSpPr>
        <p:spPr>
          <a:xfrm>
            <a:off x="7956720" y="6315120"/>
            <a:ext cx="576000" cy="542880"/>
          </a:xfrm>
          <a:custGeom>
            <a:avLst/>
            <a:gdLst>
              <a:gd name="textAreaLeft" fmla="*/ 34920 w 576000"/>
              <a:gd name="textAreaRight" fmla="*/ 541080 w 57600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917" h="21600">
                <a:moveTo>
                  <a:pt x="0" y="0"/>
                </a:moveTo>
                <a:lnTo>
                  <a:pt x="22917" y="0"/>
                </a:lnTo>
                <a:lnTo>
                  <a:pt x="22917" y="21600"/>
                </a:lnTo>
                <a:lnTo>
                  <a:pt x="0" y="21600"/>
                </a:lnTo>
                <a:close/>
              </a:path>
              <a:path fill="lightenLess" w="22917" h="21600">
                <a:moveTo>
                  <a:pt x="0" y="0"/>
                </a:moveTo>
                <a:lnTo>
                  <a:pt x="22917" y="0"/>
                </a:lnTo>
                <a:lnTo>
                  <a:pt x="21517" y="1400"/>
                </a:lnTo>
                <a:lnTo>
                  <a:pt x="1400" y="1400"/>
                </a:lnTo>
                <a:close/>
              </a:path>
              <a:path fill="darken" w="22917" h="21600">
                <a:moveTo>
                  <a:pt x="22917" y="0"/>
                </a:moveTo>
                <a:lnTo>
                  <a:pt x="22917" y="21600"/>
                </a:lnTo>
                <a:lnTo>
                  <a:pt x="21517" y="20200"/>
                </a:lnTo>
                <a:lnTo>
                  <a:pt x="21517" y="1400"/>
                </a:lnTo>
                <a:close/>
              </a:path>
              <a:path fill="darkenLess" w="22917" h="21600">
                <a:moveTo>
                  <a:pt x="22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17" y="20200"/>
                </a:lnTo>
                <a:close/>
              </a:path>
              <a:path fill="lighten" w="22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17" h="21600">
                <a:moveTo>
                  <a:pt x="11458" y="3837"/>
                </a:moveTo>
                <a:lnTo>
                  <a:pt x="14035" y="6448"/>
                </a:lnTo>
                <a:lnTo>
                  <a:pt x="14035" y="4707"/>
                </a:lnTo>
                <a:lnTo>
                  <a:pt x="15810" y="4707"/>
                </a:lnTo>
                <a:lnTo>
                  <a:pt x="15810" y="8224"/>
                </a:lnTo>
                <a:lnTo>
                  <a:pt x="18421" y="10800"/>
                </a:lnTo>
                <a:lnTo>
                  <a:pt x="16768" y="10800"/>
                </a:lnTo>
                <a:lnTo>
                  <a:pt x="16768" y="17989"/>
                </a:lnTo>
                <a:lnTo>
                  <a:pt x="6149" y="17989"/>
                </a:lnTo>
                <a:lnTo>
                  <a:pt x="6149" y="10800"/>
                </a:lnTo>
                <a:lnTo>
                  <a:pt x="4495" y="10800"/>
                </a:lnTo>
                <a:close/>
              </a:path>
              <a:path fill="darkenLess" w="22917" h="21600">
                <a:moveTo>
                  <a:pt x="14035" y="6448"/>
                </a:moveTo>
                <a:lnTo>
                  <a:pt x="14035" y="4707"/>
                </a:lnTo>
                <a:lnTo>
                  <a:pt x="15810" y="4707"/>
                </a:lnTo>
                <a:lnTo>
                  <a:pt x="15810" y="8224"/>
                </a:lnTo>
                <a:close/>
              </a:path>
              <a:path fill="darkenLess" w="22917" h="21600">
                <a:moveTo>
                  <a:pt x="10536" y="14299"/>
                </a:moveTo>
                <a:lnTo>
                  <a:pt x="12381" y="14299"/>
                </a:lnTo>
                <a:lnTo>
                  <a:pt x="12381" y="17989"/>
                </a:lnTo>
                <a:lnTo>
                  <a:pt x="16768" y="17989"/>
                </a:lnTo>
                <a:lnTo>
                  <a:pt x="16768" y="10800"/>
                </a:lnTo>
                <a:lnTo>
                  <a:pt x="6149" y="10800"/>
                </a:lnTo>
                <a:lnTo>
                  <a:pt x="6149" y="17989"/>
                </a:lnTo>
                <a:lnTo>
                  <a:pt x="10536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>
            <a:hlinkClick r:id="" action="ppaction://hlinkshowjump?jump=previousslide"/>
          </p:cNvPr>
          <p:cNvSpPr/>
          <p:nvPr/>
        </p:nvSpPr>
        <p:spPr>
          <a:xfrm>
            <a:off x="7380360" y="6315120"/>
            <a:ext cx="576360" cy="542880"/>
          </a:xfrm>
          <a:custGeom>
            <a:avLst/>
            <a:gdLst>
              <a:gd name="textAreaLeft" fmla="*/ 34920 w 576360"/>
              <a:gd name="textAreaRight" fmla="*/ 541440 w 57636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931" h="21600">
                <a:moveTo>
                  <a:pt x="0" y="0"/>
                </a:moveTo>
                <a:lnTo>
                  <a:pt x="22931" y="0"/>
                </a:lnTo>
                <a:lnTo>
                  <a:pt x="22931" y="21600"/>
                </a:lnTo>
                <a:lnTo>
                  <a:pt x="0" y="21600"/>
                </a:lnTo>
                <a:close/>
              </a:path>
              <a:path fill="lightenLess" w="22931" h="21600">
                <a:moveTo>
                  <a:pt x="0" y="0"/>
                </a:moveTo>
                <a:lnTo>
                  <a:pt x="22931" y="0"/>
                </a:lnTo>
                <a:lnTo>
                  <a:pt x="21531" y="1400"/>
                </a:lnTo>
                <a:lnTo>
                  <a:pt x="1400" y="1400"/>
                </a:lnTo>
                <a:close/>
              </a:path>
              <a:path fill="darken" w="22931" h="21600">
                <a:moveTo>
                  <a:pt x="22931" y="0"/>
                </a:moveTo>
                <a:lnTo>
                  <a:pt x="22931" y="21600"/>
                </a:lnTo>
                <a:lnTo>
                  <a:pt x="21531" y="20200"/>
                </a:lnTo>
                <a:lnTo>
                  <a:pt x="21531" y="1400"/>
                </a:lnTo>
                <a:close/>
              </a:path>
              <a:path fill="darkenLess" w="22931" h="21600">
                <a:moveTo>
                  <a:pt x="2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31" y="20200"/>
                </a:lnTo>
                <a:close/>
              </a:path>
              <a:path fill="lighten" w="2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31" h="21600">
                <a:moveTo>
                  <a:pt x="4459" y="7493"/>
                </a:moveTo>
                <a:lnTo>
                  <a:pt x="7967" y="7493"/>
                </a:lnTo>
                <a:lnTo>
                  <a:pt x="7967" y="12828"/>
                </a:lnTo>
                <a:cubicBezTo>
                  <a:pt x="7967" y="13751"/>
                  <a:pt x="8767" y="14482"/>
                  <a:pt x="9803" y="14482"/>
                </a:cubicBezTo>
                <a:lnTo>
                  <a:pt x="11466" y="14482"/>
                </a:lnTo>
                <a:cubicBezTo>
                  <a:pt x="12501" y="14482"/>
                  <a:pt x="13302" y="13751"/>
                  <a:pt x="13302" y="12828"/>
                </a:cubicBezTo>
                <a:lnTo>
                  <a:pt x="13302" y="7493"/>
                </a:lnTo>
                <a:lnTo>
                  <a:pt x="11466" y="7493"/>
                </a:lnTo>
                <a:lnTo>
                  <a:pt x="14973" y="3985"/>
                </a:lnTo>
                <a:lnTo>
                  <a:pt x="18646" y="7493"/>
                </a:lnTo>
                <a:lnTo>
                  <a:pt x="16810" y="7493"/>
                </a:lnTo>
                <a:lnTo>
                  <a:pt x="16810" y="12828"/>
                </a:lnTo>
                <a:cubicBezTo>
                  <a:pt x="16810" y="15596"/>
                  <a:pt x="14233" y="18155"/>
                  <a:pt x="11466" y="18155"/>
                </a:cubicBezTo>
                <a:lnTo>
                  <a:pt x="9803" y="18155"/>
                </a:lnTo>
                <a:cubicBezTo>
                  <a:pt x="7035" y="18155"/>
                  <a:pt x="4459" y="15596"/>
                  <a:pt x="4459" y="12828"/>
                </a:cubicBez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>
            <a:hlinkClick r:id="" action="ppaction://hlinkshowjump?jump=endshow"/>
          </p:cNvPr>
          <p:cNvSpPr/>
          <p:nvPr/>
        </p:nvSpPr>
        <p:spPr>
          <a:xfrm>
            <a:off x="8567640" y="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Wingdings 2"/>
                <a:ea typeface="Wingdings 2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2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8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8000"/>
                            </p:stCondLst>
                            <p:childTnLst>
                              <p:par>
                                <p:cTn id="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8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8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99"/>
                                      </p:to>
                                    </p:animClr>
                                    <p:animClr clrSpc="rgb">
                                      <p:cBhvr>
                                        <p:cTn id="123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99"/>
                                      </p:to>
                                    </p:animClr>
                                    <p:set>
                                      <p:cBhvr>
                                        <p:cTn id="124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8500"/>
                            </p:stCondLst>
                            <p:childTnLst>
                              <p:par>
                                <p:cTn id="1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9500"/>
                            </p:stCondLst>
                            <p:childTnLst>
                              <p:par>
                                <p:cTn id="1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564000" y="1052640"/>
            <a:ext cx="1914480" cy="5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Углевод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07932" dir="135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H="1">
            <a:off x="3492000" y="1628640"/>
            <a:ext cx="360360" cy="503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365800" y="1628640"/>
            <a:ext cx="360360" cy="503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1116000" y="2131920"/>
            <a:ext cx="309564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сты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(моносахориды)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4932360" y="2131920"/>
            <a:ext cx="3240000" cy="76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ложны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(полисахориды)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557440" y="2924280"/>
            <a:ext cx="0" cy="574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589800" y="2852640"/>
            <a:ext cx="0" cy="574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384200" y="3664080"/>
            <a:ext cx="124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908000" y="3429000"/>
            <a:ext cx="140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Три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Тетр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Пент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Гекс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5871240" y="3355920"/>
            <a:ext cx="16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Дисахор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Крахм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Целлюл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Глико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076400" y="4962600"/>
            <a:ext cx="738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Из 1 гр. Углевода выделяется 17,6 кД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>
            <a:hlinkClick r:id="" action="ppaction://hlinkshowjump?jump=nextslide"/>
          </p:cNvPr>
          <p:cNvSpPr/>
          <p:nvPr/>
        </p:nvSpPr>
        <p:spPr>
          <a:xfrm>
            <a:off x="849636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3794"/>
                </a:moveTo>
                <a:lnTo>
                  <a:pt x="19737" y="10800"/>
                </a:lnTo>
                <a:lnTo>
                  <a:pt x="5724" y="17806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>
            <a:hlinkClick r:id="" action="ppaction://hlinkshowjump?jump=previousslide"/>
          </p:cNvPr>
          <p:cNvSpPr/>
          <p:nvPr/>
        </p:nvSpPr>
        <p:spPr>
          <a:xfrm>
            <a:off x="6659640" y="6327720"/>
            <a:ext cx="720720" cy="530280"/>
          </a:xfrm>
          <a:custGeom>
            <a:avLst/>
            <a:gdLst>
              <a:gd name="textAreaLeft" fmla="*/ 34200 w 720720"/>
              <a:gd name="textAreaRight" fmla="*/ 686520 w 720720"/>
              <a:gd name="textAreaTop" fmla="*/ 34200 h 530280"/>
              <a:gd name="textAreaBottom" fmla="*/ 496080 h 530280"/>
            </a:gdLst>
            <a:ahLst/>
            <a:rect l="textAreaLeft" t="textAreaTop" r="textAreaRight" b="textAreaBottom"/>
            <a:pathLst>
              <a:path w="29352" h="21600">
                <a:moveTo>
                  <a:pt x="0" y="0"/>
                </a:moveTo>
                <a:lnTo>
                  <a:pt x="29352" y="0"/>
                </a:lnTo>
                <a:lnTo>
                  <a:pt x="29352" y="21600"/>
                </a:lnTo>
                <a:lnTo>
                  <a:pt x="0" y="21600"/>
                </a:lnTo>
                <a:close/>
              </a:path>
              <a:path fill="lightenLess" w="29352" h="21600">
                <a:moveTo>
                  <a:pt x="0" y="0"/>
                </a:moveTo>
                <a:lnTo>
                  <a:pt x="29352" y="0"/>
                </a:lnTo>
                <a:lnTo>
                  <a:pt x="27952" y="1400"/>
                </a:lnTo>
                <a:lnTo>
                  <a:pt x="1400" y="1400"/>
                </a:lnTo>
                <a:close/>
              </a:path>
              <a:path fill="darken" w="29352" h="21600">
                <a:moveTo>
                  <a:pt x="29352" y="0"/>
                </a:moveTo>
                <a:lnTo>
                  <a:pt x="29352" y="21600"/>
                </a:lnTo>
                <a:lnTo>
                  <a:pt x="27952" y="20200"/>
                </a:lnTo>
                <a:lnTo>
                  <a:pt x="27952" y="1400"/>
                </a:lnTo>
                <a:close/>
              </a:path>
              <a:path fill="darkenLess" w="29352" h="21600">
                <a:moveTo>
                  <a:pt x="29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52" y="20200"/>
                </a:lnTo>
                <a:close/>
              </a:path>
              <a:path fill="lighten" w="29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52" h="21600">
                <a:moveTo>
                  <a:pt x="7670" y="10800"/>
                </a:moveTo>
                <a:lnTo>
                  <a:pt x="21682" y="3794"/>
                </a:lnTo>
                <a:lnTo>
                  <a:pt x="21682" y="17806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>
            <a:hlinkClick r:id="" action="ppaction://hlinkshowjump?jump=firstslide"/>
          </p:cNvPr>
          <p:cNvSpPr/>
          <p:nvPr/>
        </p:nvSpPr>
        <p:spPr>
          <a:xfrm>
            <a:off x="7956720" y="6315120"/>
            <a:ext cx="576000" cy="542880"/>
          </a:xfrm>
          <a:custGeom>
            <a:avLst/>
            <a:gdLst>
              <a:gd name="textAreaLeft" fmla="*/ 34920 w 576000"/>
              <a:gd name="textAreaRight" fmla="*/ 541080 w 57600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917" h="21600">
                <a:moveTo>
                  <a:pt x="0" y="0"/>
                </a:moveTo>
                <a:lnTo>
                  <a:pt x="22917" y="0"/>
                </a:lnTo>
                <a:lnTo>
                  <a:pt x="22917" y="21600"/>
                </a:lnTo>
                <a:lnTo>
                  <a:pt x="0" y="21600"/>
                </a:lnTo>
                <a:close/>
              </a:path>
              <a:path fill="lightenLess" w="22917" h="21600">
                <a:moveTo>
                  <a:pt x="0" y="0"/>
                </a:moveTo>
                <a:lnTo>
                  <a:pt x="22917" y="0"/>
                </a:lnTo>
                <a:lnTo>
                  <a:pt x="21517" y="1400"/>
                </a:lnTo>
                <a:lnTo>
                  <a:pt x="1400" y="1400"/>
                </a:lnTo>
                <a:close/>
              </a:path>
              <a:path fill="darken" w="22917" h="21600">
                <a:moveTo>
                  <a:pt x="22917" y="0"/>
                </a:moveTo>
                <a:lnTo>
                  <a:pt x="22917" y="21600"/>
                </a:lnTo>
                <a:lnTo>
                  <a:pt x="21517" y="20200"/>
                </a:lnTo>
                <a:lnTo>
                  <a:pt x="21517" y="1400"/>
                </a:lnTo>
                <a:close/>
              </a:path>
              <a:path fill="darkenLess" w="22917" h="21600">
                <a:moveTo>
                  <a:pt x="22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17" y="20200"/>
                </a:lnTo>
                <a:close/>
              </a:path>
              <a:path fill="lighten" w="22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17" h="21600">
                <a:moveTo>
                  <a:pt x="11458" y="3837"/>
                </a:moveTo>
                <a:lnTo>
                  <a:pt x="14035" y="6448"/>
                </a:lnTo>
                <a:lnTo>
                  <a:pt x="14035" y="4707"/>
                </a:lnTo>
                <a:lnTo>
                  <a:pt x="15810" y="4707"/>
                </a:lnTo>
                <a:lnTo>
                  <a:pt x="15810" y="8224"/>
                </a:lnTo>
                <a:lnTo>
                  <a:pt x="18421" y="10800"/>
                </a:lnTo>
                <a:lnTo>
                  <a:pt x="16768" y="10800"/>
                </a:lnTo>
                <a:lnTo>
                  <a:pt x="16768" y="17989"/>
                </a:lnTo>
                <a:lnTo>
                  <a:pt x="6149" y="17989"/>
                </a:lnTo>
                <a:lnTo>
                  <a:pt x="6149" y="10800"/>
                </a:lnTo>
                <a:lnTo>
                  <a:pt x="4495" y="10800"/>
                </a:lnTo>
                <a:close/>
              </a:path>
              <a:path fill="darkenLess" w="22917" h="21600">
                <a:moveTo>
                  <a:pt x="14035" y="6448"/>
                </a:moveTo>
                <a:lnTo>
                  <a:pt x="14035" y="4707"/>
                </a:lnTo>
                <a:lnTo>
                  <a:pt x="15810" y="4707"/>
                </a:lnTo>
                <a:lnTo>
                  <a:pt x="15810" y="8224"/>
                </a:lnTo>
                <a:close/>
              </a:path>
              <a:path fill="darkenLess" w="22917" h="21600">
                <a:moveTo>
                  <a:pt x="10536" y="14299"/>
                </a:moveTo>
                <a:lnTo>
                  <a:pt x="12381" y="14299"/>
                </a:lnTo>
                <a:lnTo>
                  <a:pt x="12381" y="17989"/>
                </a:lnTo>
                <a:lnTo>
                  <a:pt x="16768" y="17989"/>
                </a:lnTo>
                <a:lnTo>
                  <a:pt x="16768" y="10800"/>
                </a:lnTo>
                <a:lnTo>
                  <a:pt x="6149" y="10800"/>
                </a:lnTo>
                <a:lnTo>
                  <a:pt x="6149" y="17989"/>
                </a:lnTo>
                <a:lnTo>
                  <a:pt x="10536" y="17989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>
            <a:hlinkClick r:id="" action="ppaction://hlinkshowjump?jump=previousslide"/>
          </p:cNvPr>
          <p:cNvSpPr/>
          <p:nvPr/>
        </p:nvSpPr>
        <p:spPr>
          <a:xfrm>
            <a:off x="7380360" y="6315120"/>
            <a:ext cx="576360" cy="542880"/>
          </a:xfrm>
          <a:custGeom>
            <a:avLst/>
            <a:gdLst>
              <a:gd name="textAreaLeft" fmla="*/ 34920 w 576360"/>
              <a:gd name="textAreaRight" fmla="*/ 541440 w 57636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931" h="21600">
                <a:moveTo>
                  <a:pt x="0" y="0"/>
                </a:moveTo>
                <a:lnTo>
                  <a:pt x="22931" y="0"/>
                </a:lnTo>
                <a:lnTo>
                  <a:pt x="22931" y="21600"/>
                </a:lnTo>
                <a:lnTo>
                  <a:pt x="0" y="21600"/>
                </a:lnTo>
                <a:close/>
              </a:path>
              <a:path fill="lightenLess" w="22931" h="21600">
                <a:moveTo>
                  <a:pt x="0" y="0"/>
                </a:moveTo>
                <a:lnTo>
                  <a:pt x="22931" y="0"/>
                </a:lnTo>
                <a:lnTo>
                  <a:pt x="21531" y="1400"/>
                </a:lnTo>
                <a:lnTo>
                  <a:pt x="1400" y="1400"/>
                </a:lnTo>
                <a:close/>
              </a:path>
              <a:path fill="darken" w="22931" h="21600">
                <a:moveTo>
                  <a:pt x="22931" y="0"/>
                </a:moveTo>
                <a:lnTo>
                  <a:pt x="22931" y="21600"/>
                </a:lnTo>
                <a:lnTo>
                  <a:pt x="21531" y="20200"/>
                </a:lnTo>
                <a:lnTo>
                  <a:pt x="21531" y="1400"/>
                </a:lnTo>
                <a:close/>
              </a:path>
              <a:path fill="darkenLess" w="22931" h="21600">
                <a:moveTo>
                  <a:pt x="2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31" y="20200"/>
                </a:lnTo>
                <a:close/>
              </a:path>
              <a:path fill="lighten" w="2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31" h="21600">
                <a:moveTo>
                  <a:pt x="4459" y="7493"/>
                </a:moveTo>
                <a:lnTo>
                  <a:pt x="7967" y="7493"/>
                </a:lnTo>
                <a:lnTo>
                  <a:pt x="7967" y="12828"/>
                </a:lnTo>
                <a:cubicBezTo>
                  <a:pt x="7967" y="13751"/>
                  <a:pt x="8767" y="14482"/>
                  <a:pt x="9803" y="14482"/>
                </a:cubicBezTo>
                <a:lnTo>
                  <a:pt x="11466" y="14482"/>
                </a:lnTo>
                <a:cubicBezTo>
                  <a:pt x="12501" y="14482"/>
                  <a:pt x="13302" y="13751"/>
                  <a:pt x="13302" y="12828"/>
                </a:cubicBezTo>
                <a:lnTo>
                  <a:pt x="13302" y="7493"/>
                </a:lnTo>
                <a:lnTo>
                  <a:pt x="11466" y="7493"/>
                </a:lnTo>
                <a:lnTo>
                  <a:pt x="14973" y="3985"/>
                </a:lnTo>
                <a:lnTo>
                  <a:pt x="18646" y="7493"/>
                </a:lnTo>
                <a:lnTo>
                  <a:pt x="16810" y="7493"/>
                </a:lnTo>
                <a:lnTo>
                  <a:pt x="16810" y="12828"/>
                </a:lnTo>
                <a:cubicBezTo>
                  <a:pt x="16810" y="15596"/>
                  <a:pt x="14233" y="18155"/>
                  <a:pt x="11466" y="18155"/>
                </a:cubicBezTo>
                <a:lnTo>
                  <a:pt x="9803" y="18155"/>
                </a:lnTo>
                <a:cubicBezTo>
                  <a:pt x="7035" y="18155"/>
                  <a:pt x="4459" y="15596"/>
                  <a:pt x="4459" y="12828"/>
                </a:cubicBez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>
            <a:hlinkClick r:id="" action="ppaction://hlinkshowjump?jump=endshow"/>
          </p:cNvPr>
          <p:cNvSpPr/>
          <p:nvPr/>
        </p:nvSpPr>
        <p:spPr>
          <a:xfrm>
            <a:off x="8567640" y="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Wingdings 2"/>
                <a:ea typeface="Wingdings 2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7" dur="2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8" dur="2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7000"/>
                            </p:stCondLst>
                            <p:childTnLst>
                              <p:par>
                                <p:cTn id="17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000"/>
                            </p:stCondLst>
                            <p:childTnLst>
                              <p:par>
                                <p:cTn id="18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/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4" dur="2000"/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2000"/>
                                        <p:tgtEl>
                                          <p:spTgt spid="9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7000"/>
                            </p:stCondLst>
                            <p:childTnLst>
                              <p:par>
                                <p:cTn id="2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8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9" dur="2000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1000"/>
                            </p:stCondLst>
                            <p:childTnLst>
                              <p:par>
                                <p:cTn id="2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" dur="2000"/>
                                        <p:tgtEl>
                                          <p:spTgt spid="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3000"/>
                            </p:stCondLst>
                            <p:childTnLst>
                              <p:par>
                                <p:cTn id="2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7" dur="2000"/>
                                        <p:tgtEl>
                                          <p:spTgt spid="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5000"/>
                            </p:stCondLst>
                            <p:childTnLst>
                              <p:par>
                                <p:cTn id="2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2000"/>
                                        <p:tgtEl>
                                          <p:spTgt spid="9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7000"/>
                            </p:stCondLst>
                            <p:childTnLst>
                              <p:par>
                                <p:cTn id="2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1000"/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 txBox="1"/>
          <p:nvPr/>
        </p:nvSpPr>
        <p:spPr>
          <a:xfrm>
            <a:off x="3132000" y="189000"/>
            <a:ext cx="2451240" cy="14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ипид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H="1">
            <a:off x="2916000" y="836640"/>
            <a:ext cx="360360" cy="503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580000" y="836640"/>
            <a:ext cx="360360" cy="503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2195640" y="1413000"/>
            <a:ext cx="1266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Жи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2627280" y="2421000"/>
            <a:ext cx="3657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ирные кислот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2555640" y="2924280"/>
            <a:ext cx="360360" cy="503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084720" y="2924280"/>
            <a:ext cx="360360" cy="503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250920" y="3357720"/>
            <a:ext cx="2886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сыщенны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5508720" y="3357720"/>
            <a:ext cx="3390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насыщенны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476360" y="3860640"/>
            <a:ext cx="144360" cy="648000"/>
          </a:xfrm>
          <a:prstGeom prst="downArrow">
            <a:avLst>
              <a:gd name="adj1" fmla="val 50000"/>
              <a:gd name="adj2" fmla="val 112219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46341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020000" y="3860640"/>
            <a:ext cx="144360" cy="648000"/>
          </a:xfrm>
          <a:prstGeom prst="downArrow">
            <a:avLst>
              <a:gd name="adj1" fmla="val 50000"/>
              <a:gd name="adj2" fmla="val 112219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46341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01680" y="4575240"/>
            <a:ext cx="23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динарная связ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5076720" y="1413000"/>
            <a:ext cx="1924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ипои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5940360" y="458136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Двойная связ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>
            <a:hlinkClick r:id="" action="ppaction://hlinkshowjump?jump=nextslide"/>
          </p:cNvPr>
          <p:cNvSpPr/>
          <p:nvPr/>
        </p:nvSpPr>
        <p:spPr>
          <a:xfrm>
            <a:off x="849636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3794"/>
                </a:moveTo>
                <a:lnTo>
                  <a:pt x="19737" y="10800"/>
                </a:lnTo>
                <a:lnTo>
                  <a:pt x="5724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>
            <a:hlinkClick r:id="" action="ppaction://hlinkshowjump?jump=previousslide"/>
          </p:cNvPr>
          <p:cNvSpPr/>
          <p:nvPr/>
        </p:nvSpPr>
        <p:spPr>
          <a:xfrm>
            <a:off x="6659640" y="6327720"/>
            <a:ext cx="720720" cy="530280"/>
          </a:xfrm>
          <a:custGeom>
            <a:avLst/>
            <a:gdLst>
              <a:gd name="textAreaLeft" fmla="*/ 34200 w 720720"/>
              <a:gd name="textAreaRight" fmla="*/ 686520 w 720720"/>
              <a:gd name="textAreaTop" fmla="*/ 34200 h 530280"/>
              <a:gd name="textAreaBottom" fmla="*/ 496080 h 530280"/>
            </a:gdLst>
            <a:ahLst/>
            <a:rect l="textAreaLeft" t="textAreaTop" r="textAreaRight" b="textAreaBottom"/>
            <a:pathLst>
              <a:path w="29352" h="21600">
                <a:moveTo>
                  <a:pt x="0" y="0"/>
                </a:moveTo>
                <a:lnTo>
                  <a:pt x="29352" y="0"/>
                </a:lnTo>
                <a:lnTo>
                  <a:pt x="29352" y="21600"/>
                </a:lnTo>
                <a:lnTo>
                  <a:pt x="0" y="21600"/>
                </a:lnTo>
                <a:close/>
              </a:path>
              <a:path fill="lightenLess" w="29352" h="21600">
                <a:moveTo>
                  <a:pt x="0" y="0"/>
                </a:moveTo>
                <a:lnTo>
                  <a:pt x="29352" y="0"/>
                </a:lnTo>
                <a:lnTo>
                  <a:pt x="27952" y="1400"/>
                </a:lnTo>
                <a:lnTo>
                  <a:pt x="1400" y="1400"/>
                </a:lnTo>
                <a:close/>
              </a:path>
              <a:path fill="darken" w="29352" h="21600">
                <a:moveTo>
                  <a:pt x="29352" y="0"/>
                </a:moveTo>
                <a:lnTo>
                  <a:pt x="29352" y="21600"/>
                </a:lnTo>
                <a:lnTo>
                  <a:pt x="27952" y="20200"/>
                </a:lnTo>
                <a:lnTo>
                  <a:pt x="27952" y="1400"/>
                </a:lnTo>
                <a:close/>
              </a:path>
              <a:path fill="darkenLess" w="29352" h="21600">
                <a:moveTo>
                  <a:pt x="29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52" y="20200"/>
                </a:lnTo>
                <a:close/>
              </a:path>
              <a:path fill="lighten" w="29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52" h="21600">
                <a:moveTo>
                  <a:pt x="7670" y="10800"/>
                </a:moveTo>
                <a:lnTo>
                  <a:pt x="21682" y="3794"/>
                </a:lnTo>
                <a:lnTo>
                  <a:pt x="21682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>
            <a:hlinkClick r:id="" action="ppaction://hlinkshowjump?jump=firstslide"/>
          </p:cNvPr>
          <p:cNvSpPr/>
          <p:nvPr/>
        </p:nvSpPr>
        <p:spPr>
          <a:xfrm>
            <a:off x="7956720" y="6315120"/>
            <a:ext cx="576000" cy="542880"/>
          </a:xfrm>
          <a:custGeom>
            <a:avLst/>
            <a:gdLst>
              <a:gd name="textAreaLeft" fmla="*/ 34920 w 576000"/>
              <a:gd name="textAreaRight" fmla="*/ 541080 w 57600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917" h="21600">
                <a:moveTo>
                  <a:pt x="0" y="0"/>
                </a:moveTo>
                <a:lnTo>
                  <a:pt x="22917" y="0"/>
                </a:lnTo>
                <a:lnTo>
                  <a:pt x="22917" y="21600"/>
                </a:lnTo>
                <a:lnTo>
                  <a:pt x="0" y="21600"/>
                </a:lnTo>
                <a:close/>
              </a:path>
              <a:path fill="lightenLess" w="22917" h="21600">
                <a:moveTo>
                  <a:pt x="0" y="0"/>
                </a:moveTo>
                <a:lnTo>
                  <a:pt x="22917" y="0"/>
                </a:lnTo>
                <a:lnTo>
                  <a:pt x="21517" y="1400"/>
                </a:lnTo>
                <a:lnTo>
                  <a:pt x="1400" y="1400"/>
                </a:lnTo>
                <a:close/>
              </a:path>
              <a:path fill="darken" w="22917" h="21600">
                <a:moveTo>
                  <a:pt x="22917" y="0"/>
                </a:moveTo>
                <a:lnTo>
                  <a:pt x="22917" y="21600"/>
                </a:lnTo>
                <a:lnTo>
                  <a:pt x="21517" y="20200"/>
                </a:lnTo>
                <a:lnTo>
                  <a:pt x="21517" y="1400"/>
                </a:lnTo>
                <a:close/>
              </a:path>
              <a:path fill="darkenLess" w="22917" h="21600">
                <a:moveTo>
                  <a:pt x="22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17" y="20200"/>
                </a:lnTo>
                <a:close/>
              </a:path>
              <a:path fill="lighten" w="22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17" h="21600">
                <a:moveTo>
                  <a:pt x="11458" y="3837"/>
                </a:moveTo>
                <a:lnTo>
                  <a:pt x="14035" y="6448"/>
                </a:lnTo>
                <a:lnTo>
                  <a:pt x="14035" y="4707"/>
                </a:lnTo>
                <a:lnTo>
                  <a:pt x="15810" y="4707"/>
                </a:lnTo>
                <a:lnTo>
                  <a:pt x="15810" y="8224"/>
                </a:lnTo>
                <a:lnTo>
                  <a:pt x="18421" y="10800"/>
                </a:lnTo>
                <a:lnTo>
                  <a:pt x="16768" y="10800"/>
                </a:lnTo>
                <a:lnTo>
                  <a:pt x="16768" y="17989"/>
                </a:lnTo>
                <a:lnTo>
                  <a:pt x="6149" y="17989"/>
                </a:lnTo>
                <a:lnTo>
                  <a:pt x="6149" y="10800"/>
                </a:lnTo>
                <a:lnTo>
                  <a:pt x="4495" y="10800"/>
                </a:lnTo>
                <a:close/>
              </a:path>
              <a:path fill="darkenLess" w="22917" h="21600">
                <a:moveTo>
                  <a:pt x="14035" y="6448"/>
                </a:moveTo>
                <a:lnTo>
                  <a:pt x="14035" y="4707"/>
                </a:lnTo>
                <a:lnTo>
                  <a:pt x="15810" y="4707"/>
                </a:lnTo>
                <a:lnTo>
                  <a:pt x="15810" y="8224"/>
                </a:lnTo>
                <a:close/>
              </a:path>
              <a:path fill="darkenLess" w="22917" h="21600">
                <a:moveTo>
                  <a:pt x="10536" y="14299"/>
                </a:moveTo>
                <a:lnTo>
                  <a:pt x="12381" y="14299"/>
                </a:lnTo>
                <a:lnTo>
                  <a:pt x="12381" y="17989"/>
                </a:lnTo>
                <a:lnTo>
                  <a:pt x="16768" y="17989"/>
                </a:lnTo>
                <a:lnTo>
                  <a:pt x="16768" y="10800"/>
                </a:lnTo>
                <a:lnTo>
                  <a:pt x="6149" y="10800"/>
                </a:lnTo>
                <a:lnTo>
                  <a:pt x="6149" y="17989"/>
                </a:lnTo>
                <a:lnTo>
                  <a:pt x="10536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>
            <a:hlinkClick r:id="" action="ppaction://hlinkshowjump?jump=previousslide"/>
          </p:cNvPr>
          <p:cNvSpPr/>
          <p:nvPr/>
        </p:nvSpPr>
        <p:spPr>
          <a:xfrm>
            <a:off x="7380360" y="6315120"/>
            <a:ext cx="576360" cy="542880"/>
          </a:xfrm>
          <a:custGeom>
            <a:avLst/>
            <a:gdLst>
              <a:gd name="textAreaLeft" fmla="*/ 34920 w 576360"/>
              <a:gd name="textAreaRight" fmla="*/ 541440 w 57636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931" h="21600">
                <a:moveTo>
                  <a:pt x="0" y="0"/>
                </a:moveTo>
                <a:lnTo>
                  <a:pt x="22931" y="0"/>
                </a:lnTo>
                <a:lnTo>
                  <a:pt x="22931" y="21600"/>
                </a:lnTo>
                <a:lnTo>
                  <a:pt x="0" y="21600"/>
                </a:lnTo>
                <a:close/>
              </a:path>
              <a:path fill="lightenLess" w="22931" h="21600">
                <a:moveTo>
                  <a:pt x="0" y="0"/>
                </a:moveTo>
                <a:lnTo>
                  <a:pt x="22931" y="0"/>
                </a:lnTo>
                <a:lnTo>
                  <a:pt x="21531" y="1400"/>
                </a:lnTo>
                <a:lnTo>
                  <a:pt x="1400" y="1400"/>
                </a:lnTo>
                <a:close/>
              </a:path>
              <a:path fill="darken" w="22931" h="21600">
                <a:moveTo>
                  <a:pt x="22931" y="0"/>
                </a:moveTo>
                <a:lnTo>
                  <a:pt x="22931" y="21600"/>
                </a:lnTo>
                <a:lnTo>
                  <a:pt x="21531" y="20200"/>
                </a:lnTo>
                <a:lnTo>
                  <a:pt x="21531" y="1400"/>
                </a:lnTo>
                <a:close/>
              </a:path>
              <a:path fill="darkenLess" w="22931" h="21600">
                <a:moveTo>
                  <a:pt x="2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31" y="20200"/>
                </a:lnTo>
                <a:close/>
              </a:path>
              <a:path fill="lighten" w="2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31" h="21600">
                <a:moveTo>
                  <a:pt x="4459" y="7493"/>
                </a:moveTo>
                <a:lnTo>
                  <a:pt x="7967" y="7493"/>
                </a:lnTo>
                <a:lnTo>
                  <a:pt x="7967" y="12828"/>
                </a:lnTo>
                <a:cubicBezTo>
                  <a:pt x="7967" y="13751"/>
                  <a:pt x="8767" y="14482"/>
                  <a:pt x="9803" y="14482"/>
                </a:cubicBezTo>
                <a:lnTo>
                  <a:pt x="11466" y="14482"/>
                </a:lnTo>
                <a:cubicBezTo>
                  <a:pt x="12501" y="14482"/>
                  <a:pt x="13302" y="13751"/>
                  <a:pt x="13302" y="12828"/>
                </a:cubicBezTo>
                <a:lnTo>
                  <a:pt x="13302" y="7493"/>
                </a:lnTo>
                <a:lnTo>
                  <a:pt x="11466" y="7493"/>
                </a:lnTo>
                <a:lnTo>
                  <a:pt x="14973" y="3985"/>
                </a:lnTo>
                <a:lnTo>
                  <a:pt x="18646" y="7493"/>
                </a:lnTo>
                <a:lnTo>
                  <a:pt x="16810" y="7493"/>
                </a:lnTo>
                <a:lnTo>
                  <a:pt x="16810" y="12828"/>
                </a:lnTo>
                <a:cubicBezTo>
                  <a:pt x="16810" y="15596"/>
                  <a:pt x="14233" y="18155"/>
                  <a:pt x="11466" y="18155"/>
                </a:cubicBezTo>
                <a:lnTo>
                  <a:pt x="9803" y="18155"/>
                </a:lnTo>
                <a:cubicBezTo>
                  <a:pt x="7035" y="18155"/>
                  <a:pt x="4459" y="15596"/>
                  <a:pt x="4459" y="12828"/>
                </a:cubicBez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4430520" y="1916280"/>
            <a:ext cx="33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жироподобные вещества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>
            <a:hlinkClick r:id="" action="ppaction://hlinkshowjump?jump=endshow"/>
          </p:cNvPr>
          <p:cNvSpPr/>
          <p:nvPr/>
        </p:nvSpPr>
        <p:spPr>
          <a:xfrm>
            <a:off x="8567640" y="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Wingdings 2"/>
                <a:ea typeface="Wingdings 2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3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8000"/>
                            </p:stCondLst>
                            <p:childTnLst>
                              <p:par>
                                <p:cTn id="24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1" dur="2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8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4500"/>
                            </p:stCondLst>
                            <p:childTnLst>
                              <p:par>
                                <p:cTn id="2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65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8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8500"/>
                            </p:stCondLst>
                            <p:childTnLst>
                              <p:par>
                                <p:cTn id="28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500"/>
                            </p:stCondLst>
                            <p:childTnLst>
                              <p:par>
                                <p:cTn id="29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2500"/>
                            </p:stCondLst>
                            <p:childTnLst>
                              <p:par>
                                <p:cTn id="2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4500"/>
                            </p:stCondLst>
                            <p:childTnLst>
                              <p:par>
                                <p:cTn id="3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6500"/>
                            </p:stCondLst>
                            <p:childTnLst>
                              <p:par>
                                <p:cTn id="3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2000"/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99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 txBox="1"/>
          <p:nvPr/>
        </p:nvSpPr>
        <p:spPr>
          <a:xfrm>
            <a:off x="3708360" y="189000"/>
            <a:ext cx="166068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лк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643280" y="765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5435640" y="76500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3348000" y="765000"/>
            <a:ext cx="43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763640" y="1413000"/>
            <a:ext cx="208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Карбокси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СОО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3853080" y="1413000"/>
            <a:ext cx="1977480" cy="726480"/>
            <a:chOff x="3853080" y="1413000"/>
            <a:chExt cx="1977480" cy="726480"/>
          </a:xfrm>
        </p:grpSpPr>
        <p:sp>
          <p:nvSpPr>
            <p:cNvPr id="991" name=""/>
            <p:cNvSpPr/>
            <p:nvPr/>
          </p:nvSpPr>
          <p:spPr>
            <a:xfrm>
              <a:off x="3853080" y="1413000"/>
              <a:ext cx="197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Аминно-групп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2" name=""/>
                <p:cNvSpPr txBox="1"/>
                <p:nvPr/>
              </p:nvSpPr>
              <p:spPr>
                <a:xfrm>
                  <a:off x="4356000" y="1773000"/>
                  <a:ext cx="81612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NH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93" name=""/>
          <p:cNvSpPr/>
          <p:nvPr/>
        </p:nvSpPr>
        <p:spPr>
          <a:xfrm>
            <a:off x="5798520" y="141300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Радик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3924360" y="2421000"/>
            <a:ext cx="1285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latin typeface="Arial"/>
              </a:rPr>
              <a:t>Белк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3347640" y="2997360"/>
            <a:ext cx="576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5292720" y="2997360"/>
            <a:ext cx="50328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2556360" y="3500280"/>
            <a:ext cx="13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ст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5220720" y="3500280"/>
            <a:ext cx="137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лож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203640" y="3860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940360" y="3860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485800" y="422100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Проте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5365440" y="42210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Проте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3203640" y="4581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940360" y="4581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466720" y="496080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льбум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обул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ист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5274360" y="4960800"/>
            <a:ext cx="21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сфопроте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икопрте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ромопроте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>
            <a:hlinkClick r:id="" action="ppaction://hlinkshowjump?jump=nextslide"/>
          </p:cNvPr>
          <p:cNvSpPr/>
          <p:nvPr/>
        </p:nvSpPr>
        <p:spPr>
          <a:xfrm>
            <a:off x="849636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3794"/>
                </a:moveTo>
                <a:lnTo>
                  <a:pt x="19737" y="10800"/>
                </a:lnTo>
                <a:lnTo>
                  <a:pt x="572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>
            <a:hlinkClick r:id="" action="ppaction://hlinkshowjump?jump=previousslide"/>
          </p:cNvPr>
          <p:cNvSpPr/>
          <p:nvPr/>
        </p:nvSpPr>
        <p:spPr>
          <a:xfrm>
            <a:off x="6659640" y="6327720"/>
            <a:ext cx="720720" cy="530280"/>
          </a:xfrm>
          <a:custGeom>
            <a:avLst/>
            <a:gdLst>
              <a:gd name="textAreaLeft" fmla="*/ 34200 w 720720"/>
              <a:gd name="textAreaRight" fmla="*/ 686520 w 720720"/>
              <a:gd name="textAreaTop" fmla="*/ 34200 h 530280"/>
              <a:gd name="textAreaBottom" fmla="*/ 496080 h 530280"/>
            </a:gdLst>
            <a:ahLst/>
            <a:rect l="textAreaLeft" t="textAreaTop" r="textAreaRight" b="textAreaBottom"/>
            <a:pathLst>
              <a:path w="29352" h="21600">
                <a:moveTo>
                  <a:pt x="0" y="0"/>
                </a:moveTo>
                <a:lnTo>
                  <a:pt x="29352" y="0"/>
                </a:lnTo>
                <a:lnTo>
                  <a:pt x="29352" y="21600"/>
                </a:lnTo>
                <a:lnTo>
                  <a:pt x="0" y="21600"/>
                </a:lnTo>
                <a:close/>
              </a:path>
              <a:path fill="lightenLess" w="29352" h="21600">
                <a:moveTo>
                  <a:pt x="0" y="0"/>
                </a:moveTo>
                <a:lnTo>
                  <a:pt x="29352" y="0"/>
                </a:lnTo>
                <a:lnTo>
                  <a:pt x="27952" y="1400"/>
                </a:lnTo>
                <a:lnTo>
                  <a:pt x="1400" y="1400"/>
                </a:lnTo>
                <a:close/>
              </a:path>
              <a:path fill="darken" w="29352" h="21600">
                <a:moveTo>
                  <a:pt x="29352" y="0"/>
                </a:moveTo>
                <a:lnTo>
                  <a:pt x="29352" y="21600"/>
                </a:lnTo>
                <a:lnTo>
                  <a:pt x="27952" y="20200"/>
                </a:lnTo>
                <a:lnTo>
                  <a:pt x="27952" y="1400"/>
                </a:lnTo>
                <a:close/>
              </a:path>
              <a:path fill="darkenLess" w="29352" h="21600">
                <a:moveTo>
                  <a:pt x="29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52" y="20200"/>
                </a:lnTo>
                <a:close/>
              </a:path>
              <a:path fill="lighten" w="29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52" h="21600">
                <a:moveTo>
                  <a:pt x="7670" y="10800"/>
                </a:moveTo>
                <a:lnTo>
                  <a:pt x="21682" y="3794"/>
                </a:lnTo>
                <a:lnTo>
                  <a:pt x="2168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>
            <a:hlinkClick r:id="" action="ppaction://hlinkshowjump?jump=firstslide"/>
          </p:cNvPr>
          <p:cNvSpPr/>
          <p:nvPr/>
        </p:nvSpPr>
        <p:spPr>
          <a:xfrm>
            <a:off x="7956720" y="6315120"/>
            <a:ext cx="576000" cy="542880"/>
          </a:xfrm>
          <a:custGeom>
            <a:avLst/>
            <a:gdLst>
              <a:gd name="textAreaLeft" fmla="*/ 34920 w 576000"/>
              <a:gd name="textAreaRight" fmla="*/ 541080 w 57600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917" h="21600">
                <a:moveTo>
                  <a:pt x="0" y="0"/>
                </a:moveTo>
                <a:lnTo>
                  <a:pt x="22917" y="0"/>
                </a:lnTo>
                <a:lnTo>
                  <a:pt x="22917" y="21600"/>
                </a:lnTo>
                <a:lnTo>
                  <a:pt x="0" y="21600"/>
                </a:lnTo>
                <a:close/>
              </a:path>
              <a:path fill="lightenLess" w="22917" h="21600">
                <a:moveTo>
                  <a:pt x="0" y="0"/>
                </a:moveTo>
                <a:lnTo>
                  <a:pt x="22917" y="0"/>
                </a:lnTo>
                <a:lnTo>
                  <a:pt x="21517" y="1400"/>
                </a:lnTo>
                <a:lnTo>
                  <a:pt x="1400" y="1400"/>
                </a:lnTo>
                <a:close/>
              </a:path>
              <a:path fill="darken" w="22917" h="21600">
                <a:moveTo>
                  <a:pt x="22917" y="0"/>
                </a:moveTo>
                <a:lnTo>
                  <a:pt x="22917" y="21600"/>
                </a:lnTo>
                <a:lnTo>
                  <a:pt x="21517" y="20200"/>
                </a:lnTo>
                <a:lnTo>
                  <a:pt x="21517" y="1400"/>
                </a:lnTo>
                <a:close/>
              </a:path>
              <a:path fill="darkenLess" w="22917" h="21600">
                <a:moveTo>
                  <a:pt x="22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17" y="20200"/>
                </a:lnTo>
                <a:close/>
              </a:path>
              <a:path fill="lighten" w="22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17" h="21600">
                <a:moveTo>
                  <a:pt x="11458" y="3837"/>
                </a:moveTo>
                <a:lnTo>
                  <a:pt x="14035" y="6448"/>
                </a:lnTo>
                <a:lnTo>
                  <a:pt x="14035" y="4707"/>
                </a:lnTo>
                <a:lnTo>
                  <a:pt x="15810" y="4707"/>
                </a:lnTo>
                <a:lnTo>
                  <a:pt x="15810" y="8224"/>
                </a:lnTo>
                <a:lnTo>
                  <a:pt x="18421" y="10800"/>
                </a:lnTo>
                <a:lnTo>
                  <a:pt x="16768" y="10800"/>
                </a:lnTo>
                <a:lnTo>
                  <a:pt x="16768" y="17989"/>
                </a:lnTo>
                <a:lnTo>
                  <a:pt x="6149" y="17989"/>
                </a:lnTo>
                <a:lnTo>
                  <a:pt x="6149" y="10800"/>
                </a:lnTo>
                <a:lnTo>
                  <a:pt x="4495" y="10800"/>
                </a:lnTo>
                <a:close/>
              </a:path>
              <a:path fill="darkenLess" w="22917" h="21600">
                <a:moveTo>
                  <a:pt x="14035" y="6448"/>
                </a:moveTo>
                <a:lnTo>
                  <a:pt x="14035" y="4707"/>
                </a:lnTo>
                <a:lnTo>
                  <a:pt x="15810" y="4707"/>
                </a:lnTo>
                <a:lnTo>
                  <a:pt x="15810" y="8224"/>
                </a:lnTo>
                <a:close/>
              </a:path>
              <a:path fill="darkenLess" w="22917" h="21600">
                <a:moveTo>
                  <a:pt x="10536" y="14299"/>
                </a:moveTo>
                <a:lnTo>
                  <a:pt x="12381" y="14299"/>
                </a:lnTo>
                <a:lnTo>
                  <a:pt x="12381" y="17989"/>
                </a:lnTo>
                <a:lnTo>
                  <a:pt x="16768" y="17989"/>
                </a:lnTo>
                <a:lnTo>
                  <a:pt x="16768" y="10800"/>
                </a:lnTo>
                <a:lnTo>
                  <a:pt x="6149" y="10800"/>
                </a:lnTo>
                <a:lnTo>
                  <a:pt x="6149" y="17989"/>
                </a:lnTo>
                <a:lnTo>
                  <a:pt x="10536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>
            <a:hlinkClick r:id="" action="ppaction://hlinkshowjump?jump=previousslide"/>
          </p:cNvPr>
          <p:cNvSpPr/>
          <p:nvPr/>
        </p:nvSpPr>
        <p:spPr>
          <a:xfrm>
            <a:off x="7380360" y="6315120"/>
            <a:ext cx="576360" cy="542880"/>
          </a:xfrm>
          <a:custGeom>
            <a:avLst/>
            <a:gdLst>
              <a:gd name="textAreaLeft" fmla="*/ 34920 w 576360"/>
              <a:gd name="textAreaRight" fmla="*/ 541440 w 57636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931" h="21600">
                <a:moveTo>
                  <a:pt x="0" y="0"/>
                </a:moveTo>
                <a:lnTo>
                  <a:pt x="22931" y="0"/>
                </a:lnTo>
                <a:lnTo>
                  <a:pt x="22931" y="21600"/>
                </a:lnTo>
                <a:lnTo>
                  <a:pt x="0" y="21600"/>
                </a:lnTo>
                <a:close/>
              </a:path>
              <a:path fill="lightenLess" w="22931" h="21600">
                <a:moveTo>
                  <a:pt x="0" y="0"/>
                </a:moveTo>
                <a:lnTo>
                  <a:pt x="22931" y="0"/>
                </a:lnTo>
                <a:lnTo>
                  <a:pt x="21531" y="1400"/>
                </a:lnTo>
                <a:lnTo>
                  <a:pt x="1400" y="1400"/>
                </a:lnTo>
                <a:close/>
              </a:path>
              <a:path fill="darken" w="22931" h="21600">
                <a:moveTo>
                  <a:pt x="22931" y="0"/>
                </a:moveTo>
                <a:lnTo>
                  <a:pt x="22931" y="21600"/>
                </a:lnTo>
                <a:lnTo>
                  <a:pt x="21531" y="20200"/>
                </a:lnTo>
                <a:lnTo>
                  <a:pt x="21531" y="1400"/>
                </a:lnTo>
                <a:close/>
              </a:path>
              <a:path fill="darkenLess" w="22931" h="21600">
                <a:moveTo>
                  <a:pt x="2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31" y="20200"/>
                </a:lnTo>
                <a:close/>
              </a:path>
              <a:path fill="lighten" w="2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31" h="21600">
                <a:moveTo>
                  <a:pt x="4459" y="7493"/>
                </a:moveTo>
                <a:lnTo>
                  <a:pt x="7967" y="7493"/>
                </a:lnTo>
                <a:lnTo>
                  <a:pt x="7967" y="12828"/>
                </a:lnTo>
                <a:cubicBezTo>
                  <a:pt x="7967" y="13751"/>
                  <a:pt x="8767" y="14482"/>
                  <a:pt x="9803" y="14482"/>
                </a:cubicBezTo>
                <a:lnTo>
                  <a:pt x="11466" y="14482"/>
                </a:lnTo>
                <a:cubicBezTo>
                  <a:pt x="12501" y="14482"/>
                  <a:pt x="13302" y="13751"/>
                  <a:pt x="13302" y="12828"/>
                </a:cubicBezTo>
                <a:lnTo>
                  <a:pt x="13302" y="7493"/>
                </a:lnTo>
                <a:lnTo>
                  <a:pt x="11466" y="7493"/>
                </a:lnTo>
                <a:lnTo>
                  <a:pt x="14973" y="3985"/>
                </a:lnTo>
                <a:lnTo>
                  <a:pt x="18646" y="7493"/>
                </a:lnTo>
                <a:lnTo>
                  <a:pt x="16810" y="7493"/>
                </a:lnTo>
                <a:lnTo>
                  <a:pt x="16810" y="12828"/>
                </a:lnTo>
                <a:cubicBezTo>
                  <a:pt x="16810" y="15596"/>
                  <a:pt x="14233" y="18155"/>
                  <a:pt x="11466" y="18155"/>
                </a:cubicBezTo>
                <a:lnTo>
                  <a:pt x="9803" y="18155"/>
                </a:lnTo>
                <a:cubicBezTo>
                  <a:pt x="7035" y="18155"/>
                  <a:pt x="4459" y="15596"/>
                  <a:pt x="4459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>
            <a:hlinkClick r:id="" action="ppaction://hlinkshowjump?jump=endshow"/>
          </p:cNvPr>
          <p:cNvSpPr/>
          <p:nvPr/>
        </p:nvSpPr>
        <p:spPr>
          <a:xfrm>
            <a:off x="8567640" y="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Wingdings 2"/>
                <a:ea typeface="Wingdings 2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4000"/>
                            </p:stCondLst>
                            <p:childTnLst>
                              <p:par>
                                <p:cTn id="32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1" dur="2000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5" dur="2000"/>
                                        <p:tgtEl>
                                          <p:spTgt spid="9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6" dur="2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5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7" dur="2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6000"/>
                            </p:stCondLst>
                            <p:childTnLst>
                              <p:par>
                                <p:cTn id="35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8000"/>
                            </p:stCondLst>
                            <p:childTnLst>
                              <p:par>
                                <p:cTn id="3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8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2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2000"/>
                            </p:stCondLst>
                            <p:childTnLst>
                              <p:par>
                                <p:cTn id="3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8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4000"/>
                            </p:stCondLst>
                            <p:childTnLst>
                              <p:par>
                                <p:cTn id="3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4500"/>
                            </p:stCondLst>
                            <p:childTnLst>
                              <p:par>
                                <p:cTn id="3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6500"/>
                            </p:stCondLst>
                            <p:childTnLst>
                              <p:par>
                                <p:cTn id="39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8500"/>
                            </p:stCondLst>
                            <p:childTnLst>
                              <p:par>
                                <p:cTn id="4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30500"/>
                            </p:stCondLst>
                            <p:childTnLst>
                              <p:par>
                                <p:cTn id="40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2500"/>
                            </p:stCondLst>
                            <p:childTnLst>
                              <p:par>
                                <p:cTn id="4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33500"/>
                            </p:stCondLst>
                            <p:childTnLst>
                              <p:par>
                                <p:cTn id="4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800" fill="hold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800" fill="hold"/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800" fill="hold"/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5500"/>
                            </p:stCondLst>
                            <p:childTnLst>
                              <p:par>
                                <p:cTn id="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6500"/>
                            </p:stCondLst>
                            <p:childTnLst>
                              <p:par>
                                <p:cTn id="4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900" fill="hold"/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37500"/>
                            </p:stCondLst>
                            <p:childTnLst>
                              <p:par>
                                <p:cTn id="4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900" fill="hold"/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38500"/>
                            </p:stCondLst>
                            <p:childTnLst>
                              <p:par>
                                <p:cTn id="4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900" fill="hold"/>
                                        <p:tgtEl>
                                          <p:spTgt spid="1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99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 txBox="1"/>
          <p:nvPr/>
        </p:nvSpPr>
        <p:spPr>
          <a:xfrm>
            <a:off x="1116000" y="1844640"/>
            <a:ext cx="633744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Коне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sp>
        <p:nvSpPr>
          <p:cNvPr id="1013" name="">
            <a:hlinkClick r:id="" action="ppaction://hlinkshowjump?jump=previousslide"/>
          </p:cNvPr>
          <p:cNvSpPr/>
          <p:nvPr/>
        </p:nvSpPr>
        <p:spPr>
          <a:xfrm>
            <a:off x="7308720" y="6327720"/>
            <a:ext cx="720720" cy="530280"/>
          </a:xfrm>
          <a:custGeom>
            <a:avLst/>
            <a:gdLst>
              <a:gd name="textAreaLeft" fmla="*/ 34200 w 720720"/>
              <a:gd name="textAreaRight" fmla="*/ 686520 w 720720"/>
              <a:gd name="textAreaTop" fmla="*/ 34200 h 530280"/>
              <a:gd name="textAreaBottom" fmla="*/ 496080 h 530280"/>
            </a:gdLst>
            <a:ahLst/>
            <a:rect l="textAreaLeft" t="textAreaTop" r="textAreaRight" b="textAreaBottom"/>
            <a:pathLst>
              <a:path w="29352" h="21600">
                <a:moveTo>
                  <a:pt x="0" y="0"/>
                </a:moveTo>
                <a:lnTo>
                  <a:pt x="29352" y="0"/>
                </a:lnTo>
                <a:lnTo>
                  <a:pt x="29352" y="21600"/>
                </a:lnTo>
                <a:lnTo>
                  <a:pt x="0" y="21600"/>
                </a:lnTo>
                <a:close/>
              </a:path>
              <a:path fill="lightenLess" w="29352" h="21600">
                <a:moveTo>
                  <a:pt x="0" y="0"/>
                </a:moveTo>
                <a:lnTo>
                  <a:pt x="29352" y="0"/>
                </a:lnTo>
                <a:lnTo>
                  <a:pt x="27952" y="1400"/>
                </a:lnTo>
                <a:lnTo>
                  <a:pt x="1400" y="1400"/>
                </a:lnTo>
                <a:close/>
              </a:path>
              <a:path fill="darken" w="29352" h="21600">
                <a:moveTo>
                  <a:pt x="29352" y="0"/>
                </a:moveTo>
                <a:lnTo>
                  <a:pt x="29352" y="21600"/>
                </a:lnTo>
                <a:lnTo>
                  <a:pt x="27952" y="20200"/>
                </a:lnTo>
                <a:lnTo>
                  <a:pt x="27952" y="1400"/>
                </a:lnTo>
                <a:close/>
              </a:path>
              <a:path fill="darkenLess" w="29352" h="21600">
                <a:moveTo>
                  <a:pt x="29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52" y="20200"/>
                </a:lnTo>
                <a:close/>
              </a:path>
              <a:path fill="lighten" w="29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52" h="21600">
                <a:moveTo>
                  <a:pt x="7670" y="10800"/>
                </a:moveTo>
                <a:lnTo>
                  <a:pt x="21682" y="3794"/>
                </a:lnTo>
                <a:lnTo>
                  <a:pt x="21682" y="17806"/>
                </a:ln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>
            <a:hlinkClick r:id="" action="ppaction://hlinkshowjump?jump=firstslide"/>
          </p:cNvPr>
          <p:cNvSpPr/>
          <p:nvPr/>
        </p:nvSpPr>
        <p:spPr>
          <a:xfrm>
            <a:off x="8567640" y="6315120"/>
            <a:ext cx="576360" cy="542880"/>
          </a:xfrm>
          <a:custGeom>
            <a:avLst/>
            <a:gdLst>
              <a:gd name="textAreaLeft" fmla="*/ 34920 w 576360"/>
              <a:gd name="textAreaRight" fmla="*/ 541440 w 57636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931" h="21600">
                <a:moveTo>
                  <a:pt x="0" y="0"/>
                </a:moveTo>
                <a:lnTo>
                  <a:pt x="22931" y="0"/>
                </a:lnTo>
                <a:lnTo>
                  <a:pt x="22931" y="21600"/>
                </a:lnTo>
                <a:lnTo>
                  <a:pt x="0" y="21600"/>
                </a:lnTo>
                <a:close/>
              </a:path>
              <a:path fill="lightenLess" w="22931" h="21600">
                <a:moveTo>
                  <a:pt x="0" y="0"/>
                </a:moveTo>
                <a:lnTo>
                  <a:pt x="22931" y="0"/>
                </a:lnTo>
                <a:lnTo>
                  <a:pt x="21531" y="1400"/>
                </a:lnTo>
                <a:lnTo>
                  <a:pt x="1400" y="1400"/>
                </a:lnTo>
                <a:close/>
              </a:path>
              <a:path fill="darken" w="22931" h="21600">
                <a:moveTo>
                  <a:pt x="22931" y="0"/>
                </a:moveTo>
                <a:lnTo>
                  <a:pt x="22931" y="21600"/>
                </a:lnTo>
                <a:lnTo>
                  <a:pt x="21531" y="20200"/>
                </a:lnTo>
                <a:lnTo>
                  <a:pt x="21531" y="1400"/>
                </a:lnTo>
                <a:close/>
              </a:path>
              <a:path fill="darkenLess" w="22931" h="21600">
                <a:moveTo>
                  <a:pt x="2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31" y="20200"/>
                </a:lnTo>
                <a:close/>
              </a:path>
              <a:path fill="lighten" w="2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31" h="21600">
                <a:moveTo>
                  <a:pt x="11466" y="3837"/>
                </a:moveTo>
                <a:lnTo>
                  <a:pt x="14042" y="6448"/>
                </a:lnTo>
                <a:lnTo>
                  <a:pt x="14042" y="4707"/>
                </a:lnTo>
                <a:lnTo>
                  <a:pt x="15817" y="4707"/>
                </a:lnTo>
                <a:lnTo>
                  <a:pt x="15817" y="8224"/>
                </a:lnTo>
                <a:lnTo>
                  <a:pt x="18429" y="10800"/>
                </a:lnTo>
                <a:lnTo>
                  <a:pt x="16775" y="10800"/>
                </a:lnTo>
                <a:lnTo>
                  <a:pt x="16775" y="17989"/>
                </a:lnTo>
                <a:lnTo>
                  <a:pt x="6156" y="17989"/>
                </a:lnTo>
                <a:lnTo>
                  <a:pt x="6156" y="10800"/>
                </a:lnTo>
                <a:lnTo>
                  <a:pt x="4503" y="10800"/>
                </a:lnTo>
                <a:close/>
              </a:path>
              <a:path fill="darkenLess" w="22931" h="21600">
                <a:moveTo>
                  <a:pt x="14042" y="6448"/>
                </a:moveTo>
                <a:lnTo>
                  <a:pt x="14042" y="4707"/>
                </a:lnTo>
                <a:lnTo>
                  <a:pt x="15817" y="4707"/>
                </a:lnTo>
                <a:lnTo>
                  <a:pt x="15817" y="8224"/>
                </a:lnTo>
                <a:close/>
              </a:path>
              <a:path fill="darkenLess" w="22931" h="21600">
                <a:moveTo>
                  <a:pt x="10543" y="14299"/>
                </a:moveTo>
                <a:lnTo>
                  <a:pt x="12388" y="14299"/>
                </a:lnTo>
                <a:lnTo>
                  <a:pt x="12388" y="17989"/>
                </a:lnTo>
                <a:lnTo>
                  <a:pt x="16775" y="17989"/>
                </a:lnTo>
                <a:lnTo>
                  <a:pt x="16775" y="10800"/>
                </a:lnTo>
                <a:lnTo>
                  <a:pt x="6156" y="10800"/>
                </a:lnTo>
                <a:lnTo>
                  <a:pt x="6156" y="17989"/>
                </a:lnTo>
                <a:lnTo>
                  <a:pt x="10543" y="17989"/>
                </a:ln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>
            <a:hlinkClick r:id="" action="ppaction://hlinkshowjump?jump=previousslide"/>
          </p:cNvPr>
          <p:cNvSpPr/>
          <p:nvPr/>
        </p:nvSpPr>
        <p:spPr>
          <a:xfrm>
            <a:off x="8028000" y="6315120"/>
            <a:ext cx="576360" cy="542880"/>
          </a:xfrm>
          <a:custGeom>
            <a:avLst/>
            <a:gdLst>
              <a:gd name="textAreaLeft" fmla="*/ 34920 w 576360"/>
              <a:gd name="textAreaRight" fmla="*/ 541440 w 576360"/>
              <a:gd name="textAreaTop" fmla="*/ 34920 h 542880"/>
              <a:gd name="textAreaBottom" fmla="*/ 507960 h 542880"/>
            </a:gdLst>
            <a:ahLst/>
            <a:rect l="textAreaLeft" t="textAreaTop" r="textAreaRight" b="textAreaBottom"/>
            <a:pathLst>
              <a:path w="22931" h="21600">
                <a:moveTo>
                  <a:pt x="0" y="0"/>
                </a:moveTo>
                <a:lnTo>
                  <a:pt x="22931" y="0"/>
                </a:lnTo>
                <a:lnTo>
                  <a:pt x="22931" y="21600"/>
                </a:lnTo>
                <a:lnTo>
                  <a:pt x="0" y="21600"/>
                </a:lnTo>
                <a:close/>
              </a:path>
              <a:path fill="lightenLess" w="22931" h="21600">
                <a:moveTo>
                  <a:pt x="0" y="0"/>
                </a:moveTo>
                <a:lnTo>
                  <a:pt x="22931" y="0"/>
                </a:lnTo>
                <a:lnTo>
                  <a:pt x="21531" y="1400"/>
                </a:lnTo>
                <a:lnTo>
                  <a:pt x="1400" y="1400"/>
                </a:lnTo>
                <a:close/>
              </a:path>
              <a:path fill="darken" w="22931" h="21600">
                <a:moveTo>
                  <a:pt x="22931" y="0"/>
                </a:moveTo>
                <a:lnTo>
                  <a:pt x="22931" y="21600"/>
                </a:lnTo>
                <a:lnTo>
                  <a:pt x="21531" y="20200"/>
                </a:lnTo>
                <a:lnTo>
                  <a:pt x="21531" y="1400"/>
                </a:lnTo>
                <a:close/>
              </a:path>
              <a:path fill="darkenLess" w="22931" h="21600">
                <a:moveTo>
                  <a:pt x="2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31" y="20200"/>
                </a:lnTo>
                <a:close/>
              </a:path>
              <a:path fill="lighten" w="2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31" h="21600">
                <a:moveTo>
                  <a:pt x="4459" y="7493"/>
                </a:moveTo>
                <a:lnTo>
                  <a:pt x="7967" y="7493"/>
                </a:lnTo>
                <a:lnTo>
                  <a:pt x="7967" y="12828"/>
                </a:lnTo>
                <a:cubicBezTo>
                  <a:pt x="7967" y="13751"/>
                  <a:pt x="8767" y="14482"/>
                  <a:pt x="9803" y="14482"/>
                </a:cubicBezTo>
                <a:lnTo>
                  <a:pt x="11466" y="14482"/>
                </a:lnTo>
                <a:cubicBezTo>
                  <a:pt x="12501" y="14482"/>
                  <a:pt x="13302" y="13751"/>
                  <a:pt x="13302" y="12828"/>
                </a:cubicBezTo>
                <a:lnTo>
                  <a:pt x="13302" y="7493"/>
                </a:lnTo>
                <a:lnTo>
                  <a:pt x="11466" y="7493"/>
                </a:lnTo>
                <a:lnTo>
                  <a:pt x="14973" y="3985"/>
                </a:lnTo>
                <a:lnTo>
                  <a:pt x="18646" y="7493"/>
                </a:lnTo>
                <a:lnTo>
                  <a:pt x="16810" y="7493"/>
                </a:lnTo>
                <a:lnTo>
                  <a:pt x="16810" y="12828"/>
                </a:lnTo>
                <a:cubicBezTo>
                  <a:pt x="16810" y="15596"/>
                  <a:pt x="14233" y="18155"/>
                  <a:pt x="11466" y="18155"/>
                </a:cubicBezTo>
                <a:lnTo>
                  <a:pt x="9803" y="18155"/>
                </a:lnTo>
                <a:cubicBezTo>
                  <a:pt x="7035" y="18155"/>
                  <a:pt x="4459" y="15596"/>
                  <a:pt x="4459" y="12828"/>
                </a:cubicBez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>
            <a:hlinkClick r:id="" action="ppaction://hlinkshowjump?jump=endshow"/>
          </p:cNvPr>
          <p:cNvSpPr/>
          <p:nvPr/>
        </p:nvSpPr>
        <p:spPr>
          <a:xfrm>
            <a:off x="8567640" y="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Wingdings 2"/>
                <a:ea typeface="Wingdings 2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1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05:02:35Z</dcterms:created>
  <dc:creator>Учащийся 1</dc:creator>
  <dc:description/>
  <dc:language>en-US</dc:language>
  <cp:lastModifiedBy>Учащийся 1</cp:lastModifiedBy>
  <dcterms:modified xsi:type="dcterms:W3CDTF">2009-01-23T06:41:40Z</dcterms:modified>
  <cp:revision>30</cp:revision>
  <dc:subject/>
  <dc:title>Слайд 1</dc:title>
</cp:coreProperties>
</file>