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lick.wav" ContentType="audio/x-wav"/>
  <Override PartName="/ppt/media/image7.png" ContentType="image/png"/>
  <Override PartName="/ppt/media/wind.wav" ContentType="audio/x-wav"/>
  <Override PartName="/ppt/media/image6.png" ContentType="image/png"/>
  <Override PartName="/ppt/media/chimes.wav" ContentType="audio/x-wav"/>
  <Override PartName="/ppt/media/image8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5D6-EFB8-447D-9D72-F2F537E4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C04-5A88-41CD-A9E7-D7E89762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B08D-C476-4540-AA6C-2F0E1AF5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F56-6F85-4C66-B4DB-CD0B254C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DAE-C39E-408D-81A9-F99D5416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C20-AFE5-4F0B-A55E-6770425E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6D9-518A-4E48-A9B9-EEA01961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342-B49B-4966-A96C-AB633D9A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374-FD0E-4632-BAA4-987BA377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B22-D928-48F2-AD89-2736B437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3CA-2192-4AB5-890C-76AF1677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503-04A8-4F67-B173-C7631D49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30CB-6E0A-4A44-A2EC-95F0B8CFA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audio" Target="../media/wind.wav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75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189000"/>
            <a:ext cx="62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граф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2565360"/>
            <a:ext cx="12924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ма: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2852640"/>
            <a:ext cx="6048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тмосфера и климат!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5734080"/>
            <a:ext cx="14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ыполнил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35280" y="5877000"/>
            <a:ext cx="2838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обылица.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03640" y="5084640"/>
            <a:ext cx="18194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 клас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7524720" y="6237360"/>
            <a:ext cx="792360" cy="620640"/>
          </a:xfrm>
          <a:custGeom>
            <a:avLst/>
            <a:gdLst>
              <a:gd name="textAreaLeft" fmla="*/ 39960 w 792360"/>
              <a:gd name="textAreaRight" fmla="*/ 752400 w 79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13786" y="3837"/>
                </a:moveTo>
                <a:lnTo>
                  <a:pt x="16363" y="6448"/>
                </a:lnTo>
                <a:lnTo>
                  <a:pt x="16363" y="4707"/>
                </a:lnTo>
                <a:lnTo>
                  <a:pt x="18138" y="4707"/>
                </a:lnTo>
                <a:lnTo>
                  <a:pt x="18138" y="8224"/>
                </a:lnTo>
                <a:lnTo>
                  <a:pt x="20749" y="10800"/>
                </a:lnTo>
                <a:lnTo>
                  <a:pt x="19096" y="10800"/>
                </a:lnTo>
                <a:lnTo>
                  <a:pt x="19096" y="17989"/>
                </a:lnTo>
                <a:lnTo>
                  <a:pt x="8477" y="17989"/>
                </a:lnTo>
                <a:lnTo>
                  <a:pt x="8477" y="10800"/>
                </a:lnTo>
                <a:lnTo>
                  <a:pt x="6823" y="10800"/>
                </a:lnTo>
                <a:close/>
              </a:path>
              <a:path fill="darkenLess" w="27573" h="21600">
                <a:moveTo>
                  <a:pt x="16363" y="6448"/>
                </a:moveTo>
                <a:lnTo>
                  <a:pt x="16363" y="4707"/>
                </a:lnTo>
                <a:lnTo>
                  <a:pt x="18138" y="4707"/>
                </a:lnTo>
                <a:lnTo>
                  <a:pt x="18138" y="8224"/>
                </a:lnTo>
                <a:close/>
              </a:path>
              <a:path fill="darkenLess" w="27573" h="21600">
                <a:moveTo>
                  <a:pt x="12864" y="14299"/>
                </a:moveTo>
                <a:lnTo>
                  <a:pt x="14709" y="14299"/>
                </a:lnTo>
                <a:lnTo>
                  <a:pt x="14709" y="17989"/>
                </a:lnTo>
                <a:lnTo>
                  <a:pt x="19096" y="17989"/>
                </a:lnTo>
                <a:lnTo>
                  <a:pt x="19096" y="10800"/>
                </a:lnTo>
                <a:lnTo>
                  <a:pt x="8477" y="10800"/>
                </a:lnTo>
                <a:lnTo>
                  <a:pt x="8477" y="17989"/>
                </a:lnTo>
                <a:lnTo>
                  <a:pt x="1286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5242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68360" y="404640"/>
            <a:ext cx="470556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оение атмосфер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cxnSp>
        <p:nvCxnSpPr>
          <p:cNvPr id="50" name=""/>
          <p:cNvCxnSpPr/>
          <p:nvPr/>
        </p:nvCxnSpPr>
        <p:spPr>
          <a:xfrm flipH="1">
            <a:off x="1475640" y="1557000"/>
            <a:ext cx="8643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/>
          <p:nvPr/>
        </p:nvCxnSpPr>
        <p:spPr>
          <a:xfrm>
            <a:off x="3492000" y="162864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/>
          <p:nvPr/>
        </p:nvCxnSpPr>
        <p:spPr>
          <a:xfrm>
            <a:off x="5292360" y="1699920"/>
            <a:ext cx="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>
            <a:off x="6732360" y="1628640"/>
            <a:ext cx="64836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 txBox="1"/>
          <p:nvPr/>
        </p:nvSpPr>
        <p:spPr>
          <a:xfrm>
            <a:off x="179280" y="2205000"/>
            <a:ext cx="187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Тропо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40000" y="2349360"/>
            <a:ext cx="187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трато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3280" y="234936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Мезо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762600" y="2276640"/>
            <a:ext cx="1986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Экзо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68360" y="342900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Озозовый сл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08720" y="2997360"/>
            <a:ext cx="7128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3280" y="3645000"/>
            <a:ext cx="208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Термо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67640" y="2997360"/>
            <a:ext cx="7308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912000" y="3716280"/>
            <a:ext cx="22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"Внешняя атмосфер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7524720" y="6237360"/>
            <a:ext cx="792360" cy="620640"/>
          </a:xfrm>
          <a:custGeom>
            <a:avLst/>
            <a:gdLst>
              <a:gd name="textAreaLeft" fmla="*/ 39960 w 792360"/>
              <a:gd name="textAreaRight" fmla="*/ 752400 w 79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13786" y="3837"/>
                </a:moveTo>
                <a:lnTo>
                  <a:pt x="16363" y="6448"/>
                </a:lnTo>
                <a:lnTo>
                  <a:pt x="16363" y="4707"/>
                </a:lnTo>
                <a:lnTo>
                  <a:pt x="18138" y="4707"/>
                </a:lnTo>
                <a:lnTo>
                  <a:pt x="18138" y="8224"/>
                </a:lnTo>
                <a:lnTo>
                  <a:pt x="20749" y="10800"/>
                </a:lnTo>
                <a:lnTo>
                  <a:pt x="19096" y="10800"/>
                </a:lnTo>
                <a:lnTo>
                  <a:pt x="19096" y="17989"/>
                </a:lnTo>
                <a:lnTo>
                  <a:pt x="8477" y="17989"/>
                </a:lnTo>
                <a:lnTo>
                  <a:pt x="8477" y="10800"/>
                </a:lnTo>
                <a:lnTo>
                  <a:pt x="6823" y="10800"/>
                </a:lnTo>
                <a:close/>
              </a:path>
              <a:path fill="darkenLess" w="27573" h="21600">
                <a:moveTo>
                  <a:pt x="16363" y="6448"/>
                </a:moveTo>
                <a:lnTo>
                  <a:pt x="16363" y="4707"/>
                </a:lnTo>
                <a:lnTo>
                  <a:pt x="18138" y="4707"/>
                </a:lnTo>
                <a:lnTo>
                  <a:pt x="18138" y="8224"/>
                </a:lnTo>
                <a:close/>
              </a:path>
              <a:path fill="darkenLess" w="27573" h="21600">
                <a:moveTo>
                  <a:pt x="12864" y="14299"/>
                </a:moveTo>
                <a:lnTo>
                  <a:pt x="14709" y="14299"/>
                </a:lnTo>
                <a:lnTo>
                  <a:pt x="14709" y="17989"/>
                </a:lnTo>
                <a:lnTo>
                  <a:pt x="19096" y="17989"/>
                </a:lnTo>
                <a:lnTo>
                  <a:pt x="19096" y="10800"/>
                </a:lnTo>
                <a:lnTo>
                  <a:pt x="8477" y="10800"/>
                </a:lnTo>
                <a:lnTo>
                  <a:pt x="8477" y="17989"/>
                </a:lnTo>
                <a:lnTo>
                  <a:pt x="1286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6732720" y="6237360"/>
            <a:ext cx="792000" cy="620640"/>
          </a:xfrm>
          <a:custGeom>
            <a:avLst/>
            <a:gdLst>
              <a:gd name="textAreaLeft" fmla="*/ 39960 w 792000"/>
              <a:gd name="textAreaRight" fmla="*/ 752040 w 79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60" h="21600">
                <a:moveTo>
                  <a:pt x="0" y="0"/>
                </a:moveTo>
                <a:lnTo>
                  <a:pt x="27560" y="0"/>
                </a:lnTo>
                <a:lnTo>
                  <a:pt x="27560" y="21600"/>
                </a:lnTo>
                <a:lnTo>
                  <a:pt x="0" y="21600"/>
                </a:lnTo>
                <a:close/>
              </a:path>
              <a:path fill="lightenLess" w="27560" h="21600">
                <a:moveTo>
                  <a:pt x="0" y="0"/>
                </a:moveTo>
                <a:lnTo>
                  <a:pt x="27560" y="0"/>
                </a:lnTo>
                <a:lnTo>
                  <a:pt x="26160" y="1400"/>
                </a:lnTo>
                <a:lnTo>
                  <a:pt x="1400" y="1400"/>
                </a:lnTo>
                <a:close/>
              </a:path>
              <a:path fill="darken" w="27560" h="21600">
                <a:moveTo>
                  <a:pt x="27560" y="0"/>
                </a:moveTo>
                <a:lnTo>
                  <a:pt x="27560" y="21600"/>
                </a:lnTo>
                <a:lnTo>
                  <a:pt x="26160" y="20200"/>
                </a:lnTo>
                <a:lnTo>
                  <a:pt x="26160" y="1400"/>
                </a:lnTo>
                <a:close/>
              </a:path>
              <a:path fill="darkenLess" w="27560" h="21600">
                <a:moveTo>
                  <a:pt x="2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60" y="20200"/>
                </a:lnTo>
                <a:close/>
              </a:path>
              <a:path fill="lighten" w="2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60" h="21600">
                <a:moveTo>
                  <a:pt x="6774" y="7493"/>
                </a:moveTo>
                <a:lnTo>
                  <a:pt x="10281" y="7493"/>
                </a:lnTo>
                <a:lnTo>
                  <a:pt x="10281" y="12828"/>
                </a:lnTo>
                <a:cubicBezTo>
                  <a:pt x="10281" y="13751"/>
                  <a:pt x="11082" y="14482"/>
                  <a:pt x="12118" y="14482"/>
                </a:cubicBezTo>
                <a:lnTo>
                  <a:pt x="13780" y="14482"/>
                </a:lnTo>
                <a:cubicBezTo>
                  <a:pt x="14816" y="14482"/>
                  <a:pt x="15617" y="13751"/>
                  <a:pt x="15617" y="12828"/>
                </a:cubicBezTo>
                <a:lnTo>
                  <a:pt x="15617" y="7493"/>
                </a:lnTo>
                <a:lnTo>
                  <a:pt x="13780" y="7493"/>
                </a:lnTo>
                <a:lnTo>
                  <a:pt x="17288" y="3985"/>
                </a:lnTo>
                <a:lnTo>
                  <a:pt x="20961" y="7493"/>
                </a:lnTo>
                <a:lnTo>
                  <a:pt x="19124" y="7493"/>
                </a:lnTo>
                <a:lnTo>
                  <a:pt x="19124" y="12828"/>
                </a:lnTo>
                <a:cubicBezTo>
                  <a:pt x="19124" y="15596"/>
                  <a:pt x="16548" y="18155"/>
                  <a:pt x="13780" y="18155"/>
                </a:cubicBezTo>
                <a:lnTo>
                  <a:pt x="12118" y="18155"/>
                </a:lnTo>
                <a:cubicBezTo>
                  <a:pt x="9350" y="18155"/>
                  <a:pt x="6774" y="15596"/>
                  <a:pt x="677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5940360" y="6237360"/>
            <a:ext cx="792360" cy="620640"/>
          </a:xfrm>
          <a:custGeom>
            <a:avLst/>
            <a:gdLst>
              <a:gd name="textAreaLeft" fmla="*/ 39960 w 792360"/>
              <a:gd name="textAreaRight" fmla="*/ 752400 w 79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6780" y="10800"/>
                </a:moveTo>
                <a:lnTo>
                  <a:pt x="20793" y="3794"/>
                </a:lnTo>
                <a:lnTo>
                  <a:pt x="207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450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332000" y="765000"/>
            <a:ext cx="63356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505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лнечная радиац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505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332000" y="270828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2708280"/>
            <a:ext cx="720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9640" y="3141720"/>
            <a:ext cx="1657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e2b1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ям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e2b1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84720" y="3141720"/>
            <a:ext cx="2286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e2b1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сеян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e2b1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12000" y="4221000"/>
            <a:ext cx="2519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e2b1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5% величины.</a:t>
            </a:r>
            <a:endParaRPr b="0" lang="en-US" sz="1800" spc="1" strike="noStrike">
              <a:ln w="0">
                <a:noFill/>
              </a:ln>
              <a:solidFill>
                <a:srgbClr val="ee2b1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76360" y="5013360"/>
            <a:ext cx="1079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364000" y="501336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08000" y="566100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2b16"/>
                </a:solidFill>
                <a:latin typeface="Times New Roman"/>
              </a:rPr>
              <a:t>Сумарная ради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e2b16"/>
              </a:solidFill>
              <a:latin typeface="Times New Roman"/>
              <a:ea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7524720" y="6237360"/>
            <a:ext cx="792360" cy="620640"/>
          </a:xfrm>
          <a:custGeom>
            <a:avLst/>
            <a:gdLst>
              <a:gd name="textAreaLeft" fmla="*/ 39960 w 792360"/>
              <a:gd name="textAreaRight" fmla="*/ 752400 w 79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13786" y="3837"/>
                </a:moveTo>
                <a:lnTo>
                  <a:pt x="16363" y="6448"/>
                </a:lnTo>
                <a:lnTo>
                  <a:pt x="16363" y="4707"/>
                </a:lnTo>
                <a:lnTo>
                  <a:pt x="18138" y="4707"/>
                </a:lnTo>
                <a:lnTo>
                  <a:pt x="18138" y="8224"/>
                </a:lnTo>
                <a:lnTo>
                  <a:pt x="20749" y="10800"/>
                </a:lnTo>
                <a:lnTo>
                  <a:pt x="19096" y="10800"/>
                </a:lnTo>
                <a:lnTo>
                  <a:pt x="19096" y="17989"/>
                </a:lnTo>
                <a:lnTo>
                  <a:pt x="8477" y="17989"/>
                </a:lnTo>
                <a:lnTo>
                  <a:pt x="8477" y="10800"/>
                </a:lnTo>
                <a:lnTo>
                  <a:pt x="6823" y="10800"/>
                </a:lnTo>
                <a:close/>
              </a:path>
              <a:path fill="darkenLess" w="27573" h="21600">
                <a:moveTo>
                  <a:pt x="16363" y="6448"/>
                </a:moveTo>
                <a:lnTo>
                  <a:pt x="16363" y="4707"/>
                </a:lnTo>
                <a:lnTo>
                  <a:pt x="18138" y="4707"/>
                </a:lnTo>
                <a:lnTo>
                  <a:pt x="18138" y="8224"/>
                </a:lnTo>
                <a:close/>
              </a:path>
              <a:path fill="darkenLess" w="27573" h="21600">
                <a:moveTo>
                  <a:pt x="12864" y="14299"/>
                </a:moveTo>
                <a:lnTo>
                  <a:pt x="14709" y="14299"/>
                </a:lnTo>
                <a:lnTo>
                  <a:pt x="14709" y="17989"/>
                </a:lnTo>
                <a:lnTo>
                  <a:pt x="19096" y="17989"/>
                </a:lnTo>
                <a:lnTo>
                  <a:pt x="19096" y="10800"/>
                </a:lnTo>
                <a:lnTo>
                  <a:pt x="8477" y="10800"/>
                </a:lnTo>
                <a:lnTo>
                  <a:pt x="8477" y="17989"/>
                </a:lnTo>
                <a:lnTo>
                  <a:pt x="1286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6732720" y="6237360"/>
            <a:ext cx="792000" cy="620640"/>
          </a:xfrm>
          <a:custGeom>
            <a:avLst/>
            <a:gdLst>
              <a:gd name="textAreaLeft" fmla="*/ 39960 w 792000"/>
              <a:gd name="textAreaRight" fmla="*/ 752040 w 79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60" h="21600">
                <a:moveTo>
                  <a:pt x="0" y="0"/>
                </a:moveTo>
                <a:lnTo>
                  <a:pt x="27560" y="0"/>
                </a:lnTo>
                <a:lnTo>
                  <a:pt x="27560" y="21600"/>
                </a:lnTo>
                <a:lnTo>
                  <a:pt x="0" y="21600"/>
                </a:lnTo>
                <a:close/>
              </a:path>
              <a:path fill="lightenLess" w="27560" h="21600">
                <a:moveTo>
                  <a:pt x="0" y="0"/>
                </a:moveTo>
                <a:lnTo>
                  <a:pt x="27560" y="0"/>
                </a:lnTo>
                <a:lnTo>
                  <a:pt x="26160" y="1400"/>
                </a:lnTo>
                <a:lnTo>
                  <a:pt x="1400" y="1400"/>
                </a:lnTo>
                <a:close/>
              </a:path>
              <a:path fill="darken" w="27560" h="21600">
                <a:moveTo>
                  <a:pt x="27560" y="0"/>
                </a:moveTo>
                <a:lnTo>
                  <a:pt x="27560" y="21600"/>
                </a:lnTo>
                <a:lnTo>
                  <a:pt x="26160" y="20200"/>
                </a:lnTo>
                <a:lnTo>
                  <a:pt x="26160" y="1400"/>
                </a:lnTo>
                <a:close/>
              </a:path>
              <a:path fill="darkenLess" w="27560" h="21600">
                <a:moveTo>
                  <a:pt x="2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60" y="20200"/>
                </a:lnTo>
                <a:close/>
              </a:path>
              <a:path fill="lighten" w="2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60" h="21600">
                <a:moveTo>
                  <a:pt x="6774" y="7493"/>
                </a:moveTo>
                <a:lnTo>
                  <a:pt x="10281" y="7493"/>
                </a:lnTo>
                <a:lnTo>
                  <a:pt x="10281" y="12828"/>
                </a:lnTo>
                <a:cubicBezTo>
                  <a:pt x="10281" y="13751"/>
                  <a:pt x="11082" y="14482"/>
                  <a:pt x="12118" y="14482"/>
                </a:cubicBezTo>
                <a:lnTo>
                  <a:pt x="13780" y="14482"/>
                </a:lnTo>
                <a:cubicBezTo>
                  <a:pt x="14816" y="14482"/>
                  <a:pt x="15617" y="13751"/>
                  <a:pt x="15617" y="12828"/>
                </a:cubicBezTo>
                <a:lnTo>
                  <a:pt x="15617" y="7493"/>
                </a:lnTo>
                <a:lnTo>
                  <a:pt x="13780" y="7493"/>
                </a:lnTo>
                <a:lnTo>
                  <a:pt x="17288" y="3985"/>
                </a:lnTo>
                <a:lnTo>
                  <a:pt x="20961" y="7493"/>
                </a:lnTo>
                <a:lnTo>
                  <a:pt x="19124" y="7493"/>
                </a:lnTo>
                <a:lnTo>
                  <a:pt x="19124" y="12828"/>
                </a:lnTo>
                <a:cubicBezTo>
                  <a:pt x="19124" y="15596"/>
                  <a:pt x="16548" y="18155"/>
                  <a:pt x="13780" y="18155"/>
                </a:cubicBezTo>
                <a:lnTo>
                  <a:pt x="12118" y="18155"/>
                </a:lnTo>
                <a:cubicBezTo>
                  <a:pt x="9350" y="18155"/>
                  <a:pt x="6774" y="15596"/>
                  <a:pt x="677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5940360" y="6237360"/>
            <a:ext cx="792360" cy="620640"/>
          </a:xfrm>
          <a:custGeom>
            <a:avLst/>
            <a:gdLst>
              <a:gd name="textAreaLeft" fmla="*/ 39960 w 792360"/>
              <a:gd name="textAreaRight" fmla="*/ 752400 w 79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6780" y="10800"/>
                </a:moveTo>
                <a:lnTo>
                  <a:pt x="20793" y="3794"/>
                </a:lnTo>
                <a:lnTo>
                  <a:pt x="207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75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71640" y="1197000"/>
            <a:ext cx="648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дельный вес водяного пар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08000" y="278136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атмосфере называется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79640" y="4724280"/>
            <a:ext cx="475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лажностью воздуха.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524720" y="6237360"/>
            <a:ext cx="792360" cy="620640"/>
          </a:xfrm>
          <a:custGeom>
            <a:avLst/>
            <a:gdLst>
              <a:gd name="textAreaLeft" fmla="*/ 39960 w 792360"/>
              <a:gd name="textAreaRight" fmla="*/ 752400 w 79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13786" y="3837"/>
                </a:moveTo>
                <a:lnTo>
                  <a:pt x="16363" y="6448"/>
                </a:lnTo>
                <a:lnTo>
                  <a:pt x="16363" y="4707"/>
                </a:lnTo>
                <a:lnTo>
                  <a:pt x="18138" y="4707"/>
                </a:lnTo>
                <a:lnTo>
                  <a:pt x="18138" y="8224"/>
                </a:lnTo>
                <a:lnTo>
                  <a:pt x="20749" y="10800"/>
                </a:lnTo>
                <a:lnTo>
                  <a:pt x="19096" y="10800"/>
                </a:lnTo>
                <a:lnTo>
                  <a:pt x="19096" y="17989"/>
                </a:lnTo>
                <a:lnTo>
                  <a:pt x="8477" y="17989"/>
                </a:lnTo>
                <a:lnTo>
                  <a:pt x="8477" y="10800"/>
                </a:lnTo>
                <a:lnTo>
                  <a:pt x="6823" y="10800"/>
                </a:lnTo>
                <a:close/>
              </a:path>
              <a:path fill="darkenLess" w="27573" h="21600">
                <a:moveTo>
                  <a:pt x="16363" y="6448"/>
                </a:moveTo>
                <a:lnTo>
                  <a:pt x="16363" y="4707"/>
                </a:lnTo>
                <a:lnTo>
                  <a:pt x="18138" y="4707"/>
                </a:lnTo>
                <a:lnTo>
                  <a:pt x="18138" y="8224"/>
                </a:lnTo>
                <a:close/>
              </a:path>
              <a:path fill="darkenLess" w="27573" h="21600">
                <a:moveTo>
                  <a:pt x="12864" y="14299"/>
                </a:moveTo>
                <a:lnTo>
                  <a:pt x="14709" y="14299"/>
                </a:lnTo>
                <a:lnTo>
                  <a:pt x="14709" y="17989"/>
                </a:lnTo>
                <a:lnTo>
                  <a:pt x="19096" y="17989"/>
                </a:lnTo>
                <a:lnTo>
                  <a:pt x="19096" y="10800"/>
                </a:lnTo>
                <a:lnTo>
                  <a:pt x="8477" y="10800"/>
                </a:lnTo>
                <a:lnTo>
                  <a:pt x="8477" y="17989"/>
                </a:lnTo>
                <a:lnTo>
                  <a:pt x="1286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6732720" y="6237360"/>
            <a:ext cx="792000" cy="620640"/>
          </a:xfrm>
          <a:custGeom>
            <a:avLst/>
            <a:gdLst>
              <a:gd name="textAreaLeft" fmla="*/ 39960 w 792000"/>
              <a:gd name="textAreaRight" fmla="*/ 752040 w 79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60" h="21600">
                <a:moveTo>
                  <a:pt x="0" y="0"/>
                </a:moveTo>
                <a:lnTo>
                  <a:pt x="27560" y="0"/>
                </a:lnTo>
                <a:lnTo>
                  <a:pt x="27560" y="21600"/>
                </a:lnTo>
                <a:lnTo>
                  <a:pt x="0" y="21600"/>
                </a:lnTo>
                <a:close/>
              </a:path>
              <a:path fill="lightenLess" w="27560" h="21600">
                <a:moveTo>
                  <a:pt x="0" y="0"/>
                </a:moveTo>
                <a:lnTo>
                  <a:pt x="27560" y="0"/>
                </a:lnTo>
                <a:lnTo>
                  <a:pt x="26160" y="1400"/>
                </a:lnTo>
                <a:lnTo>
                  <a:pt x="1400" y="1400"/>
                </a:lnTo>
                <a:close/>
              </a:path>
              <a:path fill="darken" w="27560" h="21600">
                <a:moveTo>
                  <a:pt x="27560" y="0"/>
                </a:moveTo>
                <a:lnTo>
                  <a:pt x="27560" y="21600"/>
                </a:lnTo>
                <a:lnTo>
                  <a:pt x="26160" y="20200"/>
                </a:lnTo>
                <a:lnTo>
                  <a:pt x="26160" y="1400"/>
                </a:lnTo>
                <a:close/>
              </a:path>
              <a:path fill="darkenLess" w="27560" h="21600">
                <a:moveTo>
                  <a:pt x="2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60" y="20200"/>
                </a:lnTo>
                <a:close/>
              </a:path>
              <a:path fill="lighten" w="2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60" h="21600">
                <a:moveTo>
                  <a:pt x="6774" y="7493"/>
                </a:moveTo>
                <a:lnTo>
                  <a:pt x="10281" y="7493"/>
                </a:lnTo>
                <a:lnTo>
                  <a:pt x="10281" y="12828"/>
                </a:lnTo>
                <a:cubicBezTo>
                  <a:pt x="10281" y="13751"/>
                  <a:pt x="11082" y="14482"/>
                  <a:pt x="12118" y="14482"/>
                </a:cubicBezTo>
                <a:lnTo>
                  <a:pt x="13780" y="14482"/>
                </a:lnTo>
                <a:cubicBezTo>
                  <a:pt x="14816" y="14482"/>
                  <a:pt x="15617" y="13751"/>
                  <a:pt x="15617" y="12828"/>
                </a:cubicBezTo>
                <a:lnTo>
                  <a:pt x="15617" y="7493"/>
                </a:lnTo>
                <a:lnTo>
                  <a:pt x="13780" y="7493"/>
                </a:lnTo>
                <a:lnTo>
                  <a:pt x="17288" y="3985"/>
                </a:lnTo>
                <a:lnTo>
                  <a:pt x="20961" y="7493"/>
                </a:lnTo>
                <a:lnTo>
                  <a:pt x="19124" y="7493"/>
                </a:lnTo>
                <a:lnTo>
                  <a:pt x="19124" y="12828"/>
                </a:lnTo>
                <a:cubicBezTo>
                  <a:pt x="19124" y="15596"/>
                  <a:pt x="16548" y="18155"/>
                  <a:pt x="13780" y="18155"/>
                </a:cubicBezTo>
                <a:lnTo>
                  <a:pt x="12118" y="18155"/>
                </a:lnTo>
                <a:cubicBezTo>
                  <a:pt x="9350" y="18155"/>
                  <a:pt x="6774" y="15596"/>
                  <a:pt x="677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5940360" y="6237360"/>
            <a:ext cx="792360" cy="620640"/>
          </a:xfrm>
          <a:custGeom>
            <a:avLst/>
            <a:gdLst>
              <a:gd name="textAreaLeft" fmla="*/ 39960 w 792360"/>
              <a:gd name="textAreaRight" fmla="*/ 752400 w 79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6780" y="10800"/>
                </a:moveTo>
                <a:lnTo>
                  <a:pt x="20793" y="3794"/>
                </a:lnTo>
                <a:lnTo>
                  <a:pt x="207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46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24000" y="260280"/>
            <a:ext cx="525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душные масс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042560" y="1844640"/>
            <a:ext cx="865080" cy="720720"/>
          </a:xfrm>
          <a:prstGeom prst="line">
            <a:avLst/>
          </a:prstGeom>
          <a:ln w="9360">
            <a:solidFill>
              <a:srgbClr val="ee2b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347640" y="1989000"/>
            <a:ext cx="71640" cy="1152720"/>
          </a:xfrm>
          <a:prstGeom prst="line">
            <a:avLst/>
          </a:prstGeom>
          <a:ln w="9360">
            <a:solidFill>
              <a:srgbClr val="ee2b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1989000"/>
            <a:ext cx="576000" cy="1224000"/>
          </a:xfrm>
          <a:prstGeom prst="line">
            <a:avLst/>
          </a:prstGeom>
          <a:ln w="9360">
            <a:solidFill>
              <a:srgbClr val="ee2b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1628640"/>
            <a:ext cx="720720" cy="576360"/>
          </a:xfrm>
          <a:prstGeom prst="line">
            <a:avLst/>
          </a:prstGeom>
          <a:ln w="9360">
            <a:solidFill>
              <a:srgbClr val="ee2b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9280" y="2924280"/>
            <a:ext cx="2303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ваториальны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68360" y="3500280"/>
            <a:ext cx="2116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опический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95280" y="3716280"/>
            <a:ext cx="216000" cy="649440"/>
          </a:xfrm>
          <a:prstGeom prst="line">
            <a:avLst/>
          </a:prstGeom>
          <a:ln w="9360">
            <a:solidFill>
              <a:srgbClr val="ee2b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3789360"/>
            <a:ext cx="431640" cy="719280"/>
          </a:xfrm>
          <a:prstGeom prst="line">
            <a:avLst/>
          </a:prstGeom>
          <a:ln w="9360">
            <a:solidFill>
              <a:srgbClr val="ee2b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4653000"/>
            <a:ext cx="144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ские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63640" y="4724280"/>
            <a:ext cx="2232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тинентальные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859280" y="3500280"/>
            <a:ext cx="1657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мереный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588000" y="2492280"/>
            <a:ext cx="2232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рктический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877080" y="3213000"/>
            <a:ext cx="287280" cy="792360"/>
          </a:xfrm>
          <a:prstGeom prst="line">
            <a:avLst/>
          </a:prstGeom>
          <a:ln w="9360">
            <a:solidFill>
              <a:srgbClr val="ee2b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940360" y="4149720"/>
            <a:ext cx="144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ярный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8028000" y="3213000"/>
            <a:ext cx="289080" cy="1368360"/>
          </a:xfrm>
          <a:prstGeom prst="line">
            <a:avLst/>
          </a:prstGeom>
          <a:ln w="9360">
            <a:solidFill>
              <a:srgbClr val="ee2b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62920" y="4724280"/>
            <a:ext cx="198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опический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524720" y="6237360"/>
            <a:ext cx="792360" cy="620640"/>
          </a:xfrm>
          <a:custGeom>
            <a:avLst/>
            <a:gdLst>
              <a:gd name="textAreaLeft" fmla="*/ 39960 w 792360"/>
              <a:gd name="textAreaRight" fmla="*/ 752400 w 79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13786" y="3837"/>
                </a:moveTo>
                <a:lnTo>
                  <a:pt x="16363" y="6448"/>
                </a:lnTo>
                <a:lnTo>
                  <a:pt x="16363" y="4707"/>
                </a:lnTo>
                <a:lnTo>
                  <a:pt x="18138" y="4707"/>
                </a:lnTo>
                <a:lnTo>
                  <a:pt x="18138" y="8224"/>
                </a:lnTo>
                <a:lnTo>
                  <a:pt x="20749" y="10800"/>
                </a:lnTo>
                <a:lnTo>
                  <a:pt x="19096" y="10800"/>
                </a:lnTo>
                <a:lnTo>
                  <a:pt x="19096" y="17989"/>
                </a:lnTo>
                <a:lnTo>
                  <a:pt x="8477" y="17989"/>
                </a:lnTo>
                <a:lnTo>
                  <a:pt x="8477" y="10800"/>
                </a:lnTo>
                <a:lnTo>
                  <a:pt x="6823" y="10800"/>
                </a:lnTo>
                <a:close/>
              </a:path>
              <a:path fill="darkenLess" w="27573" h="21600">
                <a:moveTo>
                  <a:pt x="16363" y="6448"/>
                </a:moveTo>
                <a:lnTo>
                  <a:pt x="16363" y="4707"/>
                </a:lnTo>
                <a:lnTo>
                  <a:pt x="18138" y="4707"/>
                </a:lnTo>
                <a:lnTo>
                  <a:pt x="18138" y="8224"/>
                </a:lnTo>
                <a:close/>
              </a:path>
              <a:path fill="darkenLess" w="27573" h="21600">
                <a:moveTo>
                  <a:pt x="12864" y="14299"/>
                </a:moveTo>
                <a:lnTo>
                  <a:pt x="14709" y="14299"/>
                </a:lnTo>
                <a:lnTo>
                  <a:pt x="14709" y="17989"/>
                </a:lnTo>
                <a:lnTo>
                  <a:pt x="19096" y="17989"/>
                </a:lnTo>
                <a:lnTo>
                  <a:pt x="19096" y="10800"/>
                </a:lnTo>
                <a:lnTo>
                  <a:pt x="8477" y="10800"/>
                </a:lnTo>
                <a:lnTo>
                  <a:pt x="8477" y="17989"/>
                </a:lnTo>
                <a:lnTo>
                  <a:pt x="1286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6732720" y="6237360"/>
            <a:ext cx="792000" cy="620640"/>
          </a:xfrm>
          <a:custGeom>
            <a:avLst/>
            <a:gdLst>
              <a:gd name="textAreaLeft" fmla="*/ 39960 w 792000"/>
              <a:gd name="textAreaRight" fmla="*/ 752040 w 79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60" h="21600">
                <a:moveTo>
                  <a:pt x="0" y="0"/>
                </a:moveTo>
                <a:lnTo>
                  <a:pt x="27560" y="0"/>
                </a:lnTo>
                <a:lnTo>
                  <a:pt x="27560" y="21600"/>
                </a:lnTo>
                <a:lnTo>
                  <a:pt x="0" y="21600"/>
                </a:lnTo>
                <a:close/>
              </a:path>
              <a:path fill="lightenLess" w="27560" h="21600">
                <a:moveTo>
                  <a:pt x="0" y="0"/>
                </a:moveTo>
                <a:lnTo>
                  <a:pt x="27560" y="0"/>
                </a:lnTo>
                <a:lnTo>
                  <a:pt x="26160" y="1400"/>
                </a:lnTo>
                <a:lnTo>
                  <a:pt x="1400" y="1400"/>
                </a:lnTo>
                <a:close/>
              </a:path>
              <a:path fill="darken" w="27560" h="21600">
                <a:moveTo>
                  <a:pt x="27560" y="0"/>
                </a:moveTo>
                <a:lnTo>
                  <a:pt x="27560" y="21600"/>
                </a:lnTo>
                <a:lnTo>
                  <a:pt x="26160" y="20200"/>
                </a:lnTo>
                <a:lnTo>
                  <a:pt x="26160" y="1400"/>
                </a:lnTo>
                <a:close/>
              </a:path>
              <a:path fill="darkenLess" w="27560" h="21600">
                <a:moveTo>
                  <a:pt x="2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60" y="20200"/>
                </a:lnTo>
                <a:close/>
              </a:path>
              <a:path fill="lighten" w="2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60" h="21600">
                <a:moveTo>
                  <a:pt x="6774" y="7493"/>
                </a:moveTo>
                <a:lnTo>
                  <a:pt x="10281" y="7493"/>
                </a:lnTo>
                <a:lnTo>
                  <a:pt x="10281" y="12828"/>
                </a:lnTo>
                <a:cubicBezTo>
                  <a:pt x="10281" y="13751"/>
                  <a:pt x="11082" y="14482"/>
                  <a:pt x="12118" y="14482"/>
                </a:cubicBezTo>
                <a:lnTo>
                  <a:pt x="13780" y="14482"/>
                </a:lnTo>
                <a:cubicBezTo>
                  <a:pt x="14816" y="14482"/>
                  <a:pt x="15617" y="13751"/>
                  <a:pt x="15617" y="12828"/>
                </a:cubicBezTo>
                <a:lnTo>
                  <a:pt x="15617" y="7493"/>
                </a:lnTo>
                <a:lnTo>
                  <a:pt x="13780" y="7493"/>
                </a:lnTo>
                <a:lnTo>
                  <a:pt x="17288" y="3985"/>
                </a:lnTo>
                <a:lnTo>
                  <a:pt x="20961" y="7493"/>
                </a:lnTo>
                <a:lnTo>
                  <a:pt x="19124" y="7493"/>
                </a:lnTo>
                <a:lnTo>
                  <a:pt x="19124" y="12828"/>
                </a:lnTo>
                <a:cubicBezTo>
                  <a:pt x="19124" y="15596"/>
                  <a:pt x="16548" y="18155"/>
                  <a:pt x="13780" y="18155"/>
                </a:cubicBezTo>
                <a:lnTo>
                  <a:pt x="12118" y="18155"/>
                </a:lnTo>
                <a:cubicBezTo>
                  <a:pt x="9350" y="18155"/>
                  <a:pt x="6774" y="15596"/>
                  <a:pt x="677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5940360" y="6237360"/>
            <a:ext cx="792360" cy="620640"/>
          </a:xfrm>
          <a:custGeom>
            <a:avLst/>
            <a:gdLst>
              <a:gd name="textAreaLeft" fmla="*/ 39960 w 792360"/>
              <a:gd name="textAreaRight" fmla="*/ 752400 w 79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6780" y="10800"/>
                </a:moveTo>
                <a:lnTo>
                  <a:pt x="20793" y="3794"/>
                </a:lnTo>
                <a:lnTo>
                  <a:pt x="207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500"/>
                            </p:stCondLst>
                            <p:childTnLst>
                              <p:par>
                                <p:cTn id="2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268360" y="907920"/>
            <a:ext cx="367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ff89e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ронт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ff89e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547280" y="2421000"/>
            <a:ext cx="863640" cy="863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2349360"/>
            <a:ext cx="1295280" cy="936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640" y="3573360"/>
            <a:ext cx="1629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ff89e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плы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ff89e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24360" y="3573360"/>
            <a:ext cx="2171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ff89e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лодны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ff89e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920" y="443700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ff89e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бразует вихреобразное</a:t>
            </a:r>
            <a:endParaRPr b="0" lang="en-US" sz="1800" spc="1" strike="noStrike">
              <a:ln w="0">
                <a:noFill/>
              </a:ln>
              <a:solidFill>
                <a:srgbClr val="aff89e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9280" y="5084640"/>
            <a:ext cx="24498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ff89e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сходящее</a:t>
            </a:r>
            <a:endParaRPr b="0" lang="en-US" sz="1800" spc="1" strike="noStrike">
              <a:ln w="9360">
                <a:solidFill>
                  <a:srgbClr val="aff89e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5516640"/>
            <a:ext cx="399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aff89e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душное течение.</a:t>
            </a:r>
            <a:endParaRPr b="0" i="1" lang="en-US" sz="1800" spc="1" strike="noStrike">
              <a:ln w="9360">
                <a:solidFill>
                  <a:srgbClr val="aff89e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524720" y="6237360"/>
            <a:ext cx="792360" cy="620640"/>
          </a:xfrm>
          <a:custGeom>
            <a:avLst/>
            <a:gdLst>
              <a:gd name="textAreaLeft" fmla="*/ 39960 w 792360"/>
              <a:gd name="textAreaRight" fmla="*/ 752400 w 79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13786" y="3837"/>
                </a:moveTo>
                <a:lnTo>
                  <a:pt x="16363" y="6448"/>
                </a:lnTo>
                <a:lnTo>
                  <a:pt x="16363" y="4707"/>
                </a:lnTo>
                <a:lnTo>
                  <a:pt x="18138" y="4707"/>
                </a:lnTo>
                <a:lnTo>
                  <a:pt x="18138" y="8224"/>
                </a:lnTo>
                <a:lnTo>
                  <a:pt x="20749" y="10800"/>
                </a:lnTo>
                <a:lnTo>
                  <a:pt x="19096" y="10800"/>
                </a:lnTo>
                <a:lnTo>
                  <a:pt x="19096" y="17989"/>
                </a:lnTo>
                <a:lnTo>
                  <a:pt x="8477" y="17989"/>
                </a:lnTo>
                <a:lnTo>
                  <a:pt x="8477" y="10800"/>
                </a:lnTo>
                <a:lnTo>
                  <a:pt x="6823" y="10800"/>
                </a:lnTo>
                <a:close/>
              </a:path>
              <a:path fill="darkenLess" w="27573" h="21600">
                <a:moveTo>
                  <a:pt x="16363" y="6448"/>
                </a:moveTo>
                <a:lnTo>
                  <a:pt x="16363" y="4707"/>
                </a:lnTo>
                <a:lnTo>
                  <a:pt x="18138" y="4707"/>
                </a:lnTo>
                <a:lnTo>
                  <a:pt x="18138" y="8224"/>
                </a:lnTo>
                <a:close/>
              </a:path>
              <a:path fill="darkenLess" w="27573" h="21600">
                <a:moveTo>
                  <a:pt x="12864" y="14299"/>
                </a:moveTo>
                <a:lnTo>
                  <a:pt x="14709" y="14299"/>
                </a:lnTo>
                <a:lnTo>
                  <a:pt x="14709" y="17989"/>
                </a:lnTo>
                <a:lnTo>
                  <a:pt x="19096" y="17989"/>
                </a:lnTo>
                <a:lnTo>
                  <a:pt x="19096" y="10800"/>
                </a:lnTo>
                <a:lnTo>
                  <a:pt x="8477" y="10800"/>
                </a:lnTo>
                <a:lnTo>
                  <a:pt x="8477" y="17989"/>
                </a:lnTo>
                <a:lnTo>
                  <a:pt x="1286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6732720" y="6237360"/>
            <a:ext cx="792000" cy="620640"/>
          </a:xfrm>
          <a:custGeom>
            <a:avLst/>
            <a:gdLst>
              <a:gd name="textAreaLeft" fmla="*/ 39960 w 792000"/>
              <a:gd name="textAreaRight" fmla="*/ 752040 w 79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60" h="21600">
                <a:moveTo>
                  <a:pt x="0" y="0"/>
                </a:moveTo>
                <a:lnTo>
                  <a:pt x="27560" y="0"/>
                </a:lnTo>
                <a:lnTo>
                  <a:pt x="27560" y="21600"/>
                </a:lnTo>
                <a:lnTo>
                  <a:pt x="0" y="21600"/>
                </a:lnTo>
                <a:close/>
              </a:path>
              <a:path fill="lightenLess" w="27560" h="21600">
                <a:moveTo>
                  <a:pt x="0" y="0"/>
                </a:moveTo>
                <a:lnTo>
                  <a:pt x="27560" y="0"/>
                </a:lnTo>
                <a:lnTo>
                  <a:pt x="26160" y="1400"/>
                </a:lnTo>
                <a:lnTo>
                  <a:pt x="1400" y="1400"/>
                </a:lnTo>
                <a:close/>
              </a:path>
              <a:path fill="darken" w="27560" h="21600">
                <a:moveTo>
                  <a:pt x="27560" y="0"/>
                </a:moveTo>
                <a:lnTo>
                  <a:pt x="27560" y="21600"/>
                </a:lnTo>
                <a:lnTo>
                  <a:pt x="26160" y="20200"/>
                </a:lnTo>
                <a:lnTo>
                  <a:pt x="26160" y="1400"/>
                </a:lnTo>
                <a:close/>
              </a:path>
              <a:path fill="darkenLess" w="27560" h="21600">
                <a:moveTo>
                  <a:pt x="2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60" y="20200"/>
                </a:lnTo>
                <a:close/>
              </a:path>
              <a:path fill="lighten" w="2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60" h="21600">
                <a:moveTo>
                  <a:pt x="6774" y="7493"/>
                </a:moveTo>
                <a:lnTo>
                  <a:pt x="10281" y="7493"/>
                </a:lnTo>
                <a:lnTo>
                  <a:pt x="10281" y="12828"/>
                </a:lnTo>
                <a:cubicBezTo>
                  <a:pt x="10281" y="13751"/>
                  <a:pt x="11082" y="14482"/>
                  <a:pt x="12118" y="14482"/>
                </a:cubicBezTo>
                <a:lnTo>
                  <a:pt x="13780" y="14482"/>
                </a:lnTo>
                <a:cubicBezTo>
                  <a:pt x="14816" y="14482"/>
                  <a:pt x="15617" y="13751"/>
                  <a:pt x="15617" y="12828"/>
                </a:cubicBezTo>
                <a:lnTo>
                  <a:pt x="15617" y="7493"/>
                </a:lnTo>
                <a:lnTo>
                  <a:pt x="13780" y="7493"/>
                </a:lnTo>
                <a:lnTo>
                  <a:pt x="17288" y="3985"/>
                </a:lnTo>
                <a:lnTo>
                  <a:pt x="20961" y="7493"/>
                </a:lnTo>
                <a:lnTo>
                  <a:pt x="19124" y="7493"/>
                </a:lnTo>
                <a:lnTo>
                  <a:pt x="19124" y="12828"/>
                </a:lnTo>
                <a:cubicBezTo>
                  <a:pt x="19124" y="15596"/>
                  <a:pt x="16548" y="18155"/>
                  <a:pt x="13780" y="18155"/>
                </a:cubicBezTo>
                <a:lnTo>
                  <a:pt x="12118" y="18155"/>
                </a:lnTo>
                <a:cubicBezTo>
                  <a:pt x="9350" y="18155"/>
                  <a:pt x="6774" y="15596"/>
                  <a:pt x="677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5940360" y="6237360"/>
            <a:ext cx="792360" cy="620640"/>
          </a:xfrm>
          <a:custGeom>
            <a:avLst/>
            <a:gdLst>
              <a:gd name="textAreaLeft" fmla="*/ 39960 w 792360"/>
              <a:gd name="textAreaRight" fmla="*/ 752400 w 79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6780" y="10800"/>
                </a:moveTo>
                <a:lnTo>
                  <a:pt x="20793" y="3794"/>
                </a:lnTo>
                <a:lnTo>
                  <a:pt x="207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 rot="5400000">
            <a:off x="-770400" y="2506680"/>
            <a:ext cx="4753080" cy="1701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Вет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43280" y="1197000"/>
            <a:ext cx="865080" cy="7192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11640" y="333360"/>
            <a:ext cx="1914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естные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40360" y="981000"/>
            <a:ext cx="2800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ризы,фены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3213000"/>
            <a:ext cx="100800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4720" y="2565360"/>
            <a:ext cx="4162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ходящие в общую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356000" y="3141720"/>
            <a:ext cx="41022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иркуляцию атмосферы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4581360"/>
            <a:ext cx="936720" cy="5763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356000" y="4941720"/>
            <a:ext cx="4238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ующие из центров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427640" y="5516640"/>
            <a:ext cx="40669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ысокого и низкого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427640" y="5950080"/>
            <a:ext cx="21812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вления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524720" y="6237360"/>
            <a:ext cx="792360" cy="620640"/>
          </a:xfrm>
          <a:custGeom>
            <a:avLst/>
            <a:gdLst>
              <a:gd name="textAreaLeft" fmla="*/ 39960 w 792360"/>
              <a:gd name="textAreaRight" fmla="*/ 752400 w 79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13786" y="3837"/>
                </a:moveTo>
                <a:lnTo>
                  <a:pt x="16363" y="6448"/>
                </a:lnTo>
                <a:lnTo>
                  <a:pt x="16363" y="4707"/>
                </a:lnTo>
                <a:lnTo>
                  <a:pt x="18138" y="4707"/>
                </a:lnTo>
                <a:lnTo>
                  <a:pt x="18138" y="8224"/>
                </a:lnTo>
                <a:lnTo>
                  <a:pt x="20749" y="10800"/>
                </a:lnTo>
                <a:lnTo>
                  <a:pt x="19096" y="10800"/>
                </a:lnTo>
                <a:lnTo>
                  <a:pt x="19096" y="17989"/>
                </a:lnTo>
                <a:lnTo>
                  <a:pt x="8477" y="17989"/>
                </a:lnTo>
                <a:lnTo>
                  <a:pt x="8477" y="10800"/>
                </a:lnTo>
                <a:lnTo>
                  <a:pt x="6823" y="10800"/>
                </a:lnTo>
                <a:close/>
              </a:path>
              <a:path fill="darkenLess" w="27573" h="21600">
                <a:moveTo>
                  <a:pt x="16363" y="6448"/>
                </a:moveTo>
                <a:lnTo>
                  <a:pt x="16363" y="4707"/>
                </a:lnTo>
                <a:lnTo>
                  <a:pt x="18138" y="4707"/>
                </a:lnTo>
                <a:lnTo>
                  <a:pt x="18138" y="8224"/>
                </a:lnTo>
                <a:close/>
              </a:path>
              <a:path fill="darkenLess" w="27573" h="21600">
                <a:moveTo>
                  <a:pt x="12864" y="14299"/>
                </a:moveTo>
                <a:lnTo>
                  <a:pt x="14709" y="14299"/>
                </a:lnTo>
                <a:lnTo>
                  <a:pt x="14709" y="17989"/>
                </a:lnTo>
                <a:lnTo>
                  <a:pt x="19096" y="17989"/>
                </a:lnTo>
                <a:lnTo>
                  <a:pt x="19096" y="10800"/>
                </a:lnTo>
                <a:lnTo>
                  <a:pt x="8477" y="10800"/>
                </a:lnTo>
                <a:lnTo>
                  <a:pt x="8477" y="17989"/>
                </a:lnTo>
                <a:lnTo>
                  <a:pt x="1286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6732720" y="6237360"/>
            <a:ext cx="792000" cy="620640"/>
          </a:xfrm>
          <a:custGeom>
            <a:avLst/>
            <a:gdLst>
              <a:gd name="textAreaLeft" fmla="*/ 39960 w 792000"/>
              <a:gd name="textAreaRight" fmla="*/ 752040 w 79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60" h="21600">
                <a:moveTo>
                  <a:pt x="0" y="0"/>
                </a:moveTo>
                <a:lnTo>
                  <a:pt x="27560" y="0"/>
                </a:lnTo>
                <a:lnTo>
                  <a:pt x="27560" y="21600"/>
                </a:lnTo>
                <a:lnTo>
                  <a:pt x="0" y="21600"/>
                </a:lnTo>
                <a:close/>
              </a:path>
              <a:path fill="lightenLess" w="27560" h="21600">
                <a:moveTo>
                  <a:pt x="0" y="0"/>
                </a:moveTo>
                <a:lnTo>
                  <a:pt x="27560" y="0"/>
                </a:lnTo>
                <a:lnTo>
                  <a:pt x="26160" y="1400"/>
                </a:lnTo>
                <a:lnTo>
                  <a:pt x="1400" y="1400"/>
                </a:lnTo>
                <a:close/>
              </a:path>
              <a:path fill="darken" w="27560" h="21600">
                <a:moveTo>
                  <a:pt x="27560" y="0"/>
                </a:moveTo>
                <a:lnTo>
                  <a:pt x="27560" y="21600"/>
                </a:lnTo>
                <a:lnTo>
                  <a:pt x="26160" y="20200"/>
                </a:lnTo>
                <a:lnTo>
                  <a:pt x="26160" y="1400"/>
                </a:lnTo>
                <a:close/>
              </a:path>
              <a:path fill="darkenLess" w="27560" h="21600">
                <a:moveTo>
                  <a:pt x="2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60" y="20200"/>
                </a:lnTo>
                <a:close/>
              </a:path>
              <a:path fill="lighten" w="2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60" h="21600">
                <a:moveTo>
                  <a:pt x="6774" y="7493"/>
                </a:moveTo>
                <a:lnTo>
                  <a:pt x="10281" y="7493"/>
                </a:lnTo>
                <a:lnTo>
                  <a:pt x="10281" y="12828"/>
                </a:lnTo>
                <a:cubicBezTo>
                  <a:pt x="10281" y="13751"/>
                  <a:pt x="11082" y="14482"/>
                  <a:pt x="12118" y="14482"/>
                </a:cubicBezTo>
                <a:lnTo>
                  <a:pt x="13780" y="14482"/>
                </a:lnTo>
                <a:cubicBezTo>
                  <a:pt x="14816" y="14482"/>
                  <a:pt x="15617" y="13751"/>
                  <a:pt x="15617" y="12828"/>
                </a:cubicBezTo>
                <a:lnTo>
                  <a:pt x="15617" y="7493"/>
                </a:lnTo>
                <a:lnTo>
                  <a:pt x="13780" y="7493"/>
                </a:lnTo>
                <a:lnTo>
                  <a:pt x="17288" y="3985"/>
                </a:lnTo>
                <a:lnTo>
                  <a:pt x="20961" y="7493"/>
                </a:lnTo>
                <a:lnTo>
                  <a:pt x="19124" y="7493"/>
                </a:lnTo>
                <a:lnTo>
                  <a:pt x="19124" y="12828"/>
                </a:lnTo>
                <a:cubicBezTo>
                  <a:pt x="19124" y="15596"/>
                  <a:pt x="16548" y="18155"/>
                  <a:pt x="13780" y="18155"/>
                </a:cubicBezTo>
                <a:lnTo>
                  <a:pt x="12118" y="18155"/>
                </a:lnTo>
                <a:cubicBezTo>
                  <a:pt x="9350" y="18155"/>
                  <a:pt x="6774" y="15596"/>
                  <a:pt x="677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5940360" y="6237360"/>
            <a:ext cx="792360" cy="620640"/>
          </a:xfrm>
          <a:custGeom>
            <a:avLst/>
            <a:gdLst>
              <a:gd name="textAreaLeft" fmla="*/ 39960 w 792360"/>
              <a:gd name="textAreaRight" fmla="*/ 752400 w 79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6780" y="10800"/>
                </a:moveTo>
                <a:lnTo>
                  <a:pt x="20793" y="3794"/>
                </a:lnTo>
                <a:lnTo>
                  <a:pt x="207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500"/>
                            </p:stCondLst>
                            <p:childTnLst>
                              <p:par>
                                <p:cTn id="3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8500"/>
                            </p:stCondLst>
                            <p:childTnLst>
                              <p:par>
                                <p:cTn id="3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684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Климатические пояса зем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989000"/>
            <a:ext cx="3724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Экваториальный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9640" y="2852640"/>
            <a:ext cx="2962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Тропический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9640" y="3716280"/>
            <a:ext cx="366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.Субтропический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11280" y="4653000"/>
            <a:ext cx="2666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.Умеренный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5640" y="5661000"/>
            <a:ext cx="295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.Арктический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524720" y="6237360"/>
            <a:ext cx="792360" cy="620640"/>
          </a:xfrm>
          <a:custGeom>
            <a:avLst/>
            <a:gdLst>
              <a:gd name="textAreaLeft" fmla="*/ 39960 w 792360"/>
              <a:gd name="textAreaRight" fmla="*/ 752400 w 79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13786" y="3837"/>
                </a:moveTo>
                <a:lnTo>
                  <a:pt x="16363" y="6448"/>
                </a:lnTo>
                <a:lnTo>
                  <a:pt x="16363" y="4707"/>
                </a:lnTo>
                <a:lnTo>
                  <a:pt x="18138" y="4707"/>
                </a:lnTo>
                <a:lnTo>
                  <a:pt x="18138" y="8224"/>
                </a:lnTo>
                <a:lnTo>
                  <a:pt x="20749" y="10800"/>
                </a:lnTo>
                <a:lnTo>
                  <a:pt x="19096" y="10800"/>
                </a:lnTo>
                <a:lnTo>
                  <a:pt x="19096" y="17989"/>
                </a:lnTo>
                <a:lnTo>
                  <a:pt x="8477" y="17989"/>
                </a:lnTo>
                <a:lnTo>
                  <a:pt x="8477" y="10800"/>
                </a:lnTo>
                <a:lnTo>
                  <a:pt x="6823" y="10800"/>
                </a:lnTo>
                <a:close/>
              </a:path>
              <a:path fill="darkenLess" w="27573" h="21600">
                <a:moveTo>
                  <a:pt x="16363" y="6448"/>
                </a:moveTo>
                <a:lnTo>
                  <a:pt x="16363" y="4707"/>
                </a:lnTo>
                <a:lnTo>
                  <a:pt x="18138" y="4707"/>
                </a:lnTo>
                <a:lnTo>
                  <a:pt x="18138" y="8224"/>
                </a:lnTo>
                <a:close/>
              </a:path>
              <a:path fill="darkenLess" w="27573" h="21600">
                <a:moveTo>
                  <a:pt x="12864" y="14299"/>
                </a:moveTo>
                <a:lnTo>
                  <a:pt x="14709" y="14299"/>
                </a:lnTo>
                <a:lnTo>
                  <a:pt x="14709" y="17989"/>
                </a:lnTo>
                <a:lnTo>
                  <a:pt x="19096" y="17989"/>
                </a:lnTo>
                <a:lnTo>
                  <a:pt x="19096" y="10800"/>
                </a:lnTo>
                <a:lnTo>
                  <a:pt x="8477" y="10800"/>
                </a:lnTo>
                <a:lnTo>
                  <a:pt x="8477" y="17989"/>
                </a:lnTo>
                <a:lnTo>
                  <a:pt x="1286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6732720" y="6237360"/>
            <a:ext cx="792000" cy="620640"/>
          </a:xfrm>
          <a:custGeom>
            <a:avLst/>
            <a:gdLst>
              <a:gd name="textAreaLeft" fmla="*/ 39960 w 792000"/>
              <a:gd name="textAreaRight" fmla="*/ 752040 w 79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60" h="21600">
                <a:moveTo>
                  <a:pt x="0" y="0"/>
                </a:moveTo>
                <a:lnTo>
                  <a:pt x="27560" y="0"/>
                </a:lnTo>
                <a:lnTo>
                  <a:pt x="27560" y="21600"/>
                </a:lnTo>
                <a:lnTo>
                  <a:pt x="0" y="21600"/>
                </a:lnTo>
                <a:close/>
              </a:path>
              <a:path fill="lightenLess" w="27560" h="21600">
                <a:moveTo>
                  <a:pt x="0" y="0"/>
                </a:moveTo>
                <a:lnTo>
                  <a:pt x="27560" y="0"/>
                </a:lnTo>
                <a:lnTo>
                  <a:pt x="26160" y="1400"/>
                </a:lnTo>
                <a:lnTo>
                  <a:pt x="1400" y="1400"/>
                </a:lnTo>
                <a:close/>
              </a:path>
              <a:path fill="darken" w="27560" h="21600">
                <a:moveTo>
                  <a:pt x="27560" y="0"/>
                </a:moveTo>
                <a:lnTo>
                  <a:pt x="27560" y="21600"/>
                </a:lnTo>
                <a:lnTo>
                  <a:pt x="26160" y="20200"/>
                </a:lnTo>
                <a:lnTo>
                  <a:pt x="26160" y="1400"/>
                </a:lnTo>
                <a:close/>
              </a:path>
              <a:path fill="darkenLess" w="27560" h="21600">
                <a:moveTo>
                  <a:pt x="2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60" y="20200"/>
                </a:lnTo>
                <a:close/>
              </a:path>
              <a:path fill="lighten" w="2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60" h="21600">
                <a:moveTo>
                  <a:pt x="6774" y="10800"/>
                </a:moveTo>
                <a:lnTo>
                  <a:pt x="20787" y="3794"/>
                </a:lnTo>
                <a:lnTo>
                  <a:pt x="2078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0"/>
                            </p:stCondLst>
                            <p:childTnLst>
                              <p:par>
                                <p:cTn id="4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05:49:40Z</dcterms:created>
  <dc:creator>Учащийся</dc:creator>
  <dc:description/>
  <dc:language>en-US</dc:language>
  <cp:lastModifiedBy>Учащийся</cp:lastModifiedBy>
  <dcterms:modified xsi:type="dcterms:W3CDTF">2009-01-23T07:22:03Z</dcterms:modified>
  <cp:revision>23</cp:revision>
  <dc:subject/>
  <dc:title>Слайд 1</dc:title>
</cp:coreProperties>
</file>