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explode.wav" ContentType="audio/x-wav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EBFE-0316-4B48-A55A-C72A477816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C529-4145-4647-8DEA-9E4673AC28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790A-834D-4E17-9A8E-EE8B1EE729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1A1-9511-4AEE-9257-BA58B331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5BF-44D2-4D41-96BD-90361536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3DD-2F27-4564-AA1F-B05B8390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42D-5FCE-4EB9-B511-C82A8436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CDD6-900E-4A05-9A6F-E2835EF8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916F-A6BA-4340-AB7F-C694144C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5A0B-9DB7-41B9-92FD-4295B00D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8175-AC69-4F4D-B990-1AB3452A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CA74-2979-4926-9284-87FB42F6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53A1-2804-4A5C-AEE7-D50B8F6D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9B22-9008-4274-9775-D896448D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970-60D8-4611-B19E-E5A3D09B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0FFC-F201-4196-9901-870BFACC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2223-2F08-4252-8146-4B226444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5ECA-666D-4936-A1DA-2927A72C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8A0A-2929-467B-8B5E-C7AA56C8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F905-A74D-41CD-B17F-CB30DAF9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F3D3-0251-4708-B925-B306F06E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655AD-4658-4423-A959-425894BC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049E-0F23-47A2-B777-1D0C915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FA4AA-1B42-4AC9-BE39-7455DFB2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1329-7271-4763-93B0-152B1C4B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792-34D4-4D4B-96E9-AC9B6383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926C2-AA00-4C27-972D-E2FF0996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E82B-8009-46E9-A895-1CF166AA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9610-803A-4A46-98BC-9339CE4F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2901-A522-49DC-8D42-9A559CA5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642C-29FC-4A6C-89E7-799F8F8A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F906-4438-41BE-B4CF-BAE0282F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47FB1-CC9F-44BC-8C7E-21D3FD89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0419-AEE2-4691-BFA0-C0C5C36D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CF6E-33E9-447A-B128-9B8C008A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6A6E-4AEE-45D7-8AB2-7C5BCC71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254-5A84-4FD5-A977-E02A73CC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CBB31-1F4A-492B-BF08-B3B488C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F9A3D-BEEB-4243-82CE-58A5688F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BA00-E2F4-4D2A-ACDB-569253AD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E857-37A0-404C-9262-C36B9EF2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4B310-5593-494B-99BA-C33D733F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CBFB-CF2B-4ECD-98AC-65340F90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3C9CD-2C1D-4BDF-B7B7-3C61C7E6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AB4A-A927-4021-BF7B-80B3D765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8A8BB-DC39-4C34-AB8E-C380510A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E65-C5D0-4C48-BB71-979AA251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FB9-AE82-4EB7-9189-8DCA2A26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FBD-A1FB-4DCC-88E0-2308CB2D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468-5AF7-4F9D-B77D-320B5062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250-4F52-44D6-BA22-08EE1743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F43B-9145-4730-B22D-BF528BFADF2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5FBA-4698-45DA-8151-116508C6AF9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B73D-174A-4A2E-AB6B-5FB647078AF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85BE-74D7-4917-8B05-3D352CD6A6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Л Н Толстой" descr="UHCA13L8O1CA9V07SXCAL90O5HCAQZWCILCADDGEP9CAY2HTVQCA93TD13CAWTZTVJCAA8Z2K8CAX58D99CA489YDOCAKVW3ADCAJED6HPCAO4AWATCA4LN0NYCA3QWFOYCAE9W1TVCA3ZUWSNCAMNMOXD.jpg"/>
          <p:cNvPicPr/>
          <p:nvPr/>
        </p:nvPicPr>
        <p:blipFill>
          <a:blip r:embed="rId2"/>
          <a:stretch/>
        </p:blipFill>
        <p:spPr>
          <a:xfrm>
            <a:off x="-96840" y="1127160"/>
            <a:ext cx="1901880" cy="453060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9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8139240" cy="36813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6400440" y="648828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делал Касьянов Иван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348000" y="189000"/>
            <a:ext cx="417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41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а 10 класса.</a:t>
            </a:r>
            <a:endParaRPr b="0" lang="en-US" sz="1800" spc="1" strike="noStrike">
              <a:ln w="0">
                <a:noFill/>
              </a:ln>
              <a:solidFill>
                <a:srgbClr val="fff41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78364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/>
          <p:nvPr/>
        </p:nvSpPr>
        <p:spPr>
          <a:xfrm>
            <a:off x="8207280" y="0"/>
            <a:ext cx="936720" cy="431640"/>
          </a:xfrm>
          <a:prstGeom prst="cloudCallout">
            <a:avLst>
              <a:gd name="adj1" fmla="val -45254"/>
              <a:gd name="adj2" fmla="val 49634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>
            <a:hlinkClick r:id="" action="ppaction://hlinkshowjump?jump=endshow"/>
          </p:cNvPr>
          <p:cNvSpPr/>
          <p:nvPr/>
        </p:nvSpPr>
        <p:spPr>
          <a:xfrm>
            <a:off x="8459640" y="0"/>
            <a:ext cx="505080" cy="431640"/>
          </a:xfrm>
          <a:custGeom>
            <a:avLst/>
            <a:gdLst>
              <a:gd name="textAreaLeft" fmla="*/ 208080 w 505080"/>
              <a:gd name="textAreaRight" fmla="*/ 297000 w 50508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  <p:sndAc>
      <p:stSnd>
        <p:snd r:embed="rId4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Прямоугольник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023040" cy="249876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4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8100720" cy="2352600"/>
          </a:xfrm>
          <a:prstGeom prst="rect">
            <a:avLst/>
          </a:prstGeom>
          <a:ln w="0">
            <a:noFill/>
          </a:ln>
        </p:spPr>
      </p:pic>
      <p:cxnSp>
        <p:nvCxnSpPr>
          <p:cNvPr id="212" name="Прямая со стрелкой 9"/>
          <p:cNvCxnSpPr/>
          <p:nvPr/>
        </p:nvCxnSpPr>
        <p:spPr>
          <a:xfrm flipH="1">
            <a:off x="2428560" y="2785680"/>
            <a:ext cx="929520" cy="1072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3" name="Прямая со стрелкой 11"/>
          <p:cNvCxnSpPr/>
          <p:nvPr/>
        </p:nvCxnSpPr>
        <p:spPr>
          <a:xfrm>
            <a:off x="5143680" y="2571480"/>
            <a:ext cx="107208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4" name="TextBox 12" descr=""/>
          <p:cNvPicPr/>
          <p:nvPr/>
        </p:nvPicPr>
        <p:blipFill>
          <a:blip r:embed="rId4"/>
          <a:stretch/>
        </p:blipFill>
        <p:spPr>
          <a:xfrm>
            <a:off x="987480" y="3651120"/>
            <a:ext cx="2322360" cy="74484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14" descr=""/>
          <p:cNvPicPr/>
          <p:nvPr/>
        </p:nvPicPr>
        <p:blipFill>
          <a:blip r:embed="rId5"/>
          <a:stretch/>
        </p:blipFill>
        <p:spPr>
          <a:xfrm>
            <a:off x="4730760" y="3614760"/>
            <a:ext cx="2803680" cy="81756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15" descr=""/>
          <p:cNvPicPr/>
          <p:nvPr/>
        </p:nvPicPr>
        <p:blipFill>
          <a:blip r:embed="rId6"/>
          <a:stretch/>
        </p:blipFill>
        <p:spPr>
          <a:xfrm>
            <a:off x="536400" y="4956120"/>
            <a:ext cx="8163000" cy="186552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8364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766764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837"/>
                </a:moveTo>
                <a:lnTo>
                  <a:pt x="14422" y="6448"/>
                </a:ln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lnTo>
                  <a:pt x="18808" y="10800"/>
                </a:lnTo>
                <a:lnTo>
                  <a:pt x="17155" y="10800"/>
                </a:lnTo>
                <a:lnTo>
                  <a:pt x="17155" y="17989"/>
                </a:lnTo>
                <a:lnTo>
                  <a:pt x="6536" y="17989"/>
                </a:lnTo>
                <a:lnTo>
                  <a:pt x="6536" y="10800"/>
                </a:lnTo>
                <a:lnTo>
                  <a:pt x="4883" y="10800"/>
                </a:lnTo>
                <a:close/>
              </a:path>
              <a:path fill="darkenLess" w="23691" h="21600">
                <a:moveTo>
                  <a:pt x="14422" y="6448"/>
                </a:move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close/>
              </a:path>
              <a:path fill="darkenLess" w="23691" h="21600">
                <a:moveTo>
                  <a:pt x="10923" y="14299"/>
                </a:moveTo>
                <a:lnTo>
                  <a:pt x="12768" y="14299"/>
                </a:lnTo>
                <a:lnTo>
                  <a:pt x="12768" y="17989"/>
                </a:lnTo>
                <a:lnTo>
                  <a:pt x="17155" y="17989"/>
                </a:lnTo>
                <a:lnTo>
                  <a:pt x="17155" y="10800"/>
                </a:lnTo>
                <a:lnTo>
                  <a:pt x="6536" y="10800"/>
                </a:lnTo>
                <a:lnTo>
                  <a:pt x="6536" y="17989"/>
                </a:lnTo>
                <a:lnTo>
                  <a:pt x="10923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8028000" y="0"/>
            <a:ext cx="936720" cy="431640"/>
          </a:xfrm>
          <a:prstGeom prst="cloudCallout">
            <a:avLst>
              <a:gd name="adj1" fmla="val -45254"/>
              <a:gd name="adj2" fmla="val 4963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>
            <a:hlinkClick r:id="" action="ppaction://hlinkshowjump?jump=endshow"/>
          </p:cNvPr>
          <p:cNvSpPr/>
          <p:nvPr/>
        </p:nvSpPr>
        <p:spPr>
          <a:xfrm>
            <a:off x="8317080" y="0"/>
            <a:ext cx="504720" cy="431640"/>
          </a:xfrm>
          <a:custGeom>
            <a:avLst/>
            <a:gdLst>
              <a:gd name="textAreaLeft" fmla="*/ 208080 w 504720"/>
              <a:gd name="textAreaRight" fmla="*/ 296640 w 50472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03640" y="189000"/>
            <a:ext cx="2085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ff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ведени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ff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  <p:sndAc>
      <p:stSnd>
        <p:snd r:embed="rId7" name="explode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3" descr=""/>
          <p:cNvPicPr/>
          <p:nvPr/>
        </p:nvPicPr>
        <p:blipFill>
          <a:blip r:embed="rId2"/>
          <a:stretch/>
        </p:blipFill>
        <p:spPr>
          <a:xfrm>
            <a:off x="250920" y="-316080"/>
            <a:ext cx="8248680" cy="31212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Тимохин.jpg"/>
          <p:cNvPicPr/>
          <p:nvPr/>
        </p:nvPicPr>
        <p:blipFill>
          <a:blip r:embed="rId3"/>
          <a:stretch/>
        </p:blipFill>
        <p:spPr>
          <a:xfrm>
            <a:off x="428760" y="3357720"/>
            <a:ext cx="1112760" cy="155736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25668.jpg"/>
          <p:cNvPicPr/>
          <p:nvPr/>
        </p:nvPicPr>
        <p:blipFill>
          <a:blip r:embed="rId4"/>
          <a:stretch/>
        </p:blipFill>
        <p:spPr>
          <a:xfrm>
            <a:off x="3357720" y="3398760"/>
            <a:ext cx="2143080" cy="14590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" descr="батарея Тушина.jpg"/>
          <p:cNvPicPr/>
          <p:nvPr/>
        </p:nvPicPr>
        <p:blipFill>
          <a:blip r:embed="rId5"/>
          <a:stretch/>
        </p:blipFill>
        <p:spPr>
          <a:xfrm>
            <a:off x="6072120" y="3357720"/>
            <a:ext cx="2737080" cy="15001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7"/>
          <p:cNvSpPr/>
          <p:nvPr/>
        </p:nvSpPr>
        <p:spPr>
          <a:xfrm>
            <a:off x="368280" y="5000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Тимохи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3809520" y="5000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Долох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6395400" y="492912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Батарея Туши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878364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>
            <a:off x="766764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837"/>
                </a:moveTo>
                <a:lnTo>
                  <a:pt x="14422" y="6448"/>
                </a:ln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lnTo>
                  <a:pt x="18808" y="10800"/>
                </a:lnTo>
                <a:lnTo>
                  <a:pt x="17155" y="10800"/>
                </a:lnTo>
                <a:lnTo>
                  <a:pt x="17155" y="17989"/>
                </a:lnTo>
                <a:lnTo>
                  <a:pt x="6536" y="17989"/>
                </a:lnTo>
                <a:lnTo>
                  <a:pt x="6536" y="10800"/>
                </a:lnTo>
                <a:lnTo>
                  <a:pt x="4883" y="10800"/>
                </a:lnTo>
                <a:close/>
              </a:path>
              <a:path fill="darkenLess" w="23691" h="21600">
                <a:moveTo>
                  <a:pt x="14422" y="6448"/>
                </a:move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close/>
              </a:path>
              <a:path fill="darkenLess" w="23691" h="21600">
                <a:moveTo>
                  <a:pt x="10923" y="14299"/>
                </a:moveTo>
                <a:lnTo>
                  <a:pt x="12768" y="14299"/>
                </a:lnTo>
                <a:lnTo>
                  <a:pt x="12768" y="17989"/>
                </a:lnTo>
                <a:lnTo>
                  <a:pt x="17155" y="17989"/>
                </a:lnTo>
                <a:lnTo>
                  <a:pt x="17155" y="10800"/>
                </a:lnTo>
                <a:lnTo>
                  <a:pt x="6536" y="10800"/>
                </a:lnTo>
                <a:lnTo>
                  <a:pt x="6536" y="17989"/>
                </a:lnTo>
                <a:lnTo>
                  <a:pt x="10923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/>
          <p:nvPr/>
        </p:nvSpPr>
        <p:spPr>
          <a:xfrm>
            <a:off x="8028000" y="0"/>
            <a:ext cx="936720" cy="431640"/>
          </a:xfrm>
          <a:prstGeom prst="cloudCallout">
            <a:avLst>
              <a:gd name="adj1" fmla="val -45254"/>
              <a:gd name="adj2" fmla="val 4963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>
            <a:hlinkClick r:id="" action="ppaction://hlinkshowjump?jump=endshow"/>
          </p:cNvPr>
          <p:cNvSpPr/>
          <p:nvPr/>
        </p:nvSpPr>
        <p:spPr>
          <a:xfrm>
            <a:off x="8317080" y="0"/>
            <a:ext cx="504720" cy="431640"/>
          </a:xfrm>
          <a:custGeom>
            <a:avLst/>
            <a:gdLst>
              <a:gd name="textAreaLeft" fmla="*/ 208080 w 504720"/>
              <a:gd name="textAreaRight" fmla="*/ 296640 w 50472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  <p:sndAc>
      <p:stSnd>
        <p:snd r:embed="rId6" name="explode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Прямоугольник 5" descr=""/>
          <p:cNvPicPr/>
          <p:nvPr/>
        </p:nvPicPr>
        <p:blipFill>
          <a:blip r:embed="rId2"/>
          <a:stretch/>
        </p:blipFill>
        <p:spPr>
          <a:xfrm>
            <a:off x="-324000" y="-531720"/>
            <a:ext cx="8589960" cy="243180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7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8096040" cy="265284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8" descr=""/>
          <p:cNvPicPr/>
          <p:nvPr/>
        </p:nvPicPr>
        <p:blipFill>
          <a:blip r:embed="rId4"/>
          <a:stretch/>
        </p:blipFill>
        <p:spPr>
          <a:xfrm>
            <a:off x="0" y="1557360"/>
            <a:ext cx="8021520" cy="234648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9" descr=""/>
          <p:cNvPicPr/>
          <p:nvPr/>
        </p:nvPicPr>
        <p:blipFill>
          <a:blip r:embed="rId5"/>
          <a:stretch/>
        </p:blipFill>
        <p:spPr>
          <a:xfrm>
            <a:off x="390600" y="2438280"/>
            <a:ext cx="8120160" cy="21528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1" descr=""/>
          <p:cNvPicPr/>
          <p:nvPr/>
        </p:nvPicPr>
        <p:blipFill>
          <a:blip r:embed="rId6"/>
          <a:stretch/>
        </p:blipFill>
        <p:spPr>
          <a:xfrm>
            <a:off x="281160" y="3029040"/>
            <a:ext cx="8502480" cy="2421000"/>
          </a:xfrm>
          <a:prstGeom prst="rect">
            <a:avLst/>
          </a:prstGeom>
          <a:ln w="0">
            <a:noFill/>
          </a:ln>
        </p:spPr>
      </p:pic>
      <p:pic>
        <p:nvPicPr>
          <p:cNvPr id="242" name="TextBox 12" descr=""/>
          <p:cNvPicPr/>
          <p:nvPr/>
        </p:nvPicPr>
        <p:blipFill>
          <a:blip r:embed="rId7"/>
          <a:stretch/>
        </p:blipFill>
        <p:spPr>
          <a:xfrm>
            <a:off x="539640" y="4005360"/>
            <a:ext cx="8229600" cy="345600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78364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766764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837"/>
                </a:moveTo>
                <a:lnTo>
                  <a:pt x="14422" y="6448"/>
                </a:ln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lnTo>
                  <a:pt x="18808" y="10800"/>
                </a:lnTo>
                <a:lnTo>
                  <a:pt x="17155" y="10800"/>
                </a:lnTo>
                <a:lnTo>
                  <a:pt x="17155" y="17989"/>
                </a:lnTo>
                <a:lnTo>
                  <a:pt x="6536" y="17989"/>
                </a:lnTo>
                <a:lnTo>
                  <a:pt x="6536" y="10800"/>
                </a:lnTo>
                <a:lnTo>
                  <a:pt x="4883" y="10800"/>
                </a:lnTo>
                <a:close/>
              </a:path>
              <a:path fill="darkenLess" w="23691" h="21600">
                <a:moveTo>
                  <a:pt x="14422" y="6448"/>
                </a:move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close/>
              </a:path>
              <a:path fill="darkenLess" w="23691" h="21600">
                <a:moveTo>
                  <a:pt x="10923" y="14299"/>
                </a:moveTo>
                <a:lnTo>
                  <a:pt x="12768" y="14299"/>
                </a:lnTo>
                <a:lnTo>
                  <a:pt x="12768" y="17989"/>
                </a:lnTo>
                <a:lnTo>
                  <a:pt x="17155" y="17989"/>
                </a:lnTo>
                <a:lnTo>
                  <a:pt x="17155" y="10800"/>
                </a:lnTo>
                <a:lnTo>
                  <a:pt x="6536" y="10800"/>
                </a:lnTo>
                <a:lnTo>
                  <a:pt x="6536" y="17989"/>
                </a:lnTo>
                <a:lnTo>
                  <a:pt x="10923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/>
          <p:nvPr/>
        </p:nvSpPr>
        <p:spPr>
          <a:xfrm>
            <a:off x="8028000" y="0"/>
            <a:ext cx="936720" cy="431640"/>
          </a:xfrm>
          <a:prstGeom prst="cloudCallout">
            <a:avLst>
              <a:gd name="adj1" fmla="val -45254"/>
              <a:gd name="adj2" fmla="val 4963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">
            <a:hlinkClick r:id="" action="ppaction://hlinkshowjump?jump=endshow"/>
          </p:cNvPr>
          <p:cNvSpPr/>
          <p:nvPr/>
        </p:nvSpPr>
        <p:spPr>
          <a:xfrm>
            <a:off x="8317080" y="0"/>
            <a:ext cx="504720" cy="431640"/>
          </a:xfrm>
          <a:custGeom>
            <a:avLst/>
            <a:gdLst>
              <a:gd name="textAreaLeft" fmla="*/ 208080 w 504720"/>
              <a:gd name="textAreaRight" fmla="*/ 296640 w 50472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  <p:sndAc>
      <p:stSnd>
        <p:snd r:embed="rId8" name="explode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Прямоугольник 3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8826480" cy="32482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4" descr="thumbnail.jpg"/>
          <p:cNvPicPr/>
          <p:nvPr/>
        </p:nvPicPr>
        <p:blipFill>
          <a:blip r:embed="rId3"/>
          <a:stretch/>
        </p:blipFill>
        <p:spPr>
          <a:xfrm>
            <a:off x="122400" y="2840040"/>
            <a:ext cx="1676160" cy="1940040"/>
          </a:xfrm>
          <a:prstGeom prst="rect">
            <a:avLst/>
          </a:prstGeom>
          <a:ln w="0">
            <a:noFill/>
          </a:ln>
        </p:spPr>
      </p:pic>
      <p:pic>
        <p:nvPicPr>
          <p:cNvPr id="251" name="TextBox 5" descr=""/>
          <p:cNvPicPr/>
          <p:nvPr/>
        </p:nvPicPr>
        <p:blipFill>
          <a:blip r:embed="rId4"/>
          <a:stretch/>
        </p:blipFill>
        <p:spPr>
          <a:xfrm>
            <a:off x="1974960" y="1414440"/>
            <a:ext cx="6797520" cy="4894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2000" y="4941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конс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78364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766764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837"/>
                </a:moveTo>
                <a:lnTo>
                  <a:pt x="14422" y="6448"/>
                </a:ln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lnTo>
                  <a:pt x="18808" y="10800"/>
                </a:lnTo>
                <a:lnTo>
                  <a:pt x="17155" y="10800"/>
                </a:lnTo>
                <a:lnTo>
                  <a:pt x="17155" y="17989"/>
                </a:lnTo>
                <a:lnTo>
                  <a:pt x="6536" y="17989"/>
                </a:lnTo>
                <a:lnTo>
                  <a:pt x="6536" y="10800"/>
                </a:lnTo>
                <a:lnTo>
                  <a:pt x="4883" y="10800"/>
                </a:lnTo>
                <a:close/>
              </a:path>
              <a:path fill="darkenLess" w="23691" h="21600">
                <a:moveTo>
                  <a:pt x="14422" y="6448"/>
                </a:move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close/>
              </a:path>
              <a:path fill="darkenLess" w="23691" h="21600">
                <a:moveTo>
                  <a:pt x="10923" y="14299"/>
                </a:moveTo>
                <a:lnTo>
                  <a:pt x="12768" y="14299"/>
                </a:lnTo>
                <a:lnTo>
                  <a:pt x="12768" y="17989"/>
                </a:lnTo>
                <a:lnTo>
                  <a:pt x="17155" y="17989"/>
                </a:lnTo>
                <a:lnTo>
                  <a:pt x="17155" y="10800"/>
                </a:lnTo>
                <a:lnTo>
                  <a:pt x="6536" y="10800"/>
                </a:lnTo>
                <a:lnTo>
                  <a:pt x="6536" y="17989"/>
                </a:lnTo>
                <a:lnTo>
                  <a:pt x="10923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0"/>
            <a:ext cx="936720" cy="431640"/>
          </a:xfrm>
          <a:prstGeom prst="cloudCallout">
            <a:avLst>
              <a:gd name="adj1" fmla="val -45254"/>
              <a:gd name="adj2" fmla="val 4963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>
            <a:hlinkClick r:id="" action="ppaction://hlinkshowjump?jump=endshow"/>
          </p:cNvPr>
          <p:cNvSpPr/>
          <p:nvPr/>
        </p:nvSpPr>
        <p:spPr>
          <a:xfrm>
            <a:off x="8317080" y="0"/>
            <a:ext cx="504720" cy="431640"/>
          </a:xfrm>
          <a:custGeom>
            <a:avLst/>
            <a:gdLst>
              <a:gd name="textAreaLeft" fmla="*/ 208080 w 504720"/>
              <a:gd name="textAreaRight" fmla="*/ 296640 w 50472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  <p:sndAc>
      <p:stSnd>
        <p:snd r:embed="rId5" name="explode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0"/>
            <a:ext cx="8137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 по Шенграбенскому сражению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1840" y="2513160"/>
            <a:ext cx="89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3213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"/>
          <p:cNvSpPr/>
          <p:nvPr/>
        </p:nvSpPr>
        <p:spPr>
          <a:xfrm>
            <a:off x="338040" y="2492280"/>
            <a:ext cx="882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из героев Шенграбенского сражения хвалился своими заслугами 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ени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"/>
          <p:cNvSpPr/>
          <p:nvPr/>
        </p:nvSpPr>
        <p:spPr>
          <a:xfrm>
            <a:off x="592200" y="3351240"/>
            <a:ext cx="369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имох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Долох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уш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>
            <a:off x="367200" y="4648320"/>
            <a:ext cx="68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уходит на войну чтобы добиться «своего Тулон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>
            <a:off x="663120" y="5151600"/>
            <a:ext cx="186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уш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Долох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конск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>
            <a:off x="3471840" y="342252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"/>
          <p:cNvSpPr/>
          <p:nvPr/>
        </p:nvSpPr>
        <p:spPr>
          <a:xfrm>
            <a:off x="3327840" y="5440320"/>
            <a:ext cx="126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78364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">
            <a:hlinkClick r:id="" action="ppaction://hlinkshowjump?jump=firstslide"/>
          </p:cNvPr>
          <p:cNvSpPr/>
          <p:nvPr/>
        </p:nvSpPr>
        <p:spPr>
          <a:xfrm>
            <a:off x="795672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837"/>
                </a:moveTo>
                <a:lnTo>
                  <a:pt x="14422" y="6448"/>
                </a:ln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lnTo>
                  <a:pt x="18808" y="10800"/>
                </a:lnTo>
                <a:lnTo>
                  <a:pt x="17155" y="10800"/>
                </a:lnTo>
                <a:lnTo>
                  <a:pt x="17155" y="17989"/>
                </a:lnTo>
                <a:lnTo>
                  <a:pt x="6536" y="17989"/>
                </a:lnTo>
                <a:lnTo>
                  <a:pt x="6536" y="10800"/>
                </a:lnTo>
                <a:lnTo>
                  <a:pt x="4883" y="10800"/>
                </a:lnTo>
                <a:close/>
              </a:path>
              <a:path fill="darkenLess" w="23691" h="21600">
                <a:moveTo>
                  <a:pt x="14422" y="6448"/>
                </a:move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close/>
              </a:path>
              <a:path fill="darkenLess" w="23691" h="21600">
                <a:moveTo>
                  <a:pt x="10923" y="14299"/>
                </a:moveTo>
                <a:lnTo>
                  <a:pt x="12768" y="14299"/>
                </a:lnTo>
                <a:lnTo>
                  <a:pt x="12768" y="17989"/>
                </a:lnTo>
                <a:lnTo>
                  <a:pt x="17155" y="17989"/>
                </a:lnTo>
                <a:lnTo>
                  <a:pt x="17155" y="10800"/>
                </a:lnTo>
                <a:lnTo>
                  <a:pt x="6536" y="10800"/>
                </a:lnTo>
                <a:lnTo>
                  <a:pt x="6536" y="17989"/>
                </a:lnTo>
                <a:lnTo>
                  <a:pt x="10923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/>
          <p:nvPr/>
        </p:nvSpPr>
        <p:spPr>
          <a:xfrm>
            <a:off x="8028000" y="0"/>
            <a:ext cx="936720" cy="431640"/>
          </a:xfrm>
          <a:prstGeom prst="cloudCallout">
            <a:avLst>
              <a:gd name="adj1" fmla="val -45254"/>
              <a:gd name="adj2" fmla="val 4963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>
            <a:hlinkClick r:id="" action="ppaction://hlinkshowjump?jump=endshow"/>
          </p:cNvPr>
          <p:cNvSpPr/>
          <p:nvPr/>
        </p:nvSpPr>
        <p:spPr>
          <a:xfrm>
            <a:off x="8317080" y="0"/>
            <a:ext cx="504720" cy="431640"/>
          </a:xfrm>
          <a:custGeom>
            <a:avLst/>
            <a:gdLst>
              <a:gd name="textAreaLeft" fmla="*/ 208080 w 504720"/>
              <a:gd name="textAreaRight" fmla="*/ 296640 w 50472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  <p:sndAc>
      <p:stSnd>
        <p:snd r:embed="rId2" name="explode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755640" y="0"/>
            <a:ext cx="8137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 по Шенграбенскому сражению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256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"/>
          <p:cNvSpPr/>
          <p:nvPr/>
        </p:nvSpPr>
        <p:spPr>
          <a:xfrm>
            <a:off x="519120" y="248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2349360"/>
            <a:ext cx="814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рота проявила дисциплинированность и неожиданно атаковала француз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/>
          <p:nvPr/>
        </p:nvSpPr>
        <p:spPr>
          <a:xfrm>
            <a:off x="593640" y="301608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уш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 Болконск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имох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/>
          <p:nvPr/>
        </p:nvSpPr>
        <p:spPr>
          <a:xfrm>
            <a:off x="592200" y="4359240"/>
            <a:ext cx="855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ентре Шенграбенского сражения и на самом жарком участке батарея какого героя находилас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/>
          <p:nvPr/>
        </p:nvSpPr>
        <p:spPr>
          <a:xfrm>
            <a:off x="662760" y="5079960"/>
            <a:ext cx="195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Болконск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Туш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имох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"/>
          <p:cNvSpPr/>
          <p:nvPr/>
        </p:nvSpPr>
        <p:spPr>
          <a:xfrm>
            <a:off x="3472200" y="3135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"/>
          <p:cNvSpPr/>
          <p:nvPr/>
        </p:nvSpPr>
        <p:spPr>
          <a:xfrm>
            <a:off x="3400200" y="536724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02800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>
            <a:hlinkClick r:id="" action="ppaction://hlinkshowjump?jump=firstslide"/>
          </p:cNvPr>
          <p:cNvSpPr/>
          <p:nvPr/>
        </p:nvSpPr>
        <p:spPr>
          <a:xfrm>
            <a:off x="874872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837"/>
                </a:moveTo>
                <a:lnTo>
                  <a:pt x="14422" y="6448"/>
                </a:ln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lnTo>
                  <a:pt x="18808" y="10800"/>
                </a:lnTo>
                <a:lnTo>
                  <a:pt x="17155" y="10800"/>
                </a:lnTo>
                <a:lnTo>
                  <a:pt x="17155" y="17989"/>
                </a:lnTo>
                <a:lnTo>
                  <a:pt x="6536" y="17989"/>
                </a:lnTo>
                <a:lnTo>
                  <a:pt x="6536" y="10800"/>
                </a:lnTo>
                <a:lnTo>
                  <a:pt x="4883" y="10800"/>
                </a:lnTo>
                <a:close/>
              </a:path>
              <a:path fill="darkenLess" w="23691" h="21600">
                <a:moveTo>
                  <a:pt x="14422" y="6448"/>
                </a:move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close/>
              </a:path>
              <a:path fill="darkenLess" w="23691" h="21600">
                <a:moveTo>
                  <a:pt x="10923" y="14299"/>
                </a:moveTo>
                <a:lnTo>
                  <a:pt x="12768" y="14299"/>
                </a:lnTo>
                <a:lnTo>
                  <a:pt x="12768" y="17989"/>
                </a:lnTo>
                <a:lnTo>
                  <a:pt x="17155" y="17989"/>
                </a:lnTo>
                <a:lnTo>
                  <a:pt x="17155" y="10800"/>
                </a:lnTo>
                <a:lnTo>
                  <a:pt x="6536" y="10800"/>
                </a:lnTo>
                <a:lnTo>
                  <a:pt x="6536" y="17989"/>
                </a:lnTo>
                <a:lnTo>
                  <a:pt x="10923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"/>
          <p:cNvSpPr/>
          <p:nvPr/>
        </p:nvSpPr>
        <p:spPr>
          <a:xfrm>
            <a:off x="8028000" y="0"/>
            <a:ext cx="936720" cy="431640"/>
          </a:xfrm>
          <a:prstGeom prst="cloudCallout">
            <a:avLst>
              <a:gd name="adj1" fmla="val -45254"/>
              <a:gd name="adj2" fmla="val 4963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">
            <a:hlinkClick r:id="" action="ppaction://hlinkshowjump?jump=endshow"/>
          </p:cNvPr>
          <p:cNvSpPr/>
          <p:nvPr/>
        </p:nvSpPr>
        <p:spPr>
          <a:xfrm>
            <a:off x="8317080" y="0"/>
            <a:ext cx="504720" cy="431640"/>
          </a:xfrm>
          <a:custGeom>
            <a:avLst/>
            <a:gdLst>
              <a:gd name="textAreaLeft" fmla="*/ 208080 w 504720"/>
              <a:gd name="textAreaRight" fmla="*/ 296640 w 50472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  <p:sndAc>
      <p:stSnd>
        <p:snd r:embed="rId2" name="explode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ащийся</cp:lastModifiedBy>
  <dcterms:modified xsi:type="dcterms:W3CDTF">2009-01-23T06:13:46Z</dcterms:modified>
  <cp:revision>45</cp:revision>
  <dc:subject/>
  <dc:title>Слайд 1</dc:title>
</cp:coreProperties>
</file>