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BEE-F954-4931-8237-C8D7ECFA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248-46AC-4518-81F3-DAFB9AA3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A15-B5D7-4434-9657-0B86AC27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8FF-573A-401D-968B-EAB42BC2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D80-9549-4E94-AEC0-AB320289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2F5-F5AE-466C-87D2-44919308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2A6-C2E4-4BC4-9BF5-BD56A5BC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506-B469-4B21-9810-038A4C0C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9CC-1F2E-4118-987C-4D6AEC0F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3A2-6B3E-4E57-8FE4-7AABAA62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E1D-66F1-40B4-B46A-87C8D8B7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BC7-6993-442E-ACE5-7F663A34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E980-B87A-4CFB-9673-95F818BCF7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540400">
            <a:off x="1258920" y="1916280"/>
            <a:ext cx="70581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9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ы термодинами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aeff"/>
                </a:solidFill>
                <a:latin typeface="Arial"/>
              </a:rPr>
              <a:t>Электронный учебник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49417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 ученица 10 класса Ключник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flipH="1">
            <a:off x="324000" y="907920"/>
            <a:ext cx="4464000" cy="3529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783640" y="1440"/>
            <a:ext cx="360360" cy="3682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25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25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26920" y="189000"/>
            <a:ext cx="734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пловой двигат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главный двигатель современной энергет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423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80629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1197000"/>
            <a:ext cx="2160360" cy="405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агреватель (Т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1844640"/>
            <a:ext cx="2160360" cy="368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чее 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2492280"/>
            <a:ext cx="2160360" cy="405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хладитель (Т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3640" y="2060640"/>
            <a:ext cx="289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2276640"/>
            <a:ext cx="0" cy="21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162864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1844640"/>
            <a:ext cx="201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’=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1557360"/>
            <a:ext cx="50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220500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640" y="3068640"/>
            <a:ext cx="813600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5b0079"/>
                  </a:outerShdw>
                </a:effectLst>
                <a:latin typeface="Times New Roman"/>
              </a:rPr>
              <a:t>Коэфициент полезного действия теплового двигателя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5b0079"/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258920" y="3933720"/>
                <a:ext cx="169704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Α'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643280" y="3933720"/>
                <a:ext cx="23720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132000" y="4508640"/>
            <a:ext cx="1295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endshow"/>
          </p:cNvPr>
          <p:cNvSpPr/>
          <p:nvPr/>
        </p:nvSpPr>
        <p:spPr>
          <a:xfrm>
            <a:off x="8783640" y="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783640" y="1440"/>
            <a:ext cx="360360" cy="3682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900"/>
                            </p:stCondLst>
                            <p:childTnLst>
                              <p:par>
                                <p:cTn id="6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6400"/>
                            </p:stCondLst>
                            <p:childTnLst>
                              <p:par>
                                <p:cTn id="6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00"/>
                            </p:stCondLst>
                            <p:childTnLst>
                              <p:par>
                                <p:cTn id="6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890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9400"/>
                            </p:stCondLst>
                            <p:childTnLst>
                              <p:par>
                                <p:cTn id="6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9900"/>
                            </p:stCondLst>
                            <p:childTnLst>
                              <p:par>
                                <p:cTn id="6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220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2700"/>
                            </p:stCondLst>
                            <p:childTnLst>
                              <p:par>
                                <p:cTn id="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200"/>
                            </p:stCondLst>
                            <p:childTnLst>
                              <p:par>
                                <p:cTn id="688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6600"/>
                            </p:stCondLst>
                            <p:childTnLst>
                              <p:par>
                                <p:cTn id="6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8600"/>
                            </p:stCondLst>
                            <p:childTnLst>
                              <p:par>
                                <p:cTn id="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600"/>
                            </p:stCondLst>
                            <p:childTnLst>
                              <p:par>
                                <p:cTn id="7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1100"/>
                            </p:stCondLst>
                            <p:childTnLst>
                              <p:par>
                                <p:cTn id="7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3100"/>
                            </p:stCondLst>
                            <p:childTnLst>
                              <p:par>
                                <p:cTn id="7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7920"/>
            <a:ext cx="914400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Castellar"/>
              </a:rPr>
              <a:t>Внутренняя эне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ff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Castellar"/>
              </a:rPr>
              <a:t>Работа в термодинам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Castellar"/>
              </a:rPr>
              <a:t>Первый закон термодина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ff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Castellar"/>
              </a:rPr>
              <a:t>Теплообмен в замкнутой сис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Castellar"/>
              </a:rPr>
              <a:t>Второй закон термодина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ff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Castellar"/>
              </a:rPr>
              <a:t>Тепловой двиг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6206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423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0629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70256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8783640" y="1440"/>
            <a:ext cx="360360" cy="3682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10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30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90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620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2924280"/>
            <a:ext cx="7920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Внутренняя энерги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b9e3ff"/>
                </a:solidFill>
                <a:latin typeface="Arial"/>
              </a:rPr>
              <a:t>это сумма потенциальной энергии взаимодействия частиц, составляющих тело, и кинетической энергии их беспорядочного теплов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47640" y="260280"/>
            <a:ext cx="60501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"/>
              </a:rPr>
              <a:t>U – внутренняя энергия.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8423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80629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70256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endshow"/>
          </p:cNvPr>
          <p:cNvSpPr/>
          <p:nvPr/>
        </p:nvSpPr>
        <p:spPr>
          <a:xfrm>
            <a:off x="8783640" y="1440"/>
            <a:ext cx="360360" cy="3682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H="1">
            <a:off x="2340000" y="1557360"/>
            <a:ext cx="1224000" cy="358920"/>
          </a:xfrm>
          <a:prstGeom prst="line">
            <a:avLst/>
          </a:prstGeom>
          <a:ln w="38160">
            <a:solidFill>
              <a:srgbClr val="37ae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1628640"/>
            <a:ext cx="1295640" cy="358920"/>
          </a:xfrm>
          <a:prstGeom prst="line">
            <a:avLst/>
          </a:prstGeom>
          <a:ln w="38160">
            <a:solidFill>
              <a:srgbClr val="37ae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205000"/>
            <a:ext cx="3166920" cy="13737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7aeff"/>
                </a:solidFill>
                <a:latin typeface="Arial"/>
              </a:rPr>
              <a:t>Совершение механическ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19640" y="2276640"/>
            <a:ext cx="3386160" cy="520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7aeff"/>
                </a:solidFill>
                <a:latin typeface="Arial"/>
              </a:rPr>
              <a:t>Тепло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8423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0629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770256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32000" y="260280"/>
            <a:ext cx="6667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ccecff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Impact"/>
              </a:rPr>
              <a:t>Изменение внутренней энерги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ccecff"/>
                  </a:gs>
                  <a:gs pos="100000">
                    <a:srgbClr val="3333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">
            <a:hlinkClick r:id="" action="ppaction://hlinkshowjump?jump=endshow"/>
          </p:cNvPr>
          <p:cNvSpPr/>
          <p:nvPr/>
        </p:nvSpPr>
        <p:spPr>
          <a:xfrm>
            <a:off x="8783640" y="1440"/>
            <a:ext cx="360360" cy="3682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4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400"/>
                            </p:stCondLst>
                            <p:childTnLst>
                              <p:par>
                                <p:cTn id="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abic Transparent"/>
              </a:rPr>
              <a:t>1.Внутренняя энергия идеального одноатомного г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059280" y="981000"/>
                <a:ext cx="1873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30200" y="1911240"/>
                <a:ext cx="1597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859280" y="2124000"/>
                <a:ext cx="1473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611280" y="2124000"/>
            <a:ext cx="5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2054160"/>
            <a:ext cx="884160" cy="641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43440" y="2054160"/>
            <a:ext cx="809640" cy="641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03640" y="2695680"/>
            <a:ext cx="293760" cy="1000080"/>
          </a:xfrm>
          <a:custGeom>
            <a:avLst/>
            <a:gdLst>
              <a:gd name="textAreaLeft" fmla="*/ 0 w 293760"/>
              <a:gd name="textAreaRight" fmla="*/ 106200 w 293760"/>
              <a:gd name="textAreaTop" fmla="*/ 25920 h 1000080"/>
              <a:gd name="textAreaBottom" fmla="*/ 97416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25527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яя энергия идеального одноатомного газа прямо пропорциональна его абсолютной темпера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5840" y="2925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U]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87640" y="2852640"/>
                <a:ext cx="17686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68360" y="443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abic Transparent"/>
              </a:rPr>
              <a:t>2. Внутренняя энергия для неидеаль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059280" y="5157720"/>
                <a:ext cx="25923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8423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0629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770256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83640" y="1440"/>
            <a:ext cx="360360" cy="3682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100"/>
                            </p:stCondLst>
                            <p:childTnLst>
                              <p:par>
                                <p:cTn id="2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1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6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6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60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100"/>
                            </p:stCondLst>
                            <p:childTnLst>
                              <p:par>
                                <p:cTn id="267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6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900"/>
                            </p:stCondLst>
                            <p:childTnLst>
                              <p:par>
                                <p:cTn id="276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350"/>
                            </p:stCondLst>
                            <p:childTnLst>
                              <p:par>
                                <p:cTn id="28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35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8360" y="0"/>
            <a:ext cx="8136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0106"/>
                <a:gd name="adj2" fmla="val 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 в термодинамик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341360"/>
            <a:ext cx="70563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f232"/>
                </a:solidFill>
                <a:latin typeface="Arial"/>
              </a:rPr>
              <a:t>F’</a:t>
            </a:r>
            <a:r>
              <a:rPr b="1" lang="en-US" sz="2000" spc="-1" strike="noStrike">
                <a:solidFill>
                  <a:srgbClr val="e0f232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сила, с которой газ давит на порш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f232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e0f23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0f232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сила, с которой поршень давит на г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f232"/>
                </a:solidFill>
                <a:latin typeface="Arial"/>
              </a:rPr>
              <a:t>A’</a:t>
            </a:r>
            <a:r>
              <a:rPr b="1" lang="ru-RU" sz="1800" spc="-1" strike="noStrike">
                <a:solidFill>
                  <a:srgbClr val="e0f23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0f232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работа, совершаемая газом над внешними тел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f232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e0f23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0f232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работа, совершаемая внешними телами над газ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826920" y="27082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f232"/>
                </a:solidFill>
                <a:latin typeface="Arial"/>
              </a:rPr>
              <a:t>Вычислени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5013360"/>
            <a:ext cx="3168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A’=F’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  <a:ea typeface="Arial"/>
              </a:rPr>
              <a:t>∆h=pS∆h=p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∆V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A=-A’&l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9640" y="3573360"/>
            <a:ext cx="1879560" cy="1225440"/>
            <a:chOff x="539640" y="3573360"/>
            <a:chExt cx="1879560" cy="1225440"/>
          </a:xfrm>
        </p:grpSpPr>
        <p:sp>
          <p:nvSpPr>
            <p:cNvPr id="96" name=""/>
            <p:cNvSpPr/>
            <p:nvPr/>
          </p:nvSpPr>
          <p:spPr>
            <a:xfrm>
              <a:off x="539640" y="4149720"/>
              <a:ext cx="1212840" cy="649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9640" y="4056120"/>
              <a:ext cx="1212840" cy="90360"/>
            </a:xfrm>
            <a:prstGeom prst="rect">
              <a:avLst/>
            </a:prstGeom>
            <a:solidFill>
              <a:srgbClr val="080808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640" y="4508280"/>
              <a:ext cx="1212840" cy="0"/>
            </a:xfrm>
            <a:prstGeom prst="line">
              <a:avLst/>
            </a:prstGeom>
            <a:ln w="28440">
              <a:solidFill>
                <a:srgbClr val="08080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52480" y="3592440"/>
              <a:ext cx="0" cy="1203120"/>
            </a:xfrm>
            <a:prstGeom prst="line">
              <a:avLst/>
            </a:prstGeom>
            <a:ln w="28440">
              <a:solidFill>
                <a:srgbClr val="e0f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9640" y="4795560"/>
              <a:ext cx="1212840" cy="0"/>
            </a:xfrm>
            <a:prstGeom prst="line">
              <a:avLst/>
            </a:prstGeom>
            <a:ln w="28440">
              <a:solidFill>
                <a:srgbClr val="e0f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9640" y="3592440"/>
              <a:ext cx="0" cy="1203120"/>
            </a:xfrm>
            <a:prstGeom prst="line">
              <a:avLst/>
            </a:prstGeom>
            <a:ln w="28440">
              <a:solidFill>
                <a:srgbClr val="e0f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088640" y="4240080"/>
              <a:ext cx="0" cy="18432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5280" y="357336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ff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8560" y="4149720"/>
              <a:ext cx="6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F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58160" y="3870360"/>
              <a:ext cx="111240" cy="185760"/>
            </a:xfrm>
            <a:prstGeom prst="line">
              <a:avLst/>
            </a:prstGeom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52480" y="4518000"/>
              <a:ext cx="330120" cy="0"/>
            </a:xfrm>
            <a:prstGeom prst="line">
              <a:avLst/>
            </a:prstGeom>
            <a:ln w="9360">
              <a:solidFill>
                <a:srgbClr val="239e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2480" y="4146480"/>
              <a:ext cx="330120" cy="0"/>
            </a:xfrm>
            <a:prstGeom prst="line">
              <a:avLst/>
            </a:prstGeom>
            <a:ln w="9360">
              <a:solidFill>
                <a:srgbClr val="239e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71360" y="4146480"/>
              <a:ext cx="0" cy="371520"/>
            </a:xfrm>
            <a:prstGeom prst="line">
              <a:avLst/>
            </a:prstGeom>
            <a:ln w="9360">
              <a:solidFill>
                <a:srgbClr val="239ee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79280" y="414972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ff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9528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1. Газ расшир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59421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аз передаёт энергию окружа-ющим телам и охлажд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56360" y="3645000"/>
            <a:ext cx="1950480" cy="1306440"/>
            <a:chOff x="6156360" y="3645000"/>
            <a:chExt cx="1950480" cy="1306440"/>
          </a:xfrm>
        </p:grpSpPr>
        <p:sp>
          <p:nvSpPr>
            <p:cNvPr id="113" name=""/>
            <p:cNvSpPr/>
            <p:nvPr/>
          </p:nvSpPr>
          <p:spPr>
            <a:xfrm>
              <a:off x="6227640" y="4110120"/>
              <a:ext cx="43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ff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56360" y="4653000"/>
              <a:ext cx="1211040" cy="298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56360" y="4543560"/>
              <a:ext cx="1211040" cy="98280"/>
            </a:xfrm>
            <a:prstGeom prst="rect">
              <a:avLst/>
            </a:prstGeom>
            <a:solidFill>
              <a:srgbClr val="080808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56360" y="4143600"/>
              <a:ext cx="1211040" cy="0"/>
            </a:xfrm>
            <a:prstGeom prst="line">
              <a:avLst/>
            </a:prstGeom>
            <a:ln w="28440">
              <a:solidFill>
                <a:srgbClr val="08080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7400" y="3645000"/>
              <a:ext cx="0" cy="1295280"/>
            </a:xfrm>
            <a:prstGeom prst="line">
              <a:avLst/>
            </a:prstGeom>
            <a:ln w="28440">
              <a:solidFill>
                <a:srgbClr val="e0f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56360" y="4940280"/>
              <a:ext cx="1211040" cy="0"/>
            </a:xfrm>
            <a:prstGeom prst="line">
              <a:avLst/>
            </a:prstGeom>
            <a:ln w="28440">
              <a:solidFill>
                <a:srgbClr val="e0f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6360" y="3645000"/>
              <a:ext cx="0" cy="1295280"/>
            </a:xfrm>
            <a:prstGeom prst="line">
              <a:avLst/>
            </a:prstGeom>
            <a:ln w="28440">
              <a:solidFill>
                <a:srgbClr val="e0f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16600" y="4044960"/>
              <a:ext cx="65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ff99"/>
                  </a:solidFill>
                  <a:latin typeface="Arial"/>
                </a:rPr>
                <a:t>F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300360" y="4365720"/>
              <a:ext cx="110880" cy="200160"/>
            </a:xfrm>
            <a:prstGeom prst="line">
              <a:avLst/>
            </a:prstGeom>
            <a:ln w="9360">
              <a:solidFill>
                <a:srgbClr val="e0f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67400" y="4543560"/>
              <a:ext cx="329760" cy="0"/>
            </a:xfrm>
            <a:prstGeom prst="line">
              <a:avLst/>
            </a:prstGeom>
            <a:ln w="9360">
              <a:solidFill>
                <a:srgbClr val="239e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67400" y="4143600"/>
              <a:ext cx="329760" cy="0"/>
            </a:xfrm>
            <a:prstGeom prst="line">
              <a:avLst/>
            </a:prstGeom>
            <a:ln w="9360">
              <a:solidFill>
                <a:srgbClr val="239e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88080" y="4143600"/>
              <a:ext cx="0" cy="399960"/>
            </a:xfrm>
            <a:prstGeom prst="line">
              <a:avLst/>
            </a:prstGeom>
            <a:ln w="9360">
              <a:solidFill>
                <a:srgbClr val="239ee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67280" y="41497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ff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06800" y="4245120"/>
              <a:ext cx="0" cy="196920"/>
            </a:xfrm>
            <a:prstGeom prst="line">
              <a:avLst/>
            </a:prstGeom>
            <a:ln w="28440">
              <a:solidFill>
                <a:srgbClr val="e0f2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724360" y="327672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2. Газ сжим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5084640"/>
            <a:ext cx="223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A’=-p ∆V&l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A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595008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аз получает энергию от вне- шних тел и нагре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8423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80629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70256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83640" y="1440"/>
            <a:ext cx="360360" cy="3682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8 L 0.075 0.06529 C 0.08 0.07328 0.088 0.07728 0.098 0.07728 C 0.112 0.07728 0.124 0.06662 0.125 0.05063 C 0.124 0.03731 0.112 0.02532 0.098 0.02532 C 0.088 0.02532 0.08 0.03065 0.075 0.03731 L 0.052 0.07461 C 0.042 0.0906 0.023 0.10126 0 0.1026 C -0.023 0.10126 -0.042 0.0906 -0.052 0.07461 L -0.075 0.03731 C -0.08 0.03065 -0.088 0.02532 -0.098 0.02532 C -0.112 0.02532 -0.124 0.03731 -0.125 0.05063 C -0.124 0.06662 -0.112 0.07728 -0.098 0.07728 C -0.088 0.07728 -0.08 0.07328 -0.075 0.06529 L -0.052 0.02798 C -0.042 0.01199 -0.023 0.00133 0 0 Z">
                                      <p:cBhvr>
                                        <p:cTn id="32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2300"/>
                            </p:stCondLst>
                            <p:childTnLst>
                              <p:par>
                                <p:cTn id="332" nodeType="afterEffect" fill="hold" presetClass="entr" presetID="39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300"/>
                            </p:stCondLst>
                            <p:childTnLst>
                              <p:par>
                                <p:cTn id="3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63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6800"/>
                            </p:stCondLst>
                            <p:childTnLst>
                              <p:par>
                                <p:cTn id="349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36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46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6100"/>
                            </p:stCondLst>
                            <p:childTnLst>
                              <p:par>
                                <p:cTn id="3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6600"/>
                            </p:stCondLst>
                            <p:childTnLst>
                              <p:par>
                                <p:cTn id="371" nodeType="afterEffect" fill="hold" presetClass="entr" presetID="48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13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32000" y="18900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836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3dd3"/>
                </a:solidFill>
                <a:latin typeface="Arial"/>
              </a:rPr>
              <a:t>Закон сохранения и превращения энергии в применении к тепловым процес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1939"/>
                </a:solidFill>
                <a:latin typeface="Arial"/>
              </a:rPr>
              <a:t>∆</a:t>
            </a:r>
            <a:r>
              <a:rPr b="1" lang="en-US" sz="2400" spc="-1" strike="noStrike">
                <a:solidFill>
                  <a:srgbClr val="d91939"/>
                </a:solidFill>
                <a:latin typeface="Arial"/>
              </a:rPr>
              <a:t>U=A+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1700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 общем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луч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263700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3dd3"/>
                </a:solidFill>
                <a:latin typeface="Arial"/>
              </a:rPr>
              <a:t>Изменение внутренней энергии системы при переходе её из одного состояния в другое равно сумме работы внешних сил и количества теплоты, переданного 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4653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1939"/>
                </a:solidFill>
                <a:latin typeface="Arial"/>
              </a:rPr>
              <a:t>Q= ∆U+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522936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Количество теплоты, переданное системе, идёт на изменение её внутренней энергии и на совершение системой работы над внешними т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8423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0629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770256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26920" y="115920"/>
            <a:ext cx="705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02388" dir="19816807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Первый закон терморинамики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02388" dir="19816807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8783640" y="1440"/>
            <a:ext cx="360360" cy="3682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5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9500"/>
                            </p:stCondLst>
                            <p:childTnLst>
                              <p:par>
                                <p:cTn id="4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11280" y="404640"/>
            <a:ext cx="7993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плообмен в замкнутой систем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341360"/>
            <a:ext cx="74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Изменение внутренней энергии системы происходит только путём теплопере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220500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ff"/>
                </a:solidFill>
                <a:latin typeface="Arial"/>
              </a:rPr>
              <a:t>Первый закон термодинамики для </a:t>
            </a:r>
            <a:r>
              <a:rPr b="1" lang="en-US" sz="2000" spc="-1" strike="noStrike">
                <a:solidFill>
                  <a:srgbClr val="cc66ff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cc66ff"/>
                </a:solidFill>
                <a:latin typeface="Arial"/>
              </a:rPr>
              <a:t>-ого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99736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3284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Arial"/>
              </a:rPr>
              <a:t>Для всех тел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436572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5229360"/>
            <a:ext cx="53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566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личество теплоты, полученное телом, считают положительным. Количество теплоты, отданное телом, считают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47640" y="5229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Уравнение теплового 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8423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80629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770256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39337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637000"/>
            <a:ext cx="270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∆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U</a:t>
            </a:r>
            <a:r>
              <a:rPr b="1" lang="en-US" sz="3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=Q</a:t>
            </a:r>
            <a:r>
              <a:rPr b="1" lang="en-US" sz="3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3645000"/>
            <a:ext cx="453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1939"/>
                </a:solidFill>
                <a:latin typeface="Arial"/>
                <a:ea typeface="Arial"/>
              </a:rPr>
              <a:t>∆</a:t>
            </a:r>
            <a:r>
              <a:rPr b="1" lang="en-US" sz="3200" spc="-1" strike="noStrike">
                <a:solidFill>
                  <a:srgbClr val="d91939"/>
                </a:solidFill>
                <a:latin typeface="Arial"/>
                <a:ea typeface="Arial"/>
              </a:rPr>
              <a:t>U</a:t>
            </a:r>
            <a:r>
              <a:rPr b="1" lang="en-US" sz="3200" spc="-1" strike="noStrike" baseline="-25000">
                <a:solidFill>
                  <a:srgbClr val="d91939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d91939"/>
                </a:solidFill>
                <a:latin typeface="Arial"/>
                <a:ea typeface="Arial"/>
              </a:rPr>
              <a:t>+U</a:t>
            </a:r>
            <a:r>
              <a:rPr b="1" lang="en-US" sz="3200" spc="-1" strike="noStrike" baseline="-25000">
                <a:solidFill>
                  <a:srgbClr val="d91939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d91939"/>
                </a:solidFill>
                <a:latin typeface="Arial"/>
                <a:ea typeface="Arial"/>
              </a:rPr>
              <a:t>+U</a:t>
            </a:r>
            <a:r>
              <a:rPr b="1" lang="en-US" sz="3200" spc="-1" strike="noStrike" baseline="-25000">
                <a:solidFill>
                  <a:srgbClr val="d91939"/>
                </a:solidFill>
                <a:latin typeface="Arial"/>
                <a:ea typeface="Arial"/>
              </a:rPr>
              <a:t>3</a:t>
            </a:r>
            <a:r>
              <a:rPr b="1" lang="en-US" sz="3200" spc="-1" strike="noStrike">
                <a:solidFill>
                  <a:srgbClr val="d91939"/>
                </a:solidFill>
                <a:latin typeface="Arial"/>
                <a:ea typeface="Arial"/>
              </a:rPr>
              <a:t>+…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4581360"/>
            <a:ext cx="345600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Q1+Q2+Q3+…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endshow"/>
          </p:cNvPr>
          <p:cNvSpPr/>
          <p:nvPr/>
        </p:nvSpPr>
        <p:spPr>
          <a:xfrm>
            <a:off x="8783640" y="-27000"/>
            <a:ext cx="360360" cy="3682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6600"/>
                            </p:stCondLst>
                            <p:childTnLst>
                              <p:par>
                                <p:cTn id="497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1400"/>
                            </p:stCondLst>
                            <p:childTnLst>
                              <p:par>
                                <p:cTn id="5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3400"/>
                            </p:stCondLst>
                            <p:childTnLst>
                              <p:par>
                                <p:cTn id="5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40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9400"/>
                            </p:stCondLst>
                            <p:childTnLst>
                              <p:par>
                                <p:cTn id="5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1400"/>
                            </p:stCondLst>
                            <p:childTnLst>
                              <p:par>
                                <p:cTn id="5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3400"/>
                            </p:stCondLst>
                            <p:childTnLst>
                              <p:par>
                                <p:cTn id="5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5640" y="260280"/>
            <a:ext cx="698508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63504" dir="3183908" blurRad="0" rotWithShape="0">
                    <a:srgbClr val="99ccff">
                      <a:alpha val="80000"/>
                    </a:srgbClr>
                  </a:outerShdw>
                </a:effectLst>
                <a:latin typeface="Times New Roman"/>
              </a:rPr>
              <a:t>Второй закон термодинамик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63504" dir="3183908" blurRad="0" rotWithShape="0">
                  <a:srgbClr val="99cc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557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казывает направление возможных энергетических превра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2276640"/>
            <a:ext cx="8064360" cy="43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d9193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91939"/>
                </a:solidFill>
                <a:latin typeface="Arial"/>
              </a:rPr>
              <a:t>Р. Клаузиус (1850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невозможно перевести теплоту от более холодной системы к более горячей при отсутствии других одновременных изменениях в обеих системах или окружающих те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91939"/>
                </a:solidFill>
                <a:latin typeface="Arial"/>
              </a:rPr>
              <a:t>2. В. Томсон (1851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невозможен круговой процесс, единственным результатом которого было бы производство работы за счёт охлаждения теплового резерву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91939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Вечный двигатель второго рода невозможен (двигатель, который мог бы работать, не вступая в теплообмен с телами различной температу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842328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78364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80629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770256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783640" y="1440"/>
            <a:ext cx="360360" cy="3682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7 -0.033 -0.06133 -0.027 -0.1 C -0.024 -0.11333 -0.02 -0.12667 -0.014 -0.13733 C -0.01 -0.10667 0.004 -0.07867 0.025 -0.06133 C 0.025 -0.09867 0.041 -0.13467 0.068 -0.15067 C 0.077 -0.15733 0.087 -0.16 0.097 -0.16133 C 0.082 -0.13867 0.074 -0.10667 0.077 -0.07333 C 0.099 -0.09733 0.13 -0.10267 0.157 -0.08533 C 0.166 -0.08 0.175 -0.07067 0.181 -0.06133 C 0.158 -0.064 0.134 -0.052 0.117 -0.028 C 0.144 -0.02 0.167 0.008 0.174 0.04667 C 0.176 0.06 0.176 0.07333 0.174 0.08667 C 0.161 0.06133 0.139 0.044 0.115 0.04133 C 0.127 0.07467 0.124 0.116 0.106 0.14667 C 0.099 0.15733 0.091 0.16667 0.082 0.172 C 0.089 0.14267 0.085 0.10933 0.072 0.08267 C 0.06 0.116 0.034 0.13867 0.004 0.13867 C -0.007 0.13867 -0.017 0.136 -0.026 0.13067 C -0.004 0.12 0.013 0.09467 0.021 0.064 C -0.007 0.072 -0.036 0.06 -0.055 0.02933 C -0.062 0.01733 -0.066 0.00533 -0.069 -0.008 C -0.049 0.00933 -0.023 0.012 0 0 Z">
                                      <p:cBhvr>
                                        <p:cTn id="58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9300"/>
                            </p:stCondLst>
                            <p:childTnLst>
                              <p:par>
                                <p:cTn id="592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4700"/>
                            </p:stCondLst>
                            <p:childTnLst>
                              <p:par>
                                <p:cTn id="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900"/>
                            </p:stCondLst>
                            <p:childTnLst>
                              <p:par>
                                <p:cTn id="605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6300"/>
                            </p:stCondLst>
                            <p:childTnLst>
                              <p:par>
                                <p:cTn id="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1500"/>
                            </p:stCondLst>
                            <p:childTnLst>
                              <p:par>
                                <p:cTn id="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5:53:44Z</dcterms:created>
  <dc:creator>Учащийся 2</dc:creator>
  <dc:description/>
  <dc:language>en-US</dc:language>
  <cp:lastModifiedBy>User</cp:lastModifiedBy>
  <dcterms:modified xsi:type="dcterms:W3CDTF">2009-11-25T06:44:59Z</dcterms:modified>
  <cp:revision>8</cp:revision>
  <dc:subject/>
  <dc:title>Слайд 1</dc:title>
</cp:coreProperties>
</file>