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3D92-794C-4922-B7B9-D10085BB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01B-7E6F-414C-B254-9C9F7C3F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8C0D-DEFF-428D-B709-C3229BDB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227D-9E6F-45FE-AAC8-66577884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978F-9D44-445C-A68A-F6A2FA8E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7F8-90F7-4B7B-9EAF-F9B4635B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E80-6FFC-4512-B84D-6AB0F081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D95-8783-49FD-ABCC-8E3F0AED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FD7-9A6A-4B4D-B1EF-63DFBFC8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2986-0E3B-473A-B032-84162C91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702-44BA-4741-9644-4FCC3800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6F1-F949-4F39-9AD2-27F3218F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BCA4-BD11-403A-BD98-AACCCE111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47628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99"/>
                </a:solidFill>
                <a:latin typeface="Arial"/>
              </a:rPr>
              <a:t>Биолог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34936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66"/>
                </a:solidFill>
                <a:latin typeface="Arial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00360" y="2349360"/>
            <a:ext cx="568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cc00"/>
                </a:solidFill>
                <a:latin typeface="Arial"/>
              </a:rPr>
              <a:t>Опорно-двигательная систем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4724280"/>
            <a:ext cx="51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           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5877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ccff"/>
                </a:solidFill>
                <a:latin typeface="Arial"/>
              </a:rPr>
              <a:t>Авторы: Ермолаевы Олеся и Евг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675640" y="47628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3794" y="5660"/>
                </a:moveTo>
                <a:lnTo>
                  <a:pt x="17806" y="12666"/>
                </a:lnTo>
                <a:lnTo>
                  <a:pt x="3794" y="19673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677440" y="0"/>
            <a:ext cx="466560" cy="4665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lastslide"/>
          </p:cNvPr>
          <p:cNvSpPr/>
          <p:nvPr/>
        </p:nvSpPr>
        <p:spPr>
          <a:xfrm>
            <a:off x="8675640" y="98100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4299" y="11605"/>
                </a:moveTo>
                <a:lnTo>
                  <a:pt x="3794" y="18611"/>
                </a:lnTo>
                <a:lnTo>
                  <a:pt x="3794" y="4598"/>
                </a:lnTo>
                <a:close/>
              </a:path>
              <a:path fill="darken" w="21600" h="23209">
                <a:moveTo>
                  <a:pt x="16144" y="4598"/>
                </a:moveTo>
                <a:lnTo>
                  <a:pt x="16144" y="18611"/>
                </a:lnTo>
                <a:lnTo>
                  <a:pt x="17806" y="18611"/>
                </a:lnTo>
                <a:lnTo>
                  <a:pt x="17806" y="4598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667 0.028 -0.08267 0.062 -0.08267 C 0.097 -0.08267 0.125 -0.04667 0.125 0 C 0.125 0.04667 0.153 0.08267 0.188 0.08267 C 0.222 0.08267 0.25 0.04667 0.25 0 E">
                                      <p:cBhvr>
                                        <p:cTn id="15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59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47640" y="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Строение к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47628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Кости  образованы костной тканью, которая является разновидностью соединительной ткани. Большинство костей состоит из наружного компактного (плотного) и внутреннего губчатого вещества. Снаружи кость покрыта оболочкой- надкостницей (исключая суставные поверхности), которую пронизывают кровеносные сосуды, питающие кр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285264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Мышцы шеи  участвуют в повороте головы и ше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328464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Мышцы туловищ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619280" y="3645000"/>
            <a:ext cx="1008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08720" y="3573360"/>
            <a:ext cx="1150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67280" y="364500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365720"/>
            <a:ext cx="22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ышцы груд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5013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ышцы сп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0720" y="429264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Мышцы жив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653000"/>
            <a:ext cx="23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вижение рук, процесс дыхания, движение пле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24000" y="537372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537372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66100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ежрёберные мыш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5661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иафраг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616572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258920" y="5950080"/>
            <a:ext cx="1009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623736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процессе дых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5229360"/>
            <a:ext cx="1871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иведение рук в движение, сгибания и разгибания позвоночника, и его повор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4581360"/>
            <a:ext cx="23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клоны туловища вперёд и в сторо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19280" y="620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Поперечнополостные мыш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115640" y="981000"/>
            <a:ext cx="1152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981000"/>
            <a:ext cx="7164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90792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Arial"/>
              </a:rPr>
              <a:t>Скел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19640" y="1916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Arial"/>
              </a:rPr>
              <a:t>серде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20000" y="1628640"/>
            <a:ext cx="14396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Arial"/>
              </a:rPr>
              <a:t>Гладкие</a:t>
            </a:r>
            <a:r>
              <a:rPr b="1" i="1" lang="en-US" sz="1800" spc="-1" strike="noStrike">
                <a:solidFill>
                  <a:srgbClr val="66ffff"/>
                </a:solidFill>
                <a:latin typeface="Arial"/>
              </a:rPr>
              <a:t>(пищевод, желудок, кишечник, кровеносные сосуды, трахея и бронхи, мочевой пузы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 rot="10800000">
            <a:off x="-360" y="3141360"/>
            <a:ext cx="70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У человека более 600 мышц. Снаружи мышцы покрыты фасцией(соединительнотканная оболочка). На концах скелетных мышц расположены сухожилия, образованные из прочной соединительной ткани. Основная функция мышц движение и ориентация организма в пространстве, а также равновесие. Мышцы выражающие эмоции называются мимическими. Мышцы глаз по строению являются круговыми. Мышцы рта и жевательные, и круг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0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24000" y="69228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Мышцы верхних конеч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692360" y="333360"/>
            <a:ext cx="287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59640" y="333360"/>
            <a:ext cx="28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1052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лечевого поя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765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7640" y="1341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020000" y="98100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</a:rPr>
              <a:t>Развитые мыш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1413000"/>
            <a:ext cx="453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ffff"/>
                </a:solidFill>
                <a:latin typeface="Arial"/>
              </a:rPr>
              <a:t>Трапециевидная мышца поднимает плечо, дельтовидная мышца поднимает руку, двуглавая мышца (бицепс) сгибает её, а трёхглавая (трицепс)- разгиба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285264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Мышцы нижних конеч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971280" y="3213000"/>
            <a:ext cx="136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24360" y="32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32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321300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3645000"/>
            <a:ext cx="20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Тазового поя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371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е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88000" y="3716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гол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93080" y="3500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то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3933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24360" y="4076640"/>
            <a:ext cx="165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8000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580000" y="3789360"/>
            <a:ext cx="216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221000"/>
            <a:ext cx="29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Большие, малые и средние ягодичные мыш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40360" y="4437000"/>
            <a:ext cx="35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Четырёхглавая мышца бедра и трёхглавая икроножная мыш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6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08000" y="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6206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При растяжении связок – холод + тугая повязка и вра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125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При вывихе суставов – покой и врач-хирург + хол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1628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При переломе открытом или закрытом больного обездвиживают, останавливают кровотечение, зачищают рану от загрязнения, закрыв её стерильной давящей повязкой + шина и вр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5640" y="314172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При переломах черепа и позвоночника больного лучше не трогать до прихода врача. В крайнем случае при транспортировке больного с переломом позвоночника его осторожно перекладывают лицом вниз на твёрдую поверхность. При переломе рёбер пострадавшего просят сделать глубокий выдох и туго перебинтовывают грудную клетку. Если повреждена ключица или лопатка, на плечи одеваются сделанные из ткани кольца и связываются на сп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4" dur="5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8" dur="5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2" dur="5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6" dur="5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47628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л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557360"/>
            <a:ext cx="8207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1253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Опорно-двигательная сист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7733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.Функции скелета и виды к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3573360"/>
            <a:ext cx="6842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3357720"/>
            <a:ext cx="77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8.Соединение, строение и состав к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20606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.Скелет тулов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515772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1.Мышцы тулов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378936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9.Первой медицинская помощь при растяжении, вывихе и перело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Отделы скелета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2349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5.Скелет головы(череп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2637000"/>
            <a:ext cx="66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6.Скелет верхних конеч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3284640"/>
            <a:ext cx="662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292428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7.Скелет нижних конеч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458136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.Виды мыш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56610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.Мышцы верхних и нижних конеч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3794" y="8375"/>
                </a:moveTo>
                <a:lnTo>
                  <a:pt x="7301" y="8375"/>
                </a:lnTo>
                <a:lnTo>
                  <a:pt x="7301" y="13711"/>
                </a:lnTo>
                <a:cubicBezTo>
                  <a:pt x="7301" y="14633"/>
                  <a:pt x="8102" y="15364"/>
                  <a:pt x="9138" y="15364"/>
                </a:cubicBezTo>
                <a:lnTo>
                  <a:pt x="10800" y="15364"/>
                </a:lnTo>
                <a:cubicBezTo>
                  <a:pt x="11836" y="15364"/>
                  <a:pt x="12636" y="14633"/>
                  <a:pt x="12636" y="13711"/>
                </a:cubicBezTo>
                <a:lnTo>
                  <a:pt x="12636" y="8375"/>
                </a:lnTo>
                <a:lnTo>
                  <a:pt x="10800" y="8375"/>
                </a:lnTo>
                <a:lnTo>
                  <a:pt x="14308" y="4868"/>
                </a:lnTo>
                <a:lnTo>
                  <a:pt x="17981" y="8375"/>
                </a:lnTo>
                <a:lnTo>
                  <a:pt x="16144" y="8375"/>
                </a:lnTo>
                <a:lnTo>
                  <a:pt x="16144" y="13711"/>
                </a:lnTo>
                <a:cubicBezTo>
                  <a:pt x="16144" y="16478"/>
                  <a:pt x="13568" y="19037"/>
                  <a:pt x="10800" y="19037"/>
                </a:cubicBezTo>
                <a:lnTo>
                  <a:pt x="9138" y="19037"/>
                </a:lnTo>
                <a:cubicBezTo>
                  <a:pt x="6370" y="19037"/>
                  <a:pt x="3794" y="16478"/>
                  <a:pt x="3794" y="13711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lastslide"/>
          </p:cNvPr>
          <p:cNvSpPr/>
          <p:nvPr/>
        </p:nvSpPr>
        <p:spPr>
          <a:xfrm>
            <a:off x="8675640" y="587700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4299" y="11605"/>
                </a:moveTo>
                <a:lnTo>
                  <a:pt x="3794" y="18611"/>
                </a:lnTo>
                <a:lnTo>
                  <a:pt x="3794" y="4598"/>
                </a:lnTo>
                <a:close/>
              </a:path>
              <a:path fill="darken" w="21600" h="23209">
                <a:moveTo>
                  <a:pt x="16144" y="4598"/>
                </a:moveTo>
                <a:lnTo>
                  <a:pt x="16144" y="18611"/>
                </a:lnTo>
                <a:lnTo>
                  <a:pt x="17806" y="18611"/>
                </a:lnTo>
                <a:lnTo>
                  <a:pt x="17806" y="4598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8675640" y="5373720"/>
            <a:ext cx="468360" cy="50472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276">
                <a:moveTo>
                  <a:pt x="0" y="0"/>
                </a:moveTo>
                <a:lnTo>
                  <a:pt x="21600" y="0"/>
                </a:lnTo>
                <a:lnTo>
                  <a:pt x="21600" y="23276"/>
                </a:lnTo>
                <a:lnTo>
                  <a:pt x="0" y="23276"/>
                </a:lnTo>
                <a:close/>
              </a:path>
              <a:path fill="lightenLess" w="21600" h="232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6">
                <a:moveTo>
                  <a:pt x="21600" y="0"/>
                </a:moveTo>
                <a:lnTo>
                  <a:pt x="21600" y="23276"/>
                </a:lnTo>
                <a:lnTo>
                  <a:pt x="20200" y="21876"/>
                </a:lnTo>
                <a:lnTo>
                  <a:pt x="20200" y="1400"/>
                </a:lnTo>
                <a:close/>
              </a:path>
              <a:path fill="darkenLess" w="21600" h="23276">
                <a:moveTo>
                  <a:pt x="21600" y="23276"/>
                </a:moveTo>
                <a:lnTo>
                  <a:pt x="0" y="23276"/>
                </a:lnTo>
                <a:lnTo>
                  <a:pt x="1400" y="21876"/>
                </a:lnTo>
                <a:lnTo>
                  <a:pt x="20200" y="21876"/>
                </a:lnTo>
                <a:close/>
              </a:path>
              <a:path fill="lighten" w="21600" h="23276">
                <a:moveTo>
                  <a:pt x="0" y="232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6"/>
                </a:lnTo>
                <a:close/>
              </a:path>
              <a:path fill="darken" w="21600" h="23276">
                <a:moveTo>
                  <a:pt x="7301" y="11638"/>
                </a:moveTo>
                <a:lnTo>
                  <a:pt x="17806" y="4631"/>
                </a:lnTo>
                <a:lnTo>
                  <a:pt x="17806" y="18644"/>
                </a:lnTo>
                <a:close/>
              </a:path>
              <a:path fill="darken" w="21600" h="23276">
                <a:moveTo>
                  <a:pt x="3794" y="4631"/>
                </a:moveTo>
                <a:lnTo>
                  <a:pt x="5456" y="4631"/>
                </a:lnTo>
                <a:lnTo>
                  <a:pt x="5456" y="18644"/>
                </a:lnTo>
                <a:lnTo>
                  <a:pt x="3794" y="18644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8677440" y="4869000"/>
            <a:ext cx="466560" cy="4665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675640" y="4292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3794" y="5660"/>
                </a:moveTo>
                <a:lnTo>
                  <a:pt x="17806" y="12666"/>
                </a:lnTo>
                <a:lnTo>
                  <a:pt x="3794" y="19673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8675640" y="3716280"/>
            <a:ext cx="468360" cy="53964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39640"/>
              <a:gd name="textAreaBottom" fmla="*/ 509400 h 539640"/>
            </a:gdLst>
            <a:ahLst/>
            <a:rect l="textAreaLeft" t="textAreaTop" r="textAreaRight" b="textAreaBottom"/>
            <a:pathLst>
              <a:path w="21600" h="24885">
                <a:moveTo>
                  <a:pt x="0" y="0"/>
                </a:moveTo>
                <a:lnTo>
                  <a:pt x="21600" y="0"/>
                </a:lnTo>
                <a:lnTo>
                  <a:pt x="21600" y="24885"/>
                </a:lnTo>
                <a:lnTo>
                  <a:pt x="0" y="24885"/>
                </a:lnTo>
                <a:close/>
              </a:path>
              <a:path fill="lightenLess" w="21600" h="248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85">
                <a:moveTo>
                  <a:pt x="21600" y="0"/>
                </a:moveTo>
                <a:lnTo>
                  <a:pt x="21600" y="24885"/>
                </a:lnTo>
                <a:lnTo>
                  <a:pt x="20200" y="23485"/>
                </a:lnTo>
                <a:lnTo>
                  <a:pt x="20200" y="1400"/>
                </a:lnTo>
                <a:close/>
              </a:path>
              <a:path fill="darkenLess" w="21600" h="24885">
                <a:moveTo>
                  <a:pt x="21600" y="24885"/>
                </a:moveTo>
                <a:lnTo>
                  <a:pt x="0" y="24885"/>
                </a:lnTo>
                <a:lnTo>
                  <a:pt x="1400" y="23485"/>
                </a:lnTo>
                <a:lnTo>
                  <a:pt x="20200" y="23485"/>
                </a:lnTo>
                <a:close/>
              </a:path>
              <a:path fill="lighten" w="21600" h="24885">
                <a:moveTo>
                  <a:pt x="0" y="248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85"/>
                </a:lnTo>
                <a:close/>
              </a:path>
              <a:path fill="darken" w="21600" h="24885">
                <a:moveTo>
                  <a:pt x="10800" y="5479"/>
                </a:moveTo>
                <a:lnTo>
                  <a:pt x="13376" y="8091"/>
                </a:lnTo>
                <a:lnTo>
                  <a:pt x="13376" y="6350"/>
                </a:lnTo>
                <a:lnTo>
                  <a:pt x="15152" y="6350"/>
                </a:lnTo>
                <a:lnTo>
                  <a:pt x="15152" y="9866"/>
                </a:lnTo>
                <a:lnTo>
                  <a:pt x="17763" y="12442"/>
                </a:lnTo>
                <a:lnTo>
                  <a:pt x="16109" y="12442"/>
                </a:lnTo>
                <a:lnTo>
                  <a:pt x="16109" y="19632"/>
                </a:lnTo>
                <a:lnTo>
                  <a:pt x="5491" y="19632"/>
                </a:lnTo>
                <a:lnTo>
                  <a:pt x="5491" y="12442"/>
                </a:lnTo>
                <a:lnTo>
                  <a:pt x="3837" y="12442"/>
                </a:lnTo>
                <a:close/>
              </a:path>
              <a:path fill="darkenLess" w="21600" h="24885">
                <a:moveTo>
                  <a:pt x="13376" y="8091"/>
                </a:moveTo>
                <a:lnTo>
                  <a:pt x="13376" y="6350"/>
                </a:lnTo>
                <a:lnTo>
                  <a:pt x="15152" y="6350"/>
                </a:lnTo>
                <a:lnTo>
                  <a:pt x="15152" y="9866"/>
                </a:lnTo>
                <a:close/>
              </a:path>
              <a:path fill="darkenLess" w="21600" h="24885">
                <a:moveTo>
                  <a:pt x="9877" y="15941"/>
                </a:moveTo>
                <a:lnTo>
                  <a:pt x="11723" y="15941"/>
                </a:lnTo>
                <a:lnTo>
                  <a:pt x="11723" y="19632"/>
                </a:lnTo>
                <a:lnTo>
                  <a:pt x="16109" y="19632"/>
                </a:lnTo>
                <a:lnTo>
                  <a:pt x="16109" y="12442"/>
                </a:lnTo>
                <a:lnTo>
                  <a:pt x="5491" y="12442"/>
                </a:lnTo>
                <a:lnTo>
                  <a:pt x="5491" y="19632"/>
                </a:lnTo>
                <a:lnTo>
                  <a:pt x="9877" y="19632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lastslide"/>
          </p:cNvPr>
          <p:cNvSpPr/>
          <p:nvPr/>
        </p:nvSpPr>
        <p:spPr>
          <a:xfrm>
            <a:off x="8675640" y="587700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4299" y="11605"/>
                </a:moveTo>
                <a:lnTo>
                  <a:pt x="3794" y="18611"/>
                </a:lnTo>
                <a:lnTo>
                  <a:pt x="3794" y="4598"/>
                </a:lnTo>
                <a:close/>
              </a:path>
              <a:path fill="darken" w="21600" h="23209">
                <a:moveTo>
                  <a:pt x="16144" y="4598"/>
                </a:moveTo>
                <a:lnTo>
                  <a:pt x="16144" y="18611"/>
                </a:lnTo>
                <a:lnTo>
                  <a:pt x="17806" y="18611"/>
                </a:lnTo>
                <a:lnTo>
                  <a:pt x="17806" y="4598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3794" y="8375"/>
                </a:moveTo>
                <a:lnTo>
                  <a:pt x="7301" y="8375"/>
                </a:lnTo>
                <a:lnTo>
                  <a:pt x="7301" y="13711"/>
                </a:lnTo>
                <a:cubicBezTo>
                  <a:pt x="7301" y="14633"/>
                  <a:pt x="8102" y="15364"/>
                  <a:pt x="9138" y="15364"/>
                </a:cubicBezTo>
                <a:lnTo>
                  <a:pt x="10800" y="15364"/>
                </a:lnTo>
                <a:cubicBezTo>
                  <a:pt x="11836" y="15364"/>
                  <a:pt x="12636" y="14633"/>
                  <a:pt x="12636" y="13711"/>
                </a:cubicBezTo>
                <a:lnTo>
                  <a:pt x="12636" y="8375"/>
                </a:lnTo>
                <a:lnTo>
                  <a:pt x="10800" y="8375"/>
                </a:lnTo>
                <a:lnTo>
                  <a:pt x="14308" y="4868"/>
                </a:lnTo>
                <a:lnTo>
                  <a:pt x="17981" y="8375"/>
                </a:lnTo>
                <a:lnTo>
                  <a:pt x="16144" y="8375"/>
                </a:lnTo>
                <a:lnTo>
                  <a:pt x="16144" y="13711"/>
                </a:lnTo>
                <a:cubicBezTo>
                  <a:pt x="16144" y="16478"/>
                  <a:pt x="13568" y="19037"/>
                  <a:pt x="10800" y="19037"/>
                </a:cubicBezTo>
                <a:lnTo>
                  <a:pt x="9138" y="19037"/>
                </a:lnTo>
                <a:cubicBezTo>
                  <a:pt x="6370" y="19037"/>
                  <a:pt x="3794" y="16478"/>
                  <a:pt x="3794" y="13711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amond(in)" transition="out">
                                      <p:cBhvr additive="repl">
                                        <p:cTn id="1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Опорно-двигательная систе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76360" y="1052640"/>
            <a:ext cx="719280" cy="2057400"/>
          </a:xfrm>
          <a:prstGeom prst="downArrow">
            <a:avLst>
              <a:gd name="adj1" fmla="val 50000"/>
              <a:gd name="adj2" fmla="val 71509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1052640"/>
            <a:ext cx="718920" cy="2057400"/>
          </a:xfrm>
          <a:prstGeom prst="downArrow">
            <a:avLst>
              <a:gd name="adj1" fmla="val 50000"/>
              <a:gd name="adj2" fmla="val 71545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997360"/>
            <a:ext cx="34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ске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6360" y="2924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мыш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8675640" y="6353280"/>
            <a:ext cx="468360" cy="50472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276">
                <a:moveTo>
                  <a:pt x="0" y="0"/>
                </a:moveTo>
                <a:lnTo>
                  <a:pt x="21600" y="0"/>
                </a:lnTo>
                <a:lnTo>
                  <a:pt x="21600" y="23276"/>
                </a:lnTo>
                <a:lnTo>
                  <a:pt x="0" y="23276"/>
                </a:lnTo>
                <a:close/>
              </a:path>
              <a:path fill="lightenLess" w="21600" h="232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6">
                <a:moveTo>
                  <a:pt x="21600" y="0"/>
                </a:moveTo>
                <a:lnTo>
                  <a:pt x="21600" y="23276"/>
                </a:lnTo>
                <a:lnTo>
                  <a:pt x="20200" y="21876"/>
                </a:lnTo>
                <a:lnTo>
                  <a:pt x="20200" y="1400"/>
                </a:lnTo>
                <a:close/>
              </a:path>
              <a:path fill="darkenLess" w="21600" h="23276">
                <a:moveTo>
                  <a:pt x="21600" y="23276"/>
                </a:moveTo>
                <a:lnTo>
                  <a:pt x="0" y="23276"/>
                </a:lnTo>
                <a:lnTo>
                  <a:pt x="1400" y="21876"/>
                </a:lnTo>
                <a:lnTo>
                  <a:pt x="20200" y="21876"/>
                </a:lnTo>
                <a:close/>
              </a:path>
              <a:path fill="lighten" w="21600" h="23276">
                <a:moveTo>
                  <a:pt x="0" y="232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6"/>
                </a:lnTo>
                <a:close/>
              </a:path>
              <a:path fill="darken" w="21600" h="23276">
                <a:moveTo>
                  <a:pt x="7301" y="11638"/>
                </a:moveTo>
                <a:lnTo>
                  <a:pt x="17806" y="4631"/>
                </a:lnTo>
                <a:lnTo>
                  <a:pt x="17806" y="18644"/>
                </a:lnTo>
                <a:close/>
              </a:path>
              <a:path fill="darken" w="21600" h="23276">
                <a:moveTo>
                  <a:pt x="3794" y="4631"/>
                </a:moveTo>
                <a:lnTo>
                  <a:pt x="5456" y="4631"/>
                </a:lnTo>
                <a:lnTo>
                  <a:pt x="5456" y="18644"/>
                </a:lnTo>
                <a:lnTo>
                  <a:pt x="3794" y="18644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4360" y="4762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Отделы скелета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981000"/>
            <a:ext cx="322560" cy="914400"/>
          </a:xfrm>
          <a:prstGeom prst="downArrowCallout">
            <a:avLst>
              <a:gd name="adj1" fmla="val 25002"/>
              <a:gd name="adj2" fmla="val 25000"/>
              <a:gd name="adj3" fmla="val 47247"/>
              <a:gd name="adj4" fmla="val 6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1640" y="981000"/>
            <a:ext cx="322200" cy="914400"/>
          </a:xfrm>
          <a:prstGeom prst="downArrowCallout">
            <a:avLst>
              <a:gd name="adj1" fmla="val 25002"/>
              <a:gd name="adj2" fmla="val 25000"/>
              <a:gd name="adj3" fmla="val 47300"/>
              <a:gd name="adj4" fmla="val 6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93080" y="981000"/>
            <a:ext cx="322200" cy="914400"/>
          </a:xfrm>
          <a:prstGeom prst="downArrowCallout">
            <a:avLst>
              <a:gd name="adj1" fmla="val 25002"/>
              <a:gd name="adj2" fmla="val 25000"/>
              <a:gd name="adj3" fmla="val 47300"/>
              <a:gd name="adj4" fmla="val 6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844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ере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1844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уловищ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1773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2133720"/>
            <a:ext cx="289080" cy="574560"/>
          </a:xfrm>
          <a:prstGeom prst="downArrow">
            <a:avLst>
              <a:gd name="adj1" fmla="val 50000"/>
              <a:gd name="adj2" fmla="val 49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4360" y="2133720"/>
            <a:ext cx="288720" cy="574560"/>
          </a:xfrm>
          <a:prstGeom prst="downArrow">
            <a:avLst>
              <a:gd name="adj1" fmla="val 0"/>
              <a:gd name="adj2" fmla="val 1759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32360" y="2133720"/>
            <a:ext cx="289080" cy="574560"/>
          </a:xfrm>
          <a:prstGeom prst="downArrow">
            <a:avLst>
              <a:gd name="adj1" fmla="val 0"/>
              <a:gd name="adj2" fmla="val 1756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2133720"/>
            <a:ext cx="288720" cy="57456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77080" y="2060640"/>
            <a:ext cx="288720" cy="57456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172360" y="2060640"/>
            <a:ext cx="289080" cy="574560"/>
          </a:xfrm>
          <a:prstGeom prst="downArrow">
            <a:avLst>
              <a:gd name="adj1" fmla="val 50000"/>
              <a:gd name="adj2" fmla="val 49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637000"/>
            <a:ext cx="12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лице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256536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озг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2852640"/>
            <a:ext cx="289080" cy="574920"/>
          </a:xfrm>
          <a:prstGeom prst="downArrow">
            <a:avLst>
              <a:gd name="adj1" fmla="val 50000"/>
              <a:gd name="adj2" fmla="val 497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2852640"/>
            <a:ext cx="289080" cy="574920"/>
          </a:xfrm>
          <a:prstGeom prst="downArrow">
            <a:avLst>
              <a:gd name="adj1" fmla="val 50000"/>
              <a:gd name="adj2" fmla="val 497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328464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арные к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0920" y="3284640"/>
            <a:ext cx="122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епарные к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2565360"/>
            <a:ext cx="122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звоноч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88000" y="263700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Грудная кле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43640" y="249228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ерх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12000" y="249228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иж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7080" y="2781360"/>
            <a:ext cx="288720" cy="57456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59640" y="4005360"/>
            <a:ext cx="289080" cy="574560"/>
          </a:xfrm>
          <a:prstGeom prst="downArrow">
            <a:avLst>
              <a:gd name="adj1" fmla="val 50000"/>
              <a:gd name="adj2" fmla="val 49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64360" y="2781360"/>
            <a:ext cx="289080" cy="574560"/>
          </a:xfrm>
          <a:prstGeom prst="downArrow">
            <a:avLst>
              <a:gd name="adj1" fmla="val 50000"/>
              <a:gd name="adj2" fmla="val 49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328464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вободная конеч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06864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яс конеч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3213000"/>
            <a:ext cx="125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яс конеч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24720" y="4508640"/>
            <a:ext cx="16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вободная конеч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5013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В составе скелета взрослого человека более 200 костей. Человек растёт до 2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4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5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55640" y="90792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ff"/>
                </a:solidFill>
                <a:latin typeface="Arial"/>
              </a:rPr>
              <a:t>Функции скел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1413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1413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1484280"/>
            <a:ext cx="485640" cy="1873440"/>
          </a:xfrm>
          <a:prstGeom prst="downArrow">
            <a:avLst>
              <a:gd name="adj1" fmla="val 50000"/>
              <a:gd name="adj2" fmla="val 964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1484280"/>
            <a:ext cx="485640" cy="1873440"/>
          </a:xfrm>
          <a:prstGeom prst="downArrow">
            <a:avLst>
              <a:gd name="adj1" fmla="val 50000"/>
              <a:gd name="adj2" fmla="val 964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2492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99ff"/>
                </a:solidFill>
                <a:latin typeface="Arial"/>
              </a:rPr>
              <a:t>защ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3357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99ff"/>
                </a:solidFill>
                <a:latin typeface="Arial"/>
              </a:rPr>
              <a:t>оп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16360" y="2781360"/>
            <a:ext cx="115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3357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ccff"/>
                </a:solidFill>
                <a:latin typeface="Arial"/>
              </a:rPr>
              <a:t>кроветво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236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ccff"/>
                </a:solidFill>
                <a:latin typeface="Arial"/>
              </a:rPr>
              <a:t>двиг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27280" y="41497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Виды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к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724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Трубчат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508464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)длинные(плечевая, бедренная, кости предплечья, голен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551664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)короткие(фаланги пальцев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595008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Пло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2920" y="6453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.Смешанные(позвон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8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58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5280" y="0"/>
            <a:ext cx="8280360" cy="20142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Arial"/>
              </a:rPr>
              <a:t>Плоские кости имеют преобладающий тип костной ткани- губчатое вещество, преобладающий тип костного мозга- красный. Плоские кости растут в длину и в ширину за счёт надкостницы. Трубчатые кости имеют преобладающий тип костной ткани плотный и компактный, а преобладающий тип костного мозга- жёлтый. Трубчатые кости растут в длину за счёт гиалиновых хрящей. А в ширину за счёт надкостн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2133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Скелет туловищ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2637000"/>
            <a:ext cx="8066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Arial"/>
              </a:rPr>
              <a:t>Скелет туловища состоит из позвоночника и грудной клетки. Позвоночник образован 33-34 позвонками, соединёнными между собой хрящами, суставами и связками. В нём различают 5 отделов: шейный( 7 позвонков), грудной(12), поясничный(5), крестцовый(5), копчиковый(4-5). Крестцовые и копчиковые позвонки срастаются в крестец и копчик. Позвоночник человека имеет 4 изгиба, шейный и грудной изгибы позвоночника обращены выпуклостями вперёд, а поясничный и крестцовый изгибы позвоночника обращены выпуклостями назад. Изгибы полностью формируются к 18-20 годам. Каждый позвонок имеет тело, дугу и ряд отростков. Позвонки располагаются друг над другом, соединяются между собой хрящами, образуют спинномозговой канал, в который заключён спинной мозг. Позвоночный столб- полость находящаяся в позвоночнике. Грудина- кость передней части грудной кле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16000" y="3333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Скелет головы(чере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620640"/>
            <a:ext cx="486000" cy="576360"/>
          </a:xfrm>
          <a:prstGeom prst="downArrow">
            <a:avLst>
              <a:gd name="adj1" fmla="val 50000"/>
              <a:gd name="adj2" fmla="val 29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692280"/>
            <a:ext cx="485640" cy="576000"/>
          </a:xfrm>
          <a:prstGeom prst="downArrow">
            <a:avLst>
              <a:gd name="adj1" fmla="val 50000"/>
              <a:gd name="adj2" fmla="val 29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125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Мозговой от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59280" y="11970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Лицевой от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628640"/>
            <a:ext cx="392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Лобная кость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Теменные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Височные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Затылочная кость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170028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Верхние и нижние челю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213372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Носовые 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92720" y="256536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Скуловые кост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3213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Скелет верхних конеч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86064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Скелет верхних конечностей состоит из плечевого пояса и свободных верхних конечностей. Плечевой пояс образован парой лопаток и парой ключиц. Лопатки - плоские кости треугольной формы, прилегающие к заднебоковой поверхности грудной клетки. Ключицы одним концом соединены с верхней частью грудины, другим с лопат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32000" y="404640"/>
            <a:ext cx="59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189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сти верхних конечнос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62064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1)Плечевая к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8920" y="105264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2)Кости предплечья- локтевая и лучев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47640" y="148428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3)Кости ки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91628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лечевая кость соединена с локтевой и лучевой костями. Скелет кисти рук состоит из костей запястья, пясти и фаланг пальцев. Запястье состоит из восьми костей, расположенных в 2 ряда, пясть- из пяти косточек, а фаланги, кости пальцев,- из 14 косточек. Кости каждого пальца, кроме большого, состоят из 3х коротких костей(фаланг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37893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келет нижних конеч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4221000"/>
            <a:ext cx="69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келет нижних конечностей состоит из тазового пояса и свободных нижних конечностей. Тазовый пояс образован тремя неподвижно соединёнными между собой костями: 2е массивные плоские тазовые кости и крестцовый отдел позвоночника. Нижние конечности включают бедренную кость, 2е кости голени (большая и малая берцовые) и стопу. Стопу формируют короткие кости предплюсны (самая массивная пяточная кость), 5 длинных костей плюсны и кости паль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9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6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3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2f7575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619280" y="18900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0093"/>
                </a:solidFill>
                <a:latin typeface="Arial"/>
              </a:rPr>
              <a:t>Соединение к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02920" y="549360"/>
            <a:ext cx="1584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54936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0360" y="476280"/>
            <a:ext cx="1511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41300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60093"/>
                </a:solidFill>
                <a:latin typeface="Arial"/>
              </a:rPr>
              <a:t>Неподвижное(череп, крестец, таз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155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60093"/>
                </a:solidFill>
                <a:latin typeface="Arial"/>
              </a:rPr>
              <a:t>Полуподвижное(позвоноч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77080" y="1268280"/>
            <a:ext cx="2266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60093"/>
                </a:solidFill>
                <a:latin typeface="Arial"/>
              </a:rPr>
              <a:t>Подвижное (суставы: плечевой, локтевой, лучезапястный, тазобедренный, коленный, голеностопный; гол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24000" y="30686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d60093"/>
                </a:solidFill>
                <a:uFillTx/>
                <a:latin typeface="Arial"/>
              </a:rPr>
              <a:t>Состав кос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3645000"/>
            <a:ext cx="72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Вода-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Органическое вещество оссеин (белок)-12.5% и жиры-15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.Неорганические вещества(минеральные)-21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1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2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05:36:30Z</dcterms:created>
  <dc:creator>Учащийся 4</dc:creator>
  <dc:description/>
  <dc:language>en-US</dc:language>
  <cp:lastModifiedBy>Учащийся</cp:lastModifiedBy>
  <dcterms:modified xsi:type="dcterms:W3CDTF">2009-01-23T10:34:19Z</dcterms:modified>
  <cp:revision>12</cp:revision>
  <dc:subject/>
  <dc:title>Слайд 1</dc:title>
</cp:coreProperties>
</file>