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applause.wav" ContentType="audio/x-wav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408-605F-4F63-BCB6-F95A6E12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B29-9B09-4195-86AB-AF66899D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BF0-6A67-4F9B-A174-3BF24761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DB3-63B3-4788-9E8C-A5D4FE4E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4ED6-1361-47B0-A152-F60C60DC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1501-346A-4D5A-8916-4742A63A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8D64-564D-4C51-819C-3FD3A72E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2577-605D-43F6-B747-24A3C8FD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3CFA-5E83-4459-9187-44C18513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CF54-9411-4FBF-AA35-1EB0C634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4226-2E27-4A38-8B36-B4A1DF5B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9D7-EFF1-4447-BA50-B0AB3FF1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BCA8-7969-4C6B-88BA-8B187912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1124-653A-42D7-ACDC-EDB138A9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A712-1CC4-4538-BE7B-6DCBD471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72A6-60F4-430E-A94F-99247E81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9C26-0DFC-40C6-8114-0F58E099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69D76-C30B-4039-944B-1133E15A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2DC78-BDB8-432B-AA0F-E38F9BC2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8BCB1-4A3A-4EC7-950B-ADB80087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D8050-6974-4B24-905F-F298812B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6539B-5B0A-4D78-B463-C75AFE14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93DF-A2D3-4078-BFAB-55BBC0BF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CA13-2CDE-481D-BA5F-F904CC22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5962-C9CC-4F74-8D3A-143E0B6E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6C11A-9BBB-439F-8688-76383584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7CAC-D756-4198-BA6B-95551C73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564E2-3D13-4665-B7EF-F52328BC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D405-060E-452F-8333-5FD83BA8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15B1B-7DF8-4FCC-80E1-6B5A6890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D5610-E0C3-4325-BF15-8E907CED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61B85-7F40-4DBC-B81A-0BE89E53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9D9A2-B759-4B41-B825-7D69FF5A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11E-031D-46E0-9EEA-CBC2C2DE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02543-6DB1-4C62-B871-F7229743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1EFE5-2AB7-4D3E-9976-BDD7C707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D0165-26E6-45B7-B70C-EFC40C39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E0167-8660-4C89-B82F-59103946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E3DF1-A0FE-4E58-B8AB-D6B04C4B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1A2A4-7427-490B-B067-1C09384F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09E67-AD04-4CF8-AF11-877D317A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7CCFB-C070-4A19-8909-1750D0A1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B0584-A4A0-449B-A30C-E1AADC51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F6829-D4F8-416D-B1C3-4BF7B17B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6CF1-9B06-45E5-AF42-200D9CA4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FEDD-A887-49F5-B32D-DF370CFC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A3414-D3D8-4CC8-9CA1-FDFBB6E7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4F005-551E-4760-AD6C-C3E4895A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00892-6D51-492A-BCAD-771ADD6F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9F37F-4EDC-4BF6-A35F-E9D9F474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A3ACD-F50C-4D45-9A32-BD6D2994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113E1-0359-4188-9965-2EFB9F5C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51D5E-6D80-459F-980B-F333C4FF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68B40-FA43-487C-B46D-8C8D127F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FC8D1-6622-4B33-819F-693CF6F0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AB4-7EEE-479E-BD49-014CE5D6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08FAC-90A1-4A08-8B33-94413F6B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A175C-7AEA-46D8-8C06-6624A420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4A1B0-C3F2-491B-B2A1-273629A0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79C7E-D9AB-41E4-815B-65D4EF26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94DAC2-BB71-4974-85DA-58F5D4CC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E7B4F-7CB8-4D50-8F7D-777FB56B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56BEE-11E4-418E-8076-AE4B296E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5A808E-932E-4ED0-AC10-87F1A7DA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C2C24E-632F-4704-9561-E6BD6EE1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DD488E-0B1E-406C-82CE-5B551CCA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9C7-F6B9-4DEA-B5B3-83997C1E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B1324-E046-45B0-BFDA-34AD16B0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F7158-6C09-4F77-8EF7-A10ED958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817B5-C74C-4FA9-8543-D027C9B6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2EA-BAF0-42C4-A7E4-B6597F51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351-EB49-49AF-A179-BA24641F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82F7-C67F-4BBA-A9B1-F97F14ED1C9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CE29-0679-4F2C-8850-31D3A03EA7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9857-F0B0-4343-9FA5-053939B4B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71C1-2DB2-46F4-89BD-A75220F70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3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3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2264-1831-4952-957F-786FBF59C6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0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B05A-BC70-4DB4-97AC-F64C1315BF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5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2627280" y="0"/>
            <a:ext cx="3241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иология 10 КЛАС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020000" y="0"/>
            <a:ext cx="1285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Т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 rot="5400000">
            <a:off x="4866480" y="3206880"/>
            <a:ext cx="58388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Рибонуклеиновые Кисл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9280" y="6381720"/>
            <a:ext cx="2376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тор Цисарь Роман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"/>
          <p:cNvSpPr/>
          <p:nvPr/>
        </p:nvSpPr>
        <p:spPr>
          <a:xfrm rot="10800000">
            <a:off x="1619280" y="27810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26920" y="292428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2411280" y="2276640"/>
            <a:ext cx="3672000" cy="31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816200" y="3670200"/>
            <a:ext cx="585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8000" y="692280"/>
            <a:ext cx="41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ибонуклеиновые 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Т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1547280" y="981000"/>
            <a:ext cx="5050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19640" y="13413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59280" y="981000"/>
            <a:ext cx="576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4360" y="148428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155736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Т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Р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59280" y="184464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И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Р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076720" y="148428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Р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Р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71640" y="177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1989000"/>
            <a:ext cx="1728720" cy="23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лекул м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omic Sans MS"/>
              </a:rPr>
              <a:t>2 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omic Sans MS"/>
              </a:rPr>
              <a:t>Форма кленового ли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omic Sans MS"/>
              </a:rPr>
              <a:t>Отличается ДНК-от-Р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48000" y="2205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43280" y="2421000"/>
            <a:ext cx="1368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k-KZ" sz="1200" spc="-1" strike="noStrike">
                <a:solidFill>
                  <a:srgbClr val="000000"/>
                </a:solidFill>
                <a:latin typeface="Comic Sans MS"/>
              </a:rPr>
              <a:t>Молекул масса-3-4 м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88000" y="1844640"/>
            <a:ext cx="208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8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а рибосом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-Синтез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35640" y="17733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43280" y="2205000"/>
            <a:ext cx="172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applause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11280" y="1557360"/>
            <a:ext cx="5545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 В место тимина входит состав урацил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 всостав ЭРНК входит ребоза и сосотав ДНК дезоксеребоза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 У ЭРНК 1 ципочка у ДНК 2 ципочки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 ДНК располагается в ядре ЭРНК в цитоплазме и в ядре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 ДНК – обьщая информация о клетки ЭРНК синтези белка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laser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194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95640" y="9079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АТ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556000" y="1413000"/>
            <a:ext cx="79200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24360" y="1484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4720" y="1413000"/>
            <a:ext cx="9367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619280" y="1844640"/>
            <a:ext cx="151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Нуклеоти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аде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03640" y="2276640"/>
            <a:ext cx="165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Углевод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риб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76720" y="2205000"/>
            <a:ext cx="12956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Три остат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Фосфорной кисл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laser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2599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Клеточная Мембрана и функции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1413000"/>
            <a:ext cx="691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1413000"/>
            <a:ext cx="0" cy="33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71640" y="1844640"/>
            <a:ext cx="0" cy="331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76720" y="1413000"/>
            <a:ext cx="0" cy="33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80360" y="1413000"/>
            <a:ext cx="0" cy="33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8360" y="1844640"/>
            <a:ext cx="691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161784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Аболочка к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43280" y="155736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Стро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219640" y="1628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9640" y="20606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 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916360" y="2060640"/>
            <a:ext cx="20160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Внутриний и внеш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Состоят из клетчатки 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Выпалняет опор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 белка средний из двухслойной молек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Фосфоридов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 Внешня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Оболочка или мягкоя образования молек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гликонолина внутриней с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48360" y="1989000"/>
            <a:ext cx="20876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Праизвольная разрушения происходил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Фотосинтези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4797360"/>
            <a:ext cx="691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8360" y="4797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4724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380360" y="472428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laser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5:12:41Z</dcterms:created>
  <dc:creator>Учащийся</dc:creator>
  <dc:description/>
  <dc:language>en-US</dc:language>
  <cp:lastModifiedBy>Учащийся</cp:lastModifiedBy>
  <dcterms:modified xsi:type="dcterms:W3CDTF">2009-01-23T06:37:32Z</dcterms:modified>
  <cp:revision>6</cp:revision>
  <dc:subject/>
  <dc:title>Слайд 1</dc:title>
</cp:coreProperties>
</file>