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5.png" ContentType="image/png"/>
  <Override PartName="/ppt/media/image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AB6-9DC0-4A22-8BC7-B63EC6F3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05-FA12-4848-9AFC-4CDA9900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45150-E9B6-436B-AA0F-3BC3C1F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DFC8D-0B92-4C49-97DA-DD52D4C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F884F-10CD-4E5F-9096-F1785CB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2A029-0097-41E1-9A97-B05D99DC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9F223-0C6A-4A5B-A144-D946937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01CDA-022D-4AA7-A69C-93F604B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210CA-61F5-4029-A809-0A3DA5D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BDB99-A545-4DEB-821C-62B8038C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6D06A-77BC-43C2-AD6C-B5608856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395A2-4CD0-4305-92A9-CA164181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C66-96D2-4976-A713-8DCA6EF9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A9BC-6D9D-4550-9B4B-3F84388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ACC91-3123-4BD7-8782-721448D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14DE9-6780-4DE5-87B2-D0E391A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07980-5E44-4D2D-97EC-4DBFBBB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28F2B-C593-44EA-996A-F4385C38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36A8F-7A7E-422D-9FD8-9AF53D9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0CE84-EF43-4B2C-8886-D29EED1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A4BE0-CF97-4E78-A480-A9A9E55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39AE6-9E8D-4373-848A-72218BC4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FAAA0-7675-421A-9908-9999347F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E76-1808-40E9-AED3-41566BBC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9500F-57B4-431C-AC83-88ACAFA2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705D6-CABB-4FCD-B2B5-6EE93701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318A-436E-4C5E-B300-D5F9E88F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AE6AE-C3EA-4373-847D-26D900D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91283-2807-4EA6-BCAF-3E63BC4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2A55B-0A6E-4CC8-A5B3-624CA433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2D0A1-1781-402C-9BCF-ABCBA66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3AE5-F3C7-405F-B116-0AC7A47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8684C-DD49-46C7-ABDF-0AF34612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19491-3F3A-472A-921C-3FA4BE6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AB435-F2AA-4AF1-B57B-9F8232ED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EB7B-F3A6-4A11-8E86-E534CE9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4BED1-F76E-4878-A83A-2E1BCEE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39216-F668-450D-A1E3-BE38DF39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2D9E3-EE4B-4A3C-A547-01E49458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D95D-EBF3-415D-BB52-5BA9A4F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D0A43-C962-430E-9CC1-4856928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6497E-DAEC-4A05-8129-EB9E7E37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DBDF-1224-427D-9399-78CF331E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63C6-5B1D-47A2-BFAF-6154207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3BBC-8D2F-4E38-BAD9-4849235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3C9D9-353B-44FE-A178-1D1DC7CE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05AE1-7739-4D1D-B58C-9380695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D333D-71FE-425A-B0DF-F111317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235AC-7B8E-4AFA-91A5-3274E6D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75572-3EA7-4C04-885C-433EAB8D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BA063-9F1C-43DB-8370-D83B1EAC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63B3C-BFE2-46E4-970C-74EF4B36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73E5B-00DD-46AA-9579-1180F15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0D599-B8A3-44BA-B5F2-B769B19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4750A-4B89-438A-9A0D-18818F54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86482-327C-4276-82AF-5AFAD2A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CA96-EE38-4A45-9A8E-23AE5AB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D3748-7471-406A-B0F2-EAC7958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627BE-1FA7-4BF9-92AF-FC3BBD0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61DAE-2F0B-47D1-AD1C-2811D10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C0322-85E7-4AA4-B38F-F4895E7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3D19E-E960-45DF-8D52-59D54FB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36544-258C-47A7-9025-335615DC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6C476-B246-4B80-BC78-1026F79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F3510-ACD7-49CD-8BC5-4195525F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69552-A08E-421B-8687-211A635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2DEB8-284F-44B6-BF20-0154957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17692-353B-4F5D-B37B-0B7F10FE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C523A-385A-46B5-9EF8-1CA7BA7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DA3B1-B3F9-4F98-A6D0-1F1E7222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5E6DC-1D77-4C62-B87B-B081BFC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8DFA0-1B12-4B93-A358-2C147DF0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62735-25C5-4C4A-B1AC-D130B7B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E2374-8701-45DD-8A4B-4765147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47BB2-32B1-4FB3-B7DD-6A9DEA71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2ACDB-C32F-409B-9D32-801777BF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707B9-CA59-48B7-A9D4-BBEE9581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71D84-2D7D-43F9-A3C3-49EA6283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5D79C-6FEB-4404-B3C4-661D7F90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C0B4E-6270-401F-BC0A-F5EF335B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ADE8C-E82F-4C5F-B9B2-5844E67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73826-4191-4219-95FA-8CEB6CE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AF0DC-1A51-4754-A231-92E6127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8C308-E0FE-4B78-A47C-B72974B0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45AA3-AC36-43E0-8ACF-58AED7E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06525-1A26-4204-BC92-45E43D4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37153-BBF0-40D6-A2BD-FC58C1C5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5739A-061B-46AB-B51B-4ACBDE4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4C405-A766-47DC-8DE0-375A3A1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DF508-D0B5-4884-BF02-F93F3037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FE216-516F-4573-B063-7C549AFF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D57AE-6271-4843-A279-E068D04F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806A9-A7C5-48C6-8107-2CCBCAA9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50DA9-E643-4A4E-83C1-FE7C4045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E3764-9003-4B0B-BB5A-DFB86E85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82068-292E-4002-A750-8B5F004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F6E34-AEEB-42EF-BF7E-BC2784F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5B675-5440-4EF2-8431-64D18043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2BCFC-C01C-41A5-BD8E-BC325C5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71482-9A11-473A-9658-1A8A12B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484DC-EE6F-4B2E-BFB5-EA4B6A2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D32B4-8B1B-4ABF-BAFA-448EE4A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54749-1D06-437B-98BD-52477586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B65D2-B124-4991-8614-25E55A0E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885-5625-4A83-AF2D-B6A59740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BB956-AA43-467B-8DCC-F8E48F9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B4717-1F3D-42E3-AD2A-69986EE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18F13-238F-4537-964D-E74BED99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2378-6B7F-420D-876B-00A084F0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8AB8-5B71-4642-B51B-F4F81E63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71B5-E170-4082-9BBF-C17EA256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867A-B1D6-453B-9619-D3FD8F2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7664-DF43-4998-A93B-A853BB4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AF67-8FCD-4DEF-93E2-14564458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0E63-2302-4C16-B1CB-C25CCCA0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506-1C2B-4265-9F42-844F928B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913E-320D-41EB-87F9-BF9D09C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532E-AB77-4B83-9461-56C5BEB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04EC-2856-4060-A0D9-92A09EB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A441-D21F-4778-8C40-496E52A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110D-1CE4-4FC0-B199-9EA8672C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F49F-D4FF-4640-908D-44CD2AE2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80D6-A33B-47AA-8AD2-1E2C0376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CDE4-0823-4FDD-8077-FFA23F5D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E11DD-6A50-4FAB-B221-A54E108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C478-C1FA-45B4-844C-76BD8B35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577-F58F-4AE1-950D-E717FE9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2211-6140-42FE-B59F-1CD725C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CEFE-6F9C-46B4-9B81-D0DF99E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F570-94F0-4645-AF6F-96BCF0AD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400B-C3AA-451F-96DA-1992685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8034-6A11-4683-BAD4-BD9F6C33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9091C-91DE-4160-B1D8-C065A07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817A-7DB6-43B5-AE97-0ADAE78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810A-16E2-4783-B616-1A6E8150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17CF-3A11-4417-95AE-21AE0D2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2A11-3FFE-42E6-9597-CA3594C0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4F4-1B75-4009-99F8-D9F5C3F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E0BB-8C2D-4AF5-8883-32BE59D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FC48-0F89-4F22-A620-F92CA67B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6520-682E-4B4D-9A97-613CD00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C1F9-F808-4190-A67D-8E33B954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51AD-8DC4-40EB-8006-01D26B4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6409-BE1D-4F1F-B28E-7AFCA21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8C08-A653-46A7-BF69-5C79E74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A56A-A0ED-4273-9F7C-5BF1E525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B109-1E70-4024-BDF1-781E86F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E2B5-BEA1-4ECB-A881-2212588D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528-A62E-4F07-8D2A-37E6EC8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3E23-A621-491E-85D9-CB22008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FFDD-67F0-4E9F-94AD-F09FE371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359C-8C0B-4B7D-B6A6-94A068B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AC9B-B4CA-4863-9546-E39B1F1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328A-82E9-47C0-AE3A-4711F689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A925-14C4-490F-AFC1-B2E3910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1E1C1-1AAB-4E0D-949C-6C83B18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763D-BE35-4071-A73C-AF5CAB2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AE78-FFDE-4E9A-93A2-55B7CC8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8AAB-7696-4459-AB19-24669BB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7CF-9208-4B05-A5FA-F857393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51EC-CE5D-4973-98BE-A171F82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BFD9-140A-4FAD-ADC2-A3960B4B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C967-EACB-4E95-8E03-B62F7A12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67EA-2A2A-4B81-A64A-54E73352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5D01-AFA9-4597-AC60-B6B83777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E96A-4C33-4F97-9E58-EA5707D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0DE4-60EE-41F0-A71B-1544833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20A8-CCC0-4D05-A34C-650D906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976B9-6526-49C5-B98F-53A1D164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328A-3A32-45AD-84EB-11123FB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E4E-F657-4CE0-9DF2-16680AD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693C-DCE1-431E-87CC-23B89A8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CE84-E254-4A85-8F66-43C3D75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E30E-09AA-4319-8F94-91D4ECB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B810-8E11-445E-AA56-C4A1918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053C-751D-44DE-82EA-81F65227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935B-F197-4478-826C-FAF5BE34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C3F2-6FD5-4132-B9BE-D7F8146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81846-97A2-44F7-9890-AD4F3F23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BA835-B2BC-4854-B328-8A164A5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75A4-F46E-478A-9857-4D359BAB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F9E-1434-433B-8332-B5F7806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D57D1-24C5-4853-BFAD-8FA1B15C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080C-70F0-4BE3-8CC8-A96BFF2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1255-5E24-4E66-B17E-AE870FF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6D09-4A14-4BB4-8EAD-168D0CC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083C-81C5-4C6E-9E3F-B0F14B4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CBEEC-7FF7-4676-9434-1C35426D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8C940-13A0-4A41-8AA4-1C2E0AC6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3D649-FBA9-4C6B-BC18-FE6EDA4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9D6B4-D377-43B6-BE75-F64FFB5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E8712-98A6-4547-A53E-6DCB99F4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BA30-249B-4614-96C1-2870A1B0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D74-FC01-4E6B-A998-353A6FF67E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64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66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771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77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81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85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9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D75C-21F0-4E75-9CEA-1B6929E283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48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9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63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67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71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75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79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E743-4737-40D5-B408-97C287E61A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3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C0BE-1F0C-4FE2-A6C4-CD308A5F16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889E-67BA-440B-BC4B-AB3E864E3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2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96A2-395D-4559-848A-1523D075DC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9CDF-EFEA-4CB5-A248-86F255A2D9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B9D-1F54-4C56-A581-108DE8341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7F86-7745-4806-B8D1-FF5F2CDD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CFD3-2A53-488A-8D0A-EA344851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2CB5-3ABB-4322-97C7-7ACC3FD98FB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E690-048B-4D69-B49E-F715D31832D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5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599A-C01A-4F4C-919B-81BA58047A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0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BB76-44E8-4205-BEE4-9BE02A4AC2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4EFC-CFCE-414B-8882-95237AB06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e00"/>
                </a:solidFill>
                <a:latin typeface="Tahoma"/>
              </a:rPr>
              <a:t>Умственное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воспитание</a:t>
            </a:r>
            <a:r>
              <a:rPr b="0" i="1" lang="en-US" sz="4400" spc="-1" strike="noStrike">
                <a:solidFill>
                  <a:srgbClr val="00ff00"/>
                </a:solidFill>
                <a:latin typeface="Tahoma"/>
              </a:rPr>
              <a:t> и образование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подрост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 txBox="1"/>
          <p:nvPr/>
        </p:nvSpPr>
        <p:spPr>
          <a:xfrm>
            <a:off x="1476360" y="1916280"/>
            <a:ext cx="58341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92360" y="407664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Единство педагогических взглядов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Убеждений уч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3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ad61d"/>
                </a:solidFill>
                <a:uFillTx/>
                <a:latin typeface="Garamond"/>
              </a:rPr>
              <a:t>Психическая культу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нание психической культуры – это не краткий конспект психологии. Можно назвать это азбукой самопознания и самоутверждения, культурой духовной жизни лич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чень важно, чтобы знание азов психической культуры одухотворяло подростков, утверждало в них оптимизм, веру в свои си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6948360" y="4724280"/>
            <a:ext cx="1824120" cy="17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4100"/>
                            </p:stCondLst>
                            <p:childTnLst>
                              <p:par>
                                <p:cTn id="6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1708"/>
                </a:solidFill>
                <a:latin typeface="Arial Black"/>
              </a:rPr>
              <a:t>Физическая культур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Физическая культура – важнейший элемент всестороннего, гармоничного развития человек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Воспитание физической культуры – это, во-первых забота о здоровье и сохранении жизни как высшей ценности; во-вторых, система работы, которая обеспечивает гармонию физического развития и духовной жизни, многогранной деятельности человека. В организме подростка совершаются сложные, бурные и противоречивые процессы, которые на всю жизнь определяют функционирование важнейших систем – нервной, сердечно-сосудистой, органов дыхания, пищеварения. Закладывается анатомо-физиологическая основа  главнейшей творческой духовной деятельности человека – труда.</a:t>
            </a:r>
            <a:r>
              <a:rPr b="0" i="1" lang="en-US" sz="1800" spc="-1" strike="noStrike">
                <a:solidFill>
                  <a:srgbClr val="5ded3b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5ded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500"/>
                            </p:stCondLst>
                            <p:childTnLst>
                              <p:par>
                                <p:cTn id="7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лементарная моральная культу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цесс морального воспитания состоит в передаче от поколения к поколению моральных ценностей человече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Если в младшем возрасте нормы морали раскрываются прежде всего в конкретном, эмоционально выраженном поступке, то в годы отрочества складываются благоприятные условия, чтобы раскрыть воспитанникам идейную сущность этих норм, пробудить моральную потребность в благородных поступках. В связи с этим мы стремились к единству разъяснения сути норм нравственности, наставления, убеждения, понуждения к активной деятель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ветственность – это значит ответственность перед кем-то и за кого-т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увство благодарности людям – это родная сестра чувства ответственности, долга, гражданского достоинс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руд – корень нравствен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оспитание доброго сердца – с этого начинается коммунизм во взаимоотношениях между людь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3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200"/>
                            </p:stCondLst>
                            <p:childTnLst>
                              <p:par>
                                <p:cTn id="7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6050"/>
                            </p:stCondLst>
                            <p:childTnLst>
                              <p:par>
                                <p:cTn id="7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9600"/>
                            </p:stCondLst>
                            <p:childTnLst>
                              <p:par>
                                <p:cTn id="7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4750"/>
                            </p:stCondLst>
                            <p:childTnLst>
                              <p:par>
                                <p:cTn id="7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6500"/>
                            </p:stCondLst>
                            <p:childTnLst>
                              <p:par>
                                <p:cTn id="7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31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Arial"/>
              </a:rPr>
              <a:t>Труд во всестороннем развитии лич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руд называют могучим воспитателем. Но его воспитательная сила ещё не раскрывается тогда, когда руки подростка чем-то заняты.Труд, оторванный от идейного, интеллектуального, морального, эстетического, эмоционального, физического воспитания, от творчества, от интересов и потребностей, от многогранных отношений между воспитанниками, становится повинностью, которую им хочется побыстрее «отбыть», чтобы осталось больше времени на более интересные дел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3400"/>
                </a:solidFill>
                <a:latin typeface="Tahoma"/>
              </a:rPr>
              <a:t>Искусство</a:t>
            </a:r>
            <a:r>
              <a:rPr b="0" lang="en-US" sz="2800" spc="-1" strike="noStrike">
                <a:solidFill>
                  <a:srgbClr val="9c34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это время и пространство, в котором живёт красота человеческого духа. Как гимнастика выпрямляет тело, так искусство выпрямляет душу. Познавая ценности искусства, человек познаёт человеческое в человеке, поднимает себя до прекрасного, переживает наслаждение. Жизнь человеческой души – это высшая цель воспитания нашей коммунистической педагогики. Знания, навыки, труд, творчество – всё это только средства достижения высшей це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Познавая искусство в себе, познаёшь природу, жизнь мира, смысл жизни, познаёшь душу – талант! Выше этого счастья нет»*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484360" y="476280"/>
            <a:ext cx="3888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кусство</a:t>
            </a:r>
            <a:endParaRPr b="0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1650"/>
                            </p:stCondLst>
                            <p:childTnLst>
                              <p:par>
                                <p:cTn id="7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ейшим условием полноценного умственного воспитания является прочные ,знания элементарных истин науки –тех азов ,с которых начинается обучение и без которых невозможно овладение вершинами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Человеческий мозг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это сложное целое ,если одна часть недостаточно развита , тормозится работа всего цел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Верить сердцем нужно потому ,что так требует Бо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Но сердце человеческое – это и есть разум , - без ума нет человеческого сердц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332000" y="333360"/>
            <a:ext cx="613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мять ,мышления и умение учиться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3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2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3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9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41960" y="585720"/>
            <a:ext cx="770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Каждый должен быть частиц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Единого целого источни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1763640" y="1844640"/>
            <a:ext cx="72072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19640" y="1844640"/>
            <a:ext cx="57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435280" y="1844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659640" y="1773360"/>
            <a:ext cx="79200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87480" y="27068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-92160" y="270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-86040" y="26798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ллектуаль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89600" y="253692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844520" y="246384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раль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715800" y="23209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стетиче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700360" y="1844640"/>
            <a:ext cx="0" cy="10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962720" y="28972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сихиче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300720" y="1844640"/>
            <a:ext cx="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564880" y="289728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1825560" cy="146232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1451160" cy="182412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5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1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6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6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0"/>
                            </p:stCondLst>
                            <p:childTnLst>
                              <p:par>
                                <p:cTn id="1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6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600"/>
                            </p:stCondLst>
                            <p:childTnLst>
                              <p:par>
                                <p:cTn id="1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1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gneto"/>
              </a:rPr>
              <a:t>Мировоззрение</a:t>
            </a:r>
            <a:r>
              <a:rPr b="0" lang="en-US" sz="5400" spc="-1" strike="noStrike">
                <a:solidFill>
                  <a:srgbClr val="ffffff"/>
                </a:solidFill>
                <a:latin typeface="Magneto"/>
              </a:rPr>
              <a:t> и </a:t>
            </a:r>
            <a:r>
              <a:rPr b="0" lang="en-US" sz="3600" spc="-1" strike="noStrike">
                <a:solidFill>
                  <a:srgbClr val="ffffff"/>
                </a:solidFill>
                <a:latin typeface="Magneto"/>
              </a:rPr>
              <a:t>убеждё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803520" y="150336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матика воспитывает истинами , потому что исти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-94320" y="1935000"/>
            <a:ext cx="88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знаются трудом ,- в этом убеждает многолетняя работ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35120" y="31399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34760" y="2800440"/>
            <a:ext cx="720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ка – во время бесед о вселенной подрост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866000" y="280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-91080" y="315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-92160" y="3087720"/>
            <a:ext cx="76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одилась роль активного исследователя котор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ировал вещи , я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79480" y="387972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ология : наблюдение цветение и плодоно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-91440" y="42400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чных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51480" y="460044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– творится на наших глазах – строится пер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-92880" y="488808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ре коммунистическое об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948960" y="5248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а – вступает в действии могучий союз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-93600" y="553572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сли – переживая , эмоциональные восприятия яв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ружающ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5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75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75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31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31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810"/>
                            </p:stCondLst>
                            <p:childTnLst>
                              <p:par>
                                <p:cTn id="2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81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31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31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31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 txBox="1"/>
          <p:nvPr/>
        </p:nvSpPr>
        <p:spPr>
          <a:xfrm>
            <a:off x="3059280" y="476280"/>
            <a:ext cx="269532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ука и разу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88240" y="1574640"/>
            <a:ext cx="80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и учат точности , аккуратности , ясности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рук к мозгу и от мозга к ру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и мыслят , и в эти моменты как раз и пробужд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ческие участки моз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895480" y="30877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ната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356000" y="3716280"/>
            <a:ext cx="1800" cy="2808360"/>
          </a:xfrm>
          <a:custGeom>
            <a:avLst/>
            <a:gdLst/>
            <a:ahLst/>
            <a:rect l="l" t="t" r="r" b="b"/>
            <a:pathLst>
              <a:path w="1" h="1769">
                <a:moveTo>
                  <a:pt x="0" y="0"/>
                </a:moveTo>
                <a:cubicBezTo>
                  <a:pt x="0" y="733"/>
                  <a:pt x="0" y="1467"/>
                  <a:pt x="0" y="17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356000" y="3716280"/>
            <a:ext cx="4103640" cy="1800"/>
          </a:xfrm>
          <a:custGeom>
            <a:avLst/>
            <a:gdLst/>
            <a:ahLst/>
            <a:rect l="l" t="t" r="r" b="b"/>
            <a:pathLst>
              <a:path w="2585" h="1">
                <a:moveTo>
                  <a:pt x="0" y="0"/>
                </a:moveTo>
                <a:cubicBezTo>
                  <a:pt x="1077" y="0"/>
                  <a:pt x="2154" y="0"/>
                  <a:pt x="258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55640" y="3716280"/>
            <a:ext cx="3600360" cy="1800"/>
          </a:xfrm>
          <a:custGeom>
            <a:avLst/>
            <a:gdLst/>
            <a:ahLst/>
            <a:rect l="l" t="t" r="r" b="b"/>
            <a:pathLst>
              <a:path w="2268" h="1">
                <a:moveTo>
                  <a:pt x="2268" y="0"/>
                </a:moveTo>
                <a:cubicBezTo>
                  <a:pt x="1323" y="0"/>
                  <a:pt x="378" y="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55640" y="3716280"/>
            <a:ext cx="1440" cy="302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cubicBezTo>
                  <a:pt x="0" y="794"/>
                  <a:pt x="0" y="1588"/>
                  <a:pt x="0" y="190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8459640" y="3716280"/>
            <a:ext cx="1800" cy="302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cubicBezTo>
                  <a:pt x="0" y="794"/>
                  <a:pt x="0" y="1588"/>
                  <a:pt x="0" y="190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5640" y="6813720"/>
            <a:ext cx="7777080" cy="1440"/>
          </a:xfrm>
          <a:custGeom>
            <a:avLst/>
            <a:gdLst/>
            <a:ahLst/>
            <a:rect l="l" t="t" r="r" b="b"/>
            <a:pathLst>
              <a:path w="4899" h="1">
                <a:moveTo>
                  <a:pt x="0" y="0"/>
                </a:moveTo>
                <a:cubicBezTo>
                  <a:pt x="2041" y="0"/>
                  <a:pt x="4083" y="0"/>
                  <a:pt x="489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27280" y="3933720"/>
            <a:ext cx="36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лотая библиотека отро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ещена в комнате мы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натой мысли назв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подчеркнуть велик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уховную силу кни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573440" y="39337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оящее чтение – это 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торое увлекает ум и 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уждает раздумья о мир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м себя, заставляет подрос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еть себя и думать 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ственном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115080" y="553572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мообраз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3058920" y="5950080"/>
            <a:ext cx="1081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500720" y="5950080"/>
            <a:ext cx="12952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1280" y="596736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етение ли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39480" y="62564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блиот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858560" y="60357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ственный труд дома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5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18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68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68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680"/>
                            </p:stCondLst>
                            <p:childTnLst>
                              <p:par>
                                <p:cTn id="3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8680"/>
                            </p:stCondLst>
                            <p:childTnLst>
                              <p:par>
                                <p:cTn id="3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ждый педагог не только преподаватель ,но и воспитат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ff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ый из нас должен осуществить индивидуальное влияние на конкретного воспитанника ,заинтересовать ,увлечь ,вдохнуть подростка ,пробудить в нём неповторимую л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ff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ноценное умственное воспитание мы считали возможным лишь при том условии ,когда обучение проходит на фоне богатой интеллектуальной жизни коллектива и лич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ff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убеждены ,что нет в природе нормального человека ,которому не были бы доступны интеллектуальные богатства ,счастья полнокровной умственной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ff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мственное воспитание и обучение в отрочестве совсем не то ,что в дет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2124000" y="260280"/>
            <a:ext cx="436248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догогические взгляды и убеждения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работались в процессе труда и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стояли в следующем.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50"/>
                            </p:stCondLst>
                            <p:childTnLst>
                              <p:par>
                                <p:cTn id="3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2050"/>
                            </p:stCondLst>
                            <p:childTnLst>
                              <p:par>
                                <p:cTn id="4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9700"/>
                            </p:stCondLst>
                            <p:childTnLst>
                              <p:par>
                                <p:cTn id="4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6750"/>
                            </p:stCondLst>
                            <p:childTnLst>
                              <p:par>
                                <p:cTn id="4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сфере внимания педагога на уроке должны быть не только мысли 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подаваемом предмете , но и ученики : 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539640" y="189000"/>
            <a:ext cx="77724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101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мы руководим умственным трудом на уроке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101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402920" y="2492280"/>
            <a:ext cx="2592360" cy="57636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2040" y="293688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788000" y="2492280"/>
            <a:ext cx="2305080" cy="505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627600" y="293688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356000" y="2421000"/>
            <a:ext cx="0" cy="50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391920" y="27939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72000" y="2492280"/>
            <a:ext cx="1152360" cy="865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267720" y="34290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ктивность умственного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-150840" y="3827520"/>
            <a:ext cx="832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еред началом преподавания на многих уроках ставят перед подростком цель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-381600" y="4043520"/>
            <a:ext cx="97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смыслить логические составные части материала , запоминать не всё , а только главнейше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-223560" y="4332240"/>
            <a:ext cx="93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именение знаний должно быть стилем умственного труда ,сутью преподаванию нов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-186480" y="4835520"/>
            <a:ext cx="909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ы стремимся организовать умственную деятельность подростков так , чтобы процес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смысления , овладения знаниями тесно сливался с применением знаний , чтобы одн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нания были инструментом для овладения другими знаниями , -от этого в конце конц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висят и интерес , и внимание , и прочность знаний. На уроках отводилось время дл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глубленного самостоятельного осмысления фактов , взаимоотношений , явлений 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бытий. Это была суть того ,что в практике называется закрепл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900"/>
                            </p:stCondLst>
                            <p:childTnLst>
                              <p:par>
                                <p:cTn id="4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9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9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900"/>
                            </p:stCondLst>
                            <p:childTnLst>
                              <p:par>
                                <p:cTn id="4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400"/>
                            </p:stCondLst>
                            <p:childTnLst>
                              <p:par>
                                <p:cTn id="4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1400"/>
                            </p:stCondLst>
                            <p:childTnLst>
                              <p:par>
                                <p:cTn id="4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9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2900"/>
                            </p:stCondLst>
                            <p:childTnLst>
                              <p:par>
                                <p:cTn id="5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90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90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79948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305080" y="1655280"/>
            <a:ext cx="46432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образование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не механическое пополнение знаний , не замкнутость и оторванность от людей , а живые человеческие взаимоотношения. Интеллектуальная жизнь школы немыслима без тех тонких отношений , в которых человек открывается перед человеком как большое духовное богатство, Суть их должна состоять в обмене знаниями ,умениями, Передавая свои знания людям, человек познаёт другого человека и себ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о ответственности перед товарищами заставляло подростков читать, ду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332000" y="404640"/>
            <a:ext cx="6534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00ff00">
                    <a:alpha val="76000"/>
                  </a:srgbClr>
                </a:solidFill>
                <a:latin typeface="Arial"/>
              </a:rPr>
              <a:t>обмен духовными ценностями</a:t>
            </a:r>
            <a:endParaRPr b="0" lang="en-US" sz="1800" spc="1" strike="noStrike">
              <a:ln cap="rnd" w="936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00ff00">
                  <a:alpha val="76000"/>
                </a:srgbClr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6200"/>
                            </p:stCondLst>
                            <p:childTnLst>
                              <p:par>
                                <p:cTn id="5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д синими волнами озеро лесного гуляет холодный вет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лещут синие волны о серый берег 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Шумит ветер в голых ветвях опустевшего лес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ак только зашло солнце за гору, на берег пришёл Ледовитый Волшеб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снулся ледяным дыханием синих волн, и застыли синие вол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ал за лесом Ледовитый Волшебни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м, где заиграли краски вечерней зари 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ахнул рукою ,дохнул ледяным дыханием на замёрзшие волны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блестели тонкие иголки в кристалликах льда – зелёные ,красные ,голубы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озовые ,жёлтые ,фиолетовые ,си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емлют искорки в ледяной глубине, ждут не дождутся весн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тобы заиграть в певучих ручейках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332000" y="404640"/>
            <a:ext cx="67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76a03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уд и отдых во время каникул.</a:t>
            </a:r>
            <a:endParaRPr b="0" lang="en-US" sz="1800" spc="1" strike="noStrike">
              <a:ln w="9360">
                <a:solidFill>
                  <a:srgbClr val="b76a03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52:56Z</dcterms:created>
  <dc:creator>Учащийся 3</dc:creator>
  <dc:description/>
  <dc:language>en-US</dc:language>
  <cp:lastModifiedBy>Zver</cp:lastModifiedBy>
  <dcterms:modified xsi:type="dcterms:W3CDTF">2009-01-22T20:28:50Z</dcterms:modified>
  <cp:revision>14</cp:revision>
  <dc:subject/>
  <dc:title>Слайд 1</dc:title>
</cp:coreProperties>
</file>