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0B5-DFA4-4F16-AD29-C89E5E0F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F02-CA2B-411B-A199-90F5114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F3DC6-5AA7-465A-93C1-2BA442DB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8538-DAE5-4F0D-92B5-906AFBA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93F5-33E8-4866-8976-81A3D914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DDEA7-7B58-4505-A3B9-C6A78C1C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180C-3428-461F-A0A1-B31F6B7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00409-2060-4BA6-916D-E94A95A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7CFF1-E6DB-4A64-91B9-48BC68F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C917-6A4D-4CF8-917A-F0EBA1C7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23273-CCBA-4865-8EFD-FD4EE8E7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60E2-F0F7-480F-A2F9-C49748AC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9F4-FA3A-4C7D-9505-82E4DF4D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FA84B-FE77-4A6B-A9FE-B6AE0259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1870-AEA0-4A81-85A8-8FD1FEE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C53D7-96BE-4EBC-BAFC-055A0863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89032-9390-4CA5-AAD5-C13DCF3D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5D0E6-87D3-4D53-B934-D98CD638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BB895-7710-4010-B0AA-6E385B4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0D264-DE33-4CEE-925D-8023AD84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1BD24-473F-40F8-ABFB-3BCCE6F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73C6E-7292-411E-8006-74B7B65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BA440-9922-4B4A-B9DE-4A1976D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A43-CA3D-488C-B3BC-9ED51452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12922-8DF9-4604-AF75-9893FACB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B81C7-7C2D-42CD-A621-E734DB78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BBFCA-31D6-44C4-8F45-09843D10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5F816-96A9-4029-8462-F7CB642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E600-91E5-4133-95A0-3782944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E3703-3D96-4966-A6B2-82F144C2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31D43-C7B4-4D4E-9E06-D5D89812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3E224-1191-4ACF-8E60-1A4207D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B3B4A-D648-41D8-BFD4-98BDAA5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A9740-093B-494C-BF82-1E86017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E434-7630-4F75-A604-4B9E977F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B554D-56D5-41B9-A7D6-DF5E5107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EA3D2-8B3A-4FC1-B4AC-12DFCFE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C9428-2710-4E78-BBD6-440ADA2D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CDE72-4591-4E60-8102-EE7294E9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C4D18-6459-42E6-9668-C37EAE7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03210-36D2-41CD-9F20-3C072DE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CE351-8D53-4541-939A-40B9548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2B69B-0CC9-4EC8-8853-8110E664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55EF0-5E5D-4116-AAEE-6A5E25C1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5E1A3-8A8B-4FDF-86F4-E616E6F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AF32-FFE7-4D07-B22D-AC22CAC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7CDF-9E99-43BA-8EDC-F1CDF8E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56B43-3236-4D51-995C-733DC32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BB302-9A7A-41E9-B6DB-7A8C5F35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7D2F7-D371-47DE-AB3A-7D96A1F9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4BCA8-4B11-45EE-8593-11D670FB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4DEF3-F0D9-4352-9AAE-7CE14085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8B2AA-B840-49BB-84E5-EFB4FAC5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31492-CB9A-488A-8E08-4D4E795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2B03C-EFAD-4A03-97C5-D72E2B4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2E7CE-ACDE-49F7-A52C-56277ADC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E7F58-FAA4-4AD0-BF0D-71D64F0E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A38FB-1B78-46BB-8049-4EF4C9A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0EA2A-2E3A-493F-B1DB-7F29189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A70E5-8188-4C93-BC14-AC9674A8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7B14B-BAF2-44AC-9793-0E9C4B3A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C3D1D-9B32-4954-ADA2-9D627EC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EE292-348B-4AD3-8040-7237B693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B6927-713E-4237-95C7-98573A1D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BAB72-14F0-4F60-B91F-25189282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7C549-DCA0-4DA5-B489-691A555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15E64-7C01-4C1B-9A22-962A164F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6FB0F-5AED-4221-9C67-E20FE70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D4154-0ECF-44C9-945E-870DB143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0DAAA-A9BA-4FE1-B920-0CEA61A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7F64C-51F5-4CBE-9877-8F7C1A6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33E65-D400-43EA-8AF7-2B9BB01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B7C56-B2DB-4882-934F-F9CACE34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23E3E-9564-440D-9987-960CD11D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04B38-BDE9-4E65-A0F5-0332DA5B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4F8E3-3B92-4D77-91CF-4E8DA9F2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ECF33-79E2-4449-BFA7-F61F224E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CF4E85-2404-415C-A15E-71DA9ECB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60B25-468E-40E3-812A-6D5295E3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7F76D8-AB4F-4CAD-B68A-B905D7B4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877E94-97E9-44A2-93D9-6E86C4F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E28880-8E7B-478E-9B48-F631FE5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2F8C2D-7C8F-41E0-836C-A5F5CD78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C4B3F2-B6CE-4991-96A6-1500F5F3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2507BA-DF30-4298-B8F9-EE3B918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A694F1-353A-4837-951C-E5F10660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78F028-1A73-4AD3-B110-62117F81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A0D6F2-A1A7-4746-BA0A-6092BFEB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E6AF89-F843-4602-8A0C-B0263CE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74E39-4D96-4F84-82A9-002312E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BD9419-9CC9-4191-94C9-0533BB1F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E9223-30BA-4F3E-8BDE-425459AA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E3532-9E86-4F51-B5FE-E446D28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AB99B-E465-4677-A960-40C5F396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8D5BA-6753-423F-8F57-B8AA1893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FA6F3-242A-43B0-BDDF-B889FCDF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76923-BE65-486E-BBA7-52C2D82F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318E4-AE30-41B6-9C82-F67E2B8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07176-3A04-49D4-8CFA-31650BBD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C758C-B823-4B18-80E8-DBED354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8742-4051-467F-86AE-4A5854D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A4658-EF51-4E7C-83A4-0D10156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DA2B1-349B-4E07-ACE0-F0C2BA57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09C69-9CE3-4632-A917-75793F45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4E98C-7D9C-4B7A-9E21-EA073A03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2F388-031A-4126-B81F-FB7F6AB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83D45-060B-4002-9E63-FB370469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07AA7-3A63-45C2-B536-EAD9031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C794B-F2C7-4B6D-B73E-4FFF8D7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6C830-7D42-4B26-BD47-06E21FA1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4FD2F-91FA-48EA-A742-30CC1BD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2C3-E37D-4437-903C-177EEEE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6725D-51A1-42D2-B5A4-4A2E051F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A5787-7F7C-44A1-B6EB-7129A56F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883C1-A3C2-4762-A40A-EF88ABC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E3FB7-099F-4A27-8E79-FD2F222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67E66-2FB7-417B-9C3D-B9A190EC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10C82-335D-4228-B16D-89CC6235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C614E-FC25-43FB-85F4-9724DB57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AC60F-13CB-4A46-AFC1-08F3F9F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E9E1F-7721-4E24-AA9F-5036974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532A2E-5BB0-417C-BC4E-0DBA5E73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367DF-F7E6-43CB-B058-302EBFAF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406F-42C7-4ACA-9745-ADF9985B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426ED-DEC0-4F2D-B5B5-4FD0A0C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5E764-19D1-418E-A2FA-82EC811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2A329-9092-49E2-9E71-99F2A67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0596D-90E5-4DE0-89F3-A51383D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A254A-0A25-479D-BF14-D9E40F6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9DC0D-DB19-44C4-95CD-11F275B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72DE8-68E9-4CAC-B667-85F481E0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5E474-58CF-4F86-9216-BE22D3C9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B9090-3AE9-4DD1-A473-B1EB8D9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BFC78-1236-44C6-BF25-320173F7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E3000-A159-4949-905D-A2FAD49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DBBEB-8127-42D6-B811-868C7EC7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30B32-11A2-4C64-BAAB-2F773FD9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32DFBB-98A4-4D89-8785-B6F120AF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9642F-02C3-4971-A7F0-148477D6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F3616-69FA-48C3-914E-DA0BBAE7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A5433E-E7F4-4851-B00E-B6CAD23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31C83-869B-45F2-B1B5-41B3959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2878F-DA09-470F-ABBF-7EE7EEB5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7B3BF-9188-4CD3-949A-3D81B697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6C43B-ABE9-4425-BAD6-442374E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9170A-6203-4B13-94F2-9505042E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FB2D3-E765-4A71-A8B7-D20CA89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23C798-4920-45EF-A2C8-43C7338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76E78-3F4D-4532-8D9A-EC8F68A6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2A940-BEC9-4CAF-8944-115364F2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56D10-8E0F-420C-ACBF-546218F2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5AA219-DAB9-4CC5-A1DE-35A04534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8743A-1A65-4CF3-ACC4-62DA3F2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24F03-E1F1-4151-9877-0483080D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F6311-E5F9-42D8-9492-1FCC5463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D0569-9E2D-4E3B-B4C8-FC37A1DD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4D661-CF5F-4A59-9956-965ADC7A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21D6C-CCBD-47C4-AA96-8FA7B8E1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3AF7-5D91-4E53-8E6C-037110CD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721B-4223-4512-8185-9225779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DEA3-F31B-4721-B9A6-EA47E059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9F00-6DA8-4DC6-965F-A6E47394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EBB0-AD6E-4825-B9FF-95DA1FEC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002-3940-4AD2-B5AE-A180F76E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E391-789F-4BF1-95B3-B00C02E1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F9DD-8626-4C4C-900F-2158735E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E3AF-6EEF-47B4-858A-A7A3E753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6102-2E40-426A-B961-82428C6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5B20-7CF8-4B93-82AD-1EE98D8E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6BE2F-D1A2-4D19-8CAB-A8B6AC1E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340F-30D0-4363-B32F-EB27F122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ECB8-3F6B-4152-A889-E41D6F42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CCE4-9633-4564-9C54-E8A5523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8C29-87C5-41A3-9716-80B0C23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723-B1AC-4463-BD9E-41DE2C6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B3D1-D188-40C7-9D01-09DAB25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4424-0A93-4FC2-8D37-555A504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9590-27F2-4B84-8D29-F69FB535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8370-0EEB-4498-9A13-31144026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AD16-51BE-44F2-A476-72241CE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FAFE5-9AB7-493E-9F1F-9028ED6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ED08-1FFF-4C6D-8A67-290D2134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D193-6EC8-4673-B46C-A8E85DE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1132-DE90-4958-9C7A-59B0796D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2354-470D-4C9D-AFBB-D7645367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238-BE51-4035-A45E-DB1379A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32D96-18AB-4130-AB51-8DDB2EAC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CF24-65D6-4DAD-93FA-FB05869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32B3-C674-4E58-A875-B3C8924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1FD80-9BF3-4B9E-BE77-042D9ED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74C7-DB61-44F6-8690-3B384D0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3B28-96BA-461C-814F-78E6B08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99897-83EE-4821-B88A-4D78AE8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1C10-3181-4235-B0EC-40F3AC4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F482-AD4D-4D9C-89B4-D94466CC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3B8E-2B32-4756-9161-A98A3B5E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8C7-6FA8-460E-AF14-EB6DAE54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BA95-BB82-4A12-86E0-F3F66132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5DE6-EC72-4B23-8FDC-3A6C96A9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6A8D-3342-4922-A003-0B4DE0C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036F-673E-4496-831F-200419F4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153B-D36A-4C81-8972-EC916EAE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DF73C-4195-4925-BCD1-A4BD7AC5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44AF-932F-44DE-B7EF-7AAA309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DA1B7-AF56-4BA2-BD11-40B1DF6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8AC3-87EA-401D-9E6A-E1C8978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4279-7964-4062-86B4-6DA98A4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29CD-7992-4CFE-858A-9C87386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12E5B-97D1-4A69-BEF1-8B84C43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B1643-24CE-4AF2-9861-00494B49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DC5E-ED41-4EAA-BAAB-E21500A3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2231-4A28-45FF-878D-CB529341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302D-B05A-4588-B545-C3561296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D31B3-F850-4334-AF3F-22CF66F6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22DB-98FD-46B3-9FDA-B766B4E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2A7C-8529-4B22-A60D-52CC210A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1107-920F-4083-9980-4D018295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2B19-6E77-415B-A863-789A5F9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F6-B031-443C-A66A-868A74D0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D7D4-F264-40E9-A5A3-99463E92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807F-DCFF-4675-9859-0377270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2DFE-8A22-4BAA-B44B-18E70256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C3F4B-B281-4F1E-B0B2-9521F273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526BB-8979-4CB4-A62C-B7206E7F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A8CBD-F073-46DA-BD87-D297584C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2088-8EBF-4910-8ED9-02C0E28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6C456-8C47-4D09-8B25-6B89089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D7810-896F-45F2-90F9-C904406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784DD-BC8F-451A-8FBB-01BF15A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57A-5F1F-4CB1-9D98-888B0DC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4C708-197C-4FD7-BA80-5FDFC94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40801-ECA3-4351-97A8-D83EE87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2707-44B7-4B99-85CE-E3D20E1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E42F0-508F-4A4B-AB55-E88D03E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01FF6-003B-4EF7-AB0B-4AE8D30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0A9DF-7879-432D-960F-BB0E3AD1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E08F-B5D0-415D-8E10-7F68F3F6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92685-8327-45C8-AC03-48372FD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8950-82BB-4CA1-832C-A10AD8EF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800F3-9AC0-4DE1-95CA-E914404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A6C-5048-446D-AB82-191644D38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4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AFBD-E18F-4062-BC86-A83A55D6DB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8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8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9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5AB-25A4-442E-AF98-03EFC0354C2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6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8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286-D515-40C7-B6C4-7183243A510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3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5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D9E-B745-4AD6-8D9E-8A343AE22D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5040-6037-4A26-8FB1-9B20FBD92A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393-4C35-44E9-B302-4A98A71705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946-98AB-4EC1-9063-A90DA46B73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12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12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12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12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12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3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4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4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6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DCA-2811-48A1-AF69-755FEC8C84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21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22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22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22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22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23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4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FCE-94FC-4702-9656-6D85F2D5F1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1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 type="dt" idx="5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 type="ftr" idx="5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6B8B-769D-4C71-970D-0BFF3C7512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EBD8-C570-47B8-842D-0E97F2A75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5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dt" idx="58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 type="ftr" idx="59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 type="sldNum" idx="60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934F-D82C-4F7F-9764-F833C9A8A7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838-0AB7-4A54-863C-3484EE0A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31B-6161-458F-AA29-29A65025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0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5C72-B3D5-4118-B8B3-E5EF4FE372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64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0AC-0ECC-4A42-AC3F-0FF43E9D0B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90D-D127-4811-9B28-54E2FD2AE7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6F9-375E-48C2-8B9B-CC951DD1DE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69E-8FBA-45AA-9CBA-840AEC17E6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1116000" y="476280"/>
            <a:ext cx="6840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ография 10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826920" y="2060640"/>
            <a:ext cx="7632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СШ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971640" y="549360"/>
            <a:ext cx="74898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у выполняли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611280" y="1916280"/>
            <a:ext cx="7921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родулин Константи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067280" y="2924280"/>
            <a:ext cx="64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5" name=""/>
          <p:cNvSpPr txBox="1"/>
          <p:nvPr/>
        </p:nvSpPr>
        <p:spPr>
          <a:xfrm>
            <a:off x="684360" y="378936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гизбаев Миржан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6" name="">
            <a:hlinkClick r:id="" action="ppaction://hlinkshowjump?jump=previousslide"/>
          </p:cNvPr>
          <p:cNvSpPr/>
          <p:nvPr/>
        </p:nvSpPr>
        <p:spPr>
          <a:xfrm>
            <a:off x="864072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>
            <a:hlinkClick r:id="" action="ppaction://hlinkshowjump?jump=firstslide"/>
          </p:cNvPr>
          <p:cNvSpPr/>
          <p:nvPr/>
        </p:nvSpPr>
        <p:spPr>
          <a:xfrm>
            <a:off x="810108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5" dur="2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7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826920" y="333360"/>
            <a:ext cx="741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диния о СШ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684360" y="1844640"/>
            <a:ext cx="78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Площадь территории - 9623 тыс. к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684360" y="2781360"/>
            <a:ext cx="78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Население - 300 млн.ч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55640" y="371628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Times New Roman"/>
              </a:rPr>
              <a:t>Столица - Вашинг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826920" y="4437000"/>
            <a:ext cx="77536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Times New Roman"/>
              </a:rPr>
              <a:t>Устройство - Федиративная республ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26920" y="5300640"/>
            <a:ext cx="7705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Форма правления - Президентская республ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900000" y="18900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лан Э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539640" y="1844640"/>
            <a:ext cx="784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) Насе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684360" y="2565360"/>
            <a:ext cx="770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)  Природные ресурсы СШ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684360" y="3500280"/>
            <a:ext cx="777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) Сельское хозяйство СШ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684360" y="4508640"/>
            <a:ext cx="777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) Туризм и отдых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826920" y="5300640"/>
            <a:ext cx="7632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) Макрорайоны США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2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 txBox="1"/>
          <p:nvPr/>
        </p:nvSpPr>
        <p:spPr>
          <a:xfrm>
            <a:off x="1619280" y="836640"/>
            <a:ext cx="5904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се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250920" y="2997360"/>
            <a:ext cx="7213680" cy="2323800"/>
            <a:chOff x="250920" y="2997360"/>
            <a:chExt cx="7213680" cy="2323800"/>
          </a:xfrm>
        </p:grpSpPr>
        <p:sp>
          <p:nvSpPr>
            <p:cNvPr id="1429" name=""/>
            <p:cNvSpPr txBox="1"/>
            <p:nvPr/>
          </p:nvSpPr>
          <p:spPr>
            <a:xfrm>
              <a:off x="250920" y="2997360"/>
              <a:ext cx="388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Американцы США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30" name=""/>
            <p:cNvSpPr txBox="1"/>
            <p:nvPr/>
          </p:nvSpPr>
          <p:spPr>
            <a:xfrm>
              <a:off x="2340000" y="4797360"/>
              <a:ext cx="5124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Переходные эмигранты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431" name=""/>
          <p:cNvSpPr txBox="1"/>
          <p:nvPr/>
        </p:nvSpPr>
        <p:spPr>
          <a:xfrm>
            <a:off x="5010120" y="321300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тели-абориге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2626920" y="1844640"/>
            <a:ext cx="4393080" cy="3168360"/>
            <a:chOff x="2626920" y="1844640"/>
            <a:chExt cx="4393080" cy="3168360"/>
          </a:xfrm>
        </p:grpSpPr>
        <p:sp>
          <p:nvSpPr>
            <p:cNvPr id="1433" name=""/>
            <p:cNvSpPr/>
            <p:nvPr/>
          </p:nvSpPr>
          <p:spPr>
            <a:xfrm>
              <a:off x="6084720" y="1915920"/>
              <a:ext cx="935280" cy="1224000"/>
            </a:xfrm>
            <a:prstGeom prst="line">
              <a:avLst/>
            </a:prstGeom>
            <a:ln w="57240">
              <a:solidFill>
                <a:srgbClr val="e9381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2626920" y="1844640"/>
              <a:ext cx="1945080" cy="3168360"/>
              <a:chOff x="2626920" y="1844640"/>
              <a:chExt cx="1945080" cy="3168360"/>
            </a:xfrm>
          </p:grpSpPr>
          <p:sp>
            <p:nvSpPr>
              <p:cNvPr id="1435" name=""/>
              <p:cNvSpPr/>
              <p:nvPr/>
            </p:nvSpPr>
            <p:spPr>
              <a:xfrm flipH="1">
                <a:off x="2626920" y="1915920"/>
                <a:ext cx="1297080" cy="1224000"/>
              </a:xfrm>
              <a:prstGeom prst="line">
                <a:avLst/>
              </a:prstGeom>
              <a:ln w="57240">
                <a:solidFill>
                  <a:srgbClr val="e9381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572000" y="1844640"/>
                <a:ext cx="0" cy="3168360"/>
              </a:xfrm>
              <a:prstGeom prst="line">
                <a:avLst/>
              </a:prstGeom>
              <a:ln w="57240">
                <a:solidFill>
                  <a:srgbClr val="e9381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37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971640" y="404640"/>
            <a:ext cx="76327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родные ресурсы СШ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250920" y="270828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af743"/>
                    </a:gs>
                  </a:gsLst>
                  <a:lin ang="8100000"/>
                </a:gradFill>
                <a:latin typeface="Arial"/>
              </a:rPr>
              <a:t>Нефть (3,8 млд.т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af743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3203640" y="522936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af74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 Калифорния,Техас,Аляск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eaf74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3203640" y="4581360"/>
            <a:ext cx="3240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й газ ( 4,5 трлн м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79280" y="335772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af74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 Калифорния,Техас,Аляска 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eaf743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5400720" y="285264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eaf74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голь (3,6 трлн т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eaf743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5076720" y="3429000"/>
            <a:ext cx="4067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 Кентуки,Пенсильвания)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2556000" y="1484280"/>
            <a:ext cx="1224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732720" y="1557360"/>
            <a:ext cx="7189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788000" y="1484280"/>
            <a:ext cx="0" cy="3097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 txBox="1"/>
          <p:nvPr/>
        </p:nvSpPr>
        <p:spPr>
          <a:xfrm>
            <a:off x="1835280" y="476280"/>
            <a:ext cx="54720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103"/>
                    </a:gs>
                    <a:gs pos="50000">
                      <a:srgbClr val="ffffff"/>
                    </a:gs>
                    <a:gs pos="100000">
                      <a:srgbClr val="ffe10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льское хозяйст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103"/>
                  </a:gs>
                  <a:gs pos="50000">
                    <a:srgbClr val="ffffff"/>
                  </a:gs>
                  <a:gs pos="100000">
                    <a:srgbClr val="ffe103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859280" y="2997360"/>
            <a:ext cx="3295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стенивод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755640" y="2852640"/>
            <a:ext cx="3429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тновод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2411280" y="1413000"/>
            <a:ext cx="1224000" cy="1584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580000" y="1341360"/>
            <a:ext cx="1079640" cy="1656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>
            <a:hlinkClick r:id="" action="ppaction://hlinkshowjump?jump=firstslide"/>
          </p:cNvPr>
          <p:cNvSpPr/>
          <p:nvPr/>
        </p:nvSpPr>
        <p:spPr>
          <a:xfrm>
            <a:off x="7164360" y="63532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1258920" y="404640"/>
            <a:ext cx="68421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уризм и отд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68360" y="2997360"/>
            <a:ext cx="3483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имор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3419640" y="4869000"/>
            <a:ext cx="33843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Го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5724360" y="3068640"/>
            <a:ext cx="31798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озер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250920" y="4076640"/>
            <a:ext cx="428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Флорида,Калифорния,Гаваи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492360" y="5950080"/>
            <a:ext cx="3191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Штаты Запада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5651640" y="3933720"/>
            <a:ext cx="3492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Приозерные штаты)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2555640" y="1844640"/>
            <a:ext cx="1152360" cy="1297080"/>
          </a:xfrm>
          <a:prstGeom prst="line">
            <a:avLst/>
          </a:prstGeom>
          <a:ln w="57240">
            <a:solidFill>
              <a:srgbClr val="eaf7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4858920" y="1773360"/>
            <a:ext cx="144360" cy="3311280"/>
          </a:xfrm>
          <a:prstGeom prst="line">
            <a:avLst/>
          </a:prstGeom>
          <a:ln w="57240">
            <a:solidFill>
              <a:srgbClr val="eaf7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164360" y="1989000"/>
            <a:ext cx="360360" cy="1295640"/>
          </a:xfrm>
          <a:prstGeom prst="line">
            <a:avLst/>
          </a:prstGeom>
          <a:ln w="57240">
            <a:solidFill>
              <a:srgbClr val="eaf74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"/>
                            </p:stCondLst>
                            <p:childTnLst>
                              <p:par>
                                <p:cTn id="3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77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770" fill="hold"/>
                                        <p:tgtEl>
                                          <p:spTgt spid="1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1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1979640" y="260280"/>
            <a:ext cx="511164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акрорайоны С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324000" y="321300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еверо-Вост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2987640" y="5084640"/>
            <a:ext cx="2924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редний За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5580000" y="3933720"/>
            <a:ext cx="638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г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948360" y="2349360"/>
            <a:ext cx="1105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апа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539640" y="3645000"/>
            <a:ext cx="331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Нью-Йорк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3059280" y="5805360"/>
            <a:ext cx="273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Чикаго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48360" y="4508640"/>
            <a:ext cx="1895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Даллас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010200" y="2924280"/>
            <a:ext cx="31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Лос-Анджелес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1834920" y="1484280"/>
            <a:ext cx="936360" cy="1800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156360" y="1484280"/>
            <a:ext cx="792000" cy="93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500720" y="1413000"/>
            <a:ext cx="142560" cy="3600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292720" y="1484280"/>
            <a:ext cx="503280" cy="23763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nextslide"/>
          </p:cNvPr>
          <p:cNvSpPr/>
          <p:nvPr/>
        </p:nvSpPr>
        <p:spPr>
          <a:xfrm>
            <a:off x="8675640" y="6389640"/>
            <a:ext cx="468360" cy="468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previousslide"/>
          </p:cNvPr>
          <p:cNvSpPr/>
          <p:nvPr/>
        </p:nvSpPr>
        <p:spPr>
          <a:xfrm>
            <a:off x="766764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>
            <a:hlinkClick r:id="" action="ppaction://hlinkshowjump?jump=firstslide"/>
          </p:cNvPr>
          <p:cNvSpPr/>
          <p:nvPr/>
        </p:nvSpPr>
        <p:spPr>
          <a:xfrm>
            <a:off x="7164360" y="6354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50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5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500"/>
                            </p:stCondLst>
                            <p:childTnLst>
                              <p:par>
                                <p:cTn id="4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79280" y="2276640"/>
            <a:ext cx="864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ля США в мировом ВВП-16,4%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 1 место в мире 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1" name="">
            <a:hlinkClick r:id="" action="ppaction://hlinkshowjump?jump=endshow"/>
          </p:cNvPr>
          <p:cNvSpPr/>
          <p:nvPr/>
        </p:nvSpPr>
        <p:spPr>
          <a:xfrm>
            <a:off x="8639280" y="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53Z</dcterms:created>
  <dc:creator>Преподаватель</dc:creator>
  <dc:description/>
  <dc:language>en-US</dc:language>
  <cp:lastModifiedBy>Учащийся 2</cp:lastModifiedBy>
  <dcterms:modified xsi:type="dcterms:W3CDTF">2009-01-23T06:37:34Z</dcterms:modified>
  <cp:revision>5</cp:revision>
  <dc:subject/>
  <dc:title>Слайд 1</dc:title>
</cp:coreProperties>
</file>